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Evangelis-conquest%20of%20paradise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71D-025E-4A8C-8E6A-2BF66EA149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B29F-4ED4-4FD5-AFD7-13DBA17162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D6A-E36E-406F-98BD-326EDFA513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483-FD44-40E7-B7F2-271BC0D19B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FAEC-A447-4A13-B244-6C8E56AA49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C1F-37F2-4B2E-ABEB-12BBFC1F86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E16B-D524-4F76-97F2-5832F9F0DC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CAC4-E560-4248-80F2-2C0E8DD8BB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7FB0-43E8-4FFC-BDFE-B97AB9746A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9D6D-302E-4B86-AF0F-C428C8F352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D8C7-A0F4-49C5-AC34-0A85790359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DC00-2BCA-4F76-A974-9FCCC24782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A57-49C3-4EB5-8FA5-ADEFDC2D9A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66C-5130-428A-A400-773295CBC5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21D-0063-4625-86F3-631858E6DA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013-5E34-4894-9469-2E9073A931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0D6-AC17-4CFC-A4D7-552DA2E34E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048-2AFC-43C7-B331-16A8CE18E0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961D-509C-4158-A775-FBBA754E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FB36-9FDA-4722-B7B9-AE5A144D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D88-9B31-417D-9CE3-ABA98252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207B-6E85-4B30-B5CD-A093EC96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4B0-BCB4-41DF-ABBF-0CD25CB6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7D2-72CF-4114-AE91-00C5DBB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7E5-F516-4821-914B-0C22E929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B19-888B-4D93-B3F9-70C7A69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EB9-A55F-48FE-B52F-5301F000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661C-49ED-4F33-8C88-D6AB344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54D-1052-4DBD-8835-C002169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41DC-4C22-4287-884F-5A632958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1A06-8BC3-4528-88CD-EA4EF914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DA46-C1E9-495B-875F-5754D977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CD63-40EE-4F48-A71E-0F38CD15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C50-AFFA-4077-B8A8-C98E2589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A914-1C1D-4043-B3DF-BD4DB48B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4417-E3EB-4567-A91C-E5D9EC2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568A-3D75-4025-9D22-0CDCBEE4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5CFB-1E76-44EA-B1A7-CDE9DB29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D08E-14BC-4D4D-98C9-78FD5B8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19A7-AEA9-4975-A991-9AFAE16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E769-7874-4A7C-AA13-5AA8901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6A78-9546-4DE2-AA27-175B0E1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FA9-BEB5-444A-82BB-4697A2AD32B8}" type="slidenum">
              <a:rPr b="0" lang="fr-C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40A-299A-424C-982E-CF9E61E0C1AE}" type="slidenum">
              <a:rPr b="0" lang="fr-C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angelis-conquest%20of%20paradi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atricia-Cox"/>
          <p:cNvPicPr/>
          <p:nvPr/>
        </p:nvPicPr>
        <p:blipFill>
          <a:blip r:embed="rId1"/>
          <a:stretch/>
        </p:blipFill>
        <p:spPr>
          <a:xfrm>
            <a:off x="1763640" y="836640"/>
            <a:ext cx="5904000" cy="5354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5334120" y="1219320"/>
            <a:ext cx="20574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Great Coura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Thanks !!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2171"/>
          <p:cNvPicPr/>
          <p:nvPr/>
        </p:nvPicPr>
        <p:blipFill>
          <a:blip r:embed="rId1"/>
          <a:stretch/>
        </p:blipFill>
        <p:spPr>
          <a:xfrm>
            <a:off x="971640" y="0"/>
            <a:ext cx="3384360" cy="27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mazing-facts1"/>
          <p:cNvPicPr/>
          <p:nvPr/>
        </p:nvPicPr>
        <p:blipFill>
          <a:blip r:embed="rId2"/>
          <a:stretch/>
        </p:blipFill>
        <p:spPr>
          <a:xfrm>
            <a:off x="4859280" y="0"/>
            <a:ext cx="3816360" cy="274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2" descr="l73028-1"/>
          <p:cNvPicPr/>
          <p:nvPr/>
        </p:nvPicPr>
        <p:blipFill>
          <a:blip r:embed="rId3"/>
          <a:stretch/>
        </p:blipFill>
        <p:spPr>
          <a:xfrm>
            <a:off x="4865760" y="270828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s_img_makeup_lg"/>
          <p:cNvPicPr/>
          <p:nvPr/>
        </p:nvPicPr>
        <p:blipFill>
          <a:blip r:embed="rId4"/>
          <a:stretch/>
        </p:blipFill>
        <p:spPr>
          <a:xfrm>
            <a:off x="1332000" y="2637000"/>
            <a:ext cx="2665440" cy="2585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5"/>
          <p:cNvSpPr/>
          <p:nvPr/>
        </p:nvSpPr>
        <p:spPr>
          <a:xfrm>
            <a:off x="755640" y="5373720"/>
            <a:ext cx="76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he is able to write 25 words per minute, dry her hair, put on her make-up, and wear her contact lenses at the same ease as any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7"/>
          <p:cNvSpPr/>
          <p:nvPr/>
        </p:nvSpPr>
        <p:spPr>
          <a:xfrm>
            <a:off x="1476360" y="400536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8" descr="jessica"/>
          <p:cNvPicPr/>
          <p:nvPr/>
        </p:nvPicPr>
        <p:blipFill>
          <a:blip r:embed="rId1"/>
          <a:stretch/>
        </p:blipFill>
        <p:spPr>
          <a:xfrm>
            <a:off x="1258920" y="525600"/>
            <a:ext cx="6624720" cy="4416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1527120" y="50054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Jessica, 26 years old and 1.55 meters tall, is the first lady in history to pilot a plane without ar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essica Cox3"/>
          <p:cNvPicPr/>
          <p:nvPr/>
        </p:nvPicPr>
        <p:blipFill>
          <a:blip r:embed="rId1"/>
          <a:stretch/>
        </p:blipFill>
        <p:spPr>
          <a:xfrm>
            <a:off x="1979640" y="26028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468360" y="436572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is inspiring lady and heroine for numerous persons, irradiates always joy and is proof of having a great sense of humor ; on Mother’s Day last year she flew alone by herself without anyone accompanying her, dragging a notice board saying simply : “Look Mom, without arms !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1" descr="jessica cox6"/>
          <p:cNvPicPr/>
          <p:nvPr/>
        </p:nvPicPr>
        <p:blipFill>
          <a:blip r:embed="rId1"/>
          <a:stretch/>
        </p:blipFill>
        <p:spPr>
          <a:xfrm>
            <a:off x="1979640" y="1139760"/>
            <a:ext cx="4968720" cy="3368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250920" y="45306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metimes fear starts from the lack of knowledge of the unknown. As soon as I started flying, I realized that my fear came because I knew too much about the subject 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re is a universal fear, that of the lack of confidence in yourself.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11280" y="189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at day, she registered approximately 130 hours of flight time by hersel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Jessica Cox"/>
          <p:cNvPicPr/>
          <p:nvPr/>
        </p:nvPicPr>
        <p:blipFill>
          <a:blip r:embed="rId1"/>
          <a:stretch/>
        </p:blipFill>
        <p:spPr>
          <a:xfrm>
            <a:off x="4788000" y="333360"/>
            <a:ext cx="4135320" cy="623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79280" y="54936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anks to her confidence, her preparation and ambition, Jessica has traveled a long path to become that which she is tod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50920" y="3645000"/>
            <a:ext cx="446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fte becoming an outstanding speaker (</a:t>
            </a:r>
            <a:r>
              <a:rPr b="1" lang="es-ES" sz="1200" spc="-1" strike="noStrike">
                <a:solidFill>
                  <a:srgbClr val="0000ff"/>
                </a:solidFill>
                <a:latin typeface="Tahoma"/>
              </a:rPr>
              <a:t>www.rightfooted.com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), she was also a children’s guide in the International Network of Children Amputees during the last five ye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Jessica Cox1"/>
          <p:cNvPicPr/>
          <p:nvPr/>
        </p:nvPicPr>
        <p:blipFill>
          <a:blip r:embed="rId1"/>
          <a:stretch/>
        </p:blipFill>
        <p:spPr>
          <a:xfrm>
            <a:off x="-54144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4751280" y="4940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etween laughs she says the hardest part will be a suitor asks her hand from her parents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05520" y="144792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Jessica Cox hopes to marry and have children.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103640" y="3213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I know that it will be difficult to form a family, but I know that I will be a good mother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l104035-3"/>
          <p:cNvPicPr/>
          <p:nvPr/>
        </p:nvPicPr>
        <p:blipFill>
          <a:blip r:embed="rId1"/>
          <a:stretch/>
        </p:blipFill>
        <p:spPr>
          <a:xfrm>
            <a:off x="-684360" y="0"/>
            <a:ext cx="102967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-181080" y="4005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human being must live some difficult moments in life to have emotional moments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0" y="162864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ur great fear is not so much to not be up to measure, it is that we are stronger over and above all measure”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79280" y="11592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 do not have arms but that is not what determines where I can go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0" y="5805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greater the difficulty, the greater the glory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jessica-cox"/>
          <p:cNvPicPr/>
          <p:nvPr/>
        </p:nvPicPr>
        <p:blipFill>
          <a:blip r:embed="rId1"/>
          <a:stretch/>
        </p:blipFill>
        <p:spPr>
          <a:xfrm>
            <a:off x="4375080" y="620640"/>
            <a:ext cx="4311720" cy="55450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7"/>
          <p:cNvSpPr txBox="1"/>
          <p:nvPr/>
        </p:nvSpPr>
        <p:spPr>
          <a:xfrm>
            <a:off x="-36360" y="765000"/>
            <a:ext cx="4392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nd you,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what do you lack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to touch the sky 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4"/>
          <p:cNvSpPr/>
          <p:nvPr/>
        </p:nvSpPr>
        <p:spPr>
          <a:xfrm>
            <a:off x="6524280" y="6308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11948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50920" y="305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755640" y="1052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2400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WordArt 24"/>
          <p:cNvSpPr txBox="1"/>
          <p:nvPr/>
        </p:nvSpPr>
        <p:spPr>
          <a:xfrm>
            <a:off x="755640" y="476280"/>
            <a:ext cx="748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ouching the sky without a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WordArt 26"/>
          <p:cNvSpPr txBox="1"/>
          <p:nvPr/>
        </p:nvSpPr>
        <p:spPr>
          <a:xfrm>
            <a:off x="2986200" y="5878440"/>
            <a:ext cx="28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-  Jessica   Cox  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2" name="Picture 27" descr="jessica-cox-1"/>
          <p:cNvPicPr/>
          <p:nvPr/>
        </p:nvPicPr>
        <p:blipFill>
          <a:blip r:embed="rId5"/>
          <a:stretch/>
        </p:blipFill>
        <p:spPr>
          <a:xfrm>
            <a:off x="1979640" y="1916280"/>
            <a:ext cx="511164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4643280" y="803160"/>
            <a:ext cx="4392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Jessica was born without arms as a result of a rare congenital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Like every child, she did not understand why she had no arms as did the other children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It was difficult to be different.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7" descr="jessica-cox-2"/>
          <p:cNvPicPr/>
          <p:nvPr/>
        </p:nvPicPr>
        <p:blipFill>
          <a:blip r:embed="rId1"/>
          <a:stretch/>
        </p:blipFill>
        <p:spPr>
          <a:xfrm>
            <a:off x="324000" y="622440"/>
            <a:ext cx="41544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jessica-cox-childhood-baby-03-225x300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364000" y="1484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gardless of that, she took part in different activities such as gymnastics, dansing and singing, frequently participating in large present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Jessica-Cox5"/>
          <p:cNvPicPr/>
          <p:nvPr/>
        </p:nvPicPr>
        <p:blipFill>
          <a:blip r:embed="rId1"/>
          <a:stretch/>
        </p:blipFill>
        <p:spPr>
          <a:xfrm>
            <a:off x="285840" y="476280"/>
            <a:ext cx="4430520" cy="5905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932360" y="447840"/>
            <a:ext cx="4103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When she was young she frequently felt opposed, downtrodden and on the verge of tears resulting from anger due to her lack of arms; given this, she placed all her energy in the practice of spor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or Jessica, the main challenge of being born without arms was the constant perception of others more than the physical advers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Jessica-Cox-13"/>
          <p:cNvPicPr/>
          <p:nvPr/>
        </p:nvPicPr>
        <p:blipFill>
          <a:blip r:embed="rId1"/>
          <a:stretch/>
        </p:blipFill>
        <p:spPr>
          <a:xfrm>
            <a:off x="1835280" y="18900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663480" y="4322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 had the habit of becoming very upset when people look at me walking in the street or eating with my feet.  However, I learned to look only at the positive side of situations and this gave me the ability to utilize these positive vibrations to become an example for optimis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amazing-facts"/>
          <p:cNvPicPr/>
          <p:nvPr/>
        </p:nvPicPr>
        <p:blipFill>
          <a:blip r:embed="rId1"/>
          <a:stretch/>
        </p:blipFill>
        <p:spPr>
          <a:xfrm>
            <a:off x="2197080" y="0"/>
            <a:ext cx="4606920" cy="3454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68360" y="347976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Jessica considers her parents as role models to be followed and as pillars for her. “My mother is my model and she always told me that I could do all that I wanted to do.  My father never shed a tear since my birth as he does not consider me to be a victim.  It is difficult to be the father of a handicapped person.  He was my base during the difficult moments and it was he who forged the person I am today.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l104035-2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898560" y="414972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first time I learned to drive a car, it was thanks to some modifications.  Even with that, after having learned well, I decided to remove the modifications placed in the car and now I hold a driving permit without restri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essica-cox-pumping-gas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4817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93720" y="520848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Holder of a degree in Psychology from the University of Arizona, she always attracts attention when she fills her car with ga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5:09:53Z</dcterms:created>
  <dc:creator>Paul Adib Shammas</dc:creator>
  <dc:description/>
  <dc:language>en-US</dc:language>
  <cp:lastModifiedBy>Paul Adib Shammas</cp:lastModifiedBy>
  <dcterms:modified xsi:type="dcterms:W3CDTF">2010-03-04T15:12:13Z</dcterms:modified>
  <cp:revision>1</cp:revision>
  <dc:subject>avion </dc:subject>
  <dc:title>Slide 1</dc:title>
</cp:coreProperties>
</file>