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Evangelis-conquest%20of%20paradise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71DB-AB37-4A32-A4D4-6C03FAA59F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0574-E08D-4E69-9D3C-F261E66306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27F6-660F-43D3-A5B1-7EE5541E0E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7CB9-4403-4C80-89E8-92C40E8FB9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1EE8-0592-42EA-8251-BDAD977105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EB27-AB3D-4EEF-A5F9-DFE6F81DF0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8D55-FA33-4087-A425-6FA7E8FDC6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637D-24B4-4CC8-B082-5A3BE5A89F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92D-1F74-4E6F-BFB5-4EE79E8EB5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F2AD-B5A5-4101-B61E-830EAA071A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FCC3-A83E-4AA6-A67A-55EEF6679C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CCA-F2BF-45C3-8A26-A7CDDFD2AE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F38D-C5E9-4E60-AA2E-517F3CFF15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A3E0-6E83-490C-86D8-17D8EECA12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1AC6-1F79-4DAD-A3CC-07EA4B0E97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9E29-6356-4BF0-A056-3E26BBF497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CCD4-33D3-4671-A714-E31ACC465D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A14-51B4-4D1D-9918-129748B098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053D-ABB4-487A-AD72-973DD40B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8327-8F14-4B5D-A245-0285F739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8572-7AEE-4825-BF1B-DEDDE7DF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8B43-9E93-4BB0-9849-A59ECEFA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C010-333C-4262-B712-DC139C94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635-8CD3-4493-98E4-FFD7806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0351-E302-4718-AD0D-37B927CE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8E61-7702-499C-BCEA-F1EE6CB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7915-BDED-4576-A7AA-8A2F6B1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F50B-52F7-4101-9111-071D281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A8C0-5210-4663-A9F9-EDDD054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F582-0160-46DD-AB89-E399A39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226-E36C-45E2-B9E8-043AE51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91D6-79B0-4087-86C2-D4591697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1B6-6E9C-4A9C-9260-C2B4B6A5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CB01-E5B0-40F0-941B-26360656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6F0F-7FDB-4041-901E-1915F532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F0E39-2A4F-400D-BC77-B4C148E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032E-BA80-479C-BC09-CAF9459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52A6-F000-4E59-B355-A0AEC79D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83C7-F896-4967-B4F8-A21493D9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5226-4EF7-4690-933C-4044BC5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0400-7749-4349-9EE1-792A70F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866A-55A5-4777-AE89-EF367F6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97DE-559B-4833-AFC0-C7B4512FA86B}" type="slidenum">
              <a:rPr b="0" lang="fr-C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6B8F-193E-4C11-BCD3-B671C210421D}" type="slidenum">
              <a:rPr b="0" lang="fr-C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angelis-conquest%20of%20paradi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atricia-Cox"/>
          <p:cNvPicPr/>
          <p:nvPr/>
        </p:nvPicPr>
        <p:blipFill>
          <a:blip r:embed="rId1"/>
          <a:stretch/>
        </p:blipFill>
        <p:spPr>
          <a:xfrm>
            <a:off x="1763640" y="836640"/>
            <a:ext cx="5904000" cy="53546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5334120" y="1219320"/>
            <a:ext cx="20574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Great Coura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Thanks !!!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2171"/>
          <p:cNvPicPr/>
          <p:nvPr/>
        </p:nvPicPr>
        <p:blipFill>
          <a:blip r:embed="rId1"/>
          <a:stretch/>
        </p:blipFill>
        <p:spPr>
          <a:xfrm>
            <a:off x="971640" y="0"/>
            <a:ext cx="3384360" cy="27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mazing-facts1"/>
          <p:cNvPicPr/>
          <p:nvPr/>
        </p:nvPicPr>
        <p:blipFill>
          <a:blip r:embed="rId2"/>
          <a:stretch/>
        </p:blipFill>
        <p:spPr>
          <a:xfrm>
            <a:off x="4859280" y="0"/>
            <a:ext cx="3816360" cy="274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2" descr="l73028-1"/>
          <p:cNvPicPr/>
          <p:nvPr/>
        </p:nvPicPr>
        <p:blipFill>
          <a:blip r:embed="rId3"/>
          <a:stretch/>
        </p:blipFill>
        <p:spPr>
          <a:xfrm>
            <a:off x="4865760" y="270828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s_img_makeup_lg"/>
          <p:cNvPicPr/>
          <p:nvPr/>
        </p:nvPicPr>
        <p:blipFill>
          <a:blip r:embed="rId4"/>
          <a:stretch/>
        </p:blipFill>
        <p:spPr>
          <a:xfrm>
            <a:off x="1332000" y="2637000"/>
            <a:ext cx="2665440" cy="2585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5"/>
          <p:cNvSpPr/>
          <p:nvPr/>
        </p:nvSpPr>
        <p:spPr>
          <a:xfrm>
            <a:off x="755640" y="5373720"/>
            <a:ext cx="76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he is able to write 25 words per minute, dry her hair, put on her make-up, and wear her contact lenses at the same ease as any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7"/>
          <p:cNvSpPr/>
          <p:nvPr/>
        </p:nvSpPr>
        <p:spPr>
          <a:xfrm>
            <a:off x="1476360" y="400536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8" descr="jessica"/>
          <p:cNvPicPr/>
          <p:nvPr/>
        </p:nvPicPr>
        <p:blipFill>
          <a:blip r:embed="rId1"/>
          <a:stretch/>
        </p:blipFill>
        <p:spPr>
          <a:xfrm>
            <a:off x="1258920" y="525600"/>
            <a:ext cx="6624720" cy="4416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1527120" y="50054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Jessica, 26 years old and 1.55 meters tall, is the first lady in history to pilot a plane without ar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essica Cox3"/>
          <p:cNvPicPr/>
          <p:nvPr/>
        </p:nvPicPr>
        <p:blipFill>
          <a:blip r:embed="rId1"/>
          <a:stretch/>
        </p:blipFill>
        <p:spPr>
          <a:xfrm>
            <a:off x="1979640" y="26028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468360" y="436572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is inspiring lady and heroine for numerous persons, irradiates always joy and is proof of having a great sense of humor ; on Mother’s Day last year she flew alone by herself without anyone accompanying her, dragging a notice board saying simply : “Look Mom, without arms !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1" descr="jessica cox6"/>
          <p:cNvPicPr/>
          <p:nvPr/>
        </p:nvPicPr>
        <p:blipFill>
          <a:blip r:embed="rId1"/>
          <a:stretch/>
        </p:blipFill>
        <p:spPr>
          <a:xfrm>
            <a:off x="1979640" y="1139760"/>
            <a:ext cx="4968720" cy="33688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250920" y="45306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ometimes fear starts from the lack of knowledge of the unknown. As soon as I started flying, I realized that my fear came because I knew too much about the subject 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re is a universal fear, that of the lack of confidence in yourself."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611280" y="189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at day, she registered approximately 130 hours of flight time by hersel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Jessica Cox"/>
          <p:cNvPicPr/>
          <p:nvPr/>
        </p:nvPicPr>
        <p:blipFill>
          <a:blip r:embed="rId1"/>
          <a:stretch/>
        </p:blipFill>
        <p:spPr>
          <a:xfrm>
            <a:off x="4788000" y="333360"/>
            <a:ext cx="4135320" cy="623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79280" y="549360"/>
            <a:ext cx="42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anks to her confidence, her preparation and ambition, Jessica has traveled a long path to become that which she is tod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50920" y="3645000"/>
            <a:ext cx="446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fte becoming an outstanding speaker (</a:t>
            </a:r>
            <a:r>
              <a:rPr b="1" lang="es-ES" sz="1200" spc="-1" strike="noStrike">
                <a:solidFill>
                  <a:srgbClr val="0000ff"/>
                </a:solidFill>
                <a:latin typeface="Tahoma"/>
              </a:rPr>
              <a:t>www.rightfooted.com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), she was also a children’s guide in the International Network of Children Amputees during the last five year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Jessica Cox1"/>
          <p:cNvPicPr/>
          <p:nvPr/>
        </p:nvPicPr>
        <p:blipFill>
          <a:blip r:embed="rId1"/>
          <a:stretch/>
        </p:blipFill>
        <p:spPr>
          <a:xfrm>
            <a:off x="-54144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4751280" y="49402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etween laughs she says the hardest part will be a suitor asks her hand from her parents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105520" y="144792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Jessica Cox hopes to marry and have children.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103640" y="3213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I know that it will be difficult to form a family, but I know that I will be a good mother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l104035-3"/>
          <p:cNvPicPr/>
          <p:nvPr/>
        </p:nvPicPr>
        <p:blipFill>
          <a:blip r:embed="rId1"/>
          <a:stretch/>
        </p:blipFill>
        <p:spPr>
          <a:xfrm>
            <a:off x="-684360" y="0"/>
            <a:ext cx="1029672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-181080" y="4005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 human being must live some difficult moments in life to have emotional moments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0" y="162864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ur great fear is not so much to not be up to measure, it is that we are stronger over and above all measure”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79280" y="11592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 do not have arms but that is not what determines where I can go"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0" y="5805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 greater the difficulty, the greater the glory.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jessica-cox"/>
          <p:cNvPicPr/>
          <p:nvPr/>
        </p:nvPicPr>
        <p:blipFill>
          <a:blip r:embed="rId1"/>
          <a:stretch/>
        </p:blipFill>
        <p:spPr>
          <a:xfrm>
            <a:off x="4375080" y="620640"/>
            <a:ext cx="4311720" cy="55450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7"/>
          <p:cNvSpPr txBox="1"/>
          <p:nvPr/>
        </p:nvSpPr>
        <p:spPr>
          <a:xfrm>
            <a:off x="-36360" y="765000"/>
            <a:ext cx="4392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nd you,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what do you lack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to touch the sky 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4"/>
          <p:cNvSpPr/>
          <p:nvPr/>
        </p:nvSpPr>
        <p:spPr>
          <a:xfrm>
            <a:off x="6524280" y="6308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411948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50920" y="305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755640" y="1052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24000" y="6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WordArt 24"/>
          <p:cNvSpPr txBox="1"/>
          <p:nvPr/>
        </p:nvSpPr>
        <p:spPr>
          <a:xfrm>
            <a:off x="755640" y="476280"/>
            <a:ext cx="748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ouching the sky without a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WordArt 26"/>
          <p:cNvSpPr txBox="1"/>
          <p:nvPr/>
        </p:nvSpPr>
        <p:spPr>
          <a:xfrm>
            <a:off x="2986200" y="5878440"/>
            <a:ext cx="28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-  Jessica   Cox  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2" name="Picture 27" descr="jessica-cox-1"/>
          <p:cNvPicPr/>
          <p:nvPr/>
        </p:nvPicPr>
        <p:blipFill>
          <a:blip r:embed="rId5"/>
          <a:stretch/>
        </p:blipFill>
        <p:spPr>
          <a:xfrm>
            <a:off x="1979640" y="1916280"/>
            <a:ext cx="511164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4643280" y="803160"/>
            <a:ext cx="4392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Jessica was born without arms as a result of a rare congenital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Like every child, she did not understand why she had no arms as did the other children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It was difficult to be different.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7" descr="jessica-cox-2"/>
          <p:cNvPicPr/>
          <p:nvPr/>
        </p:nvPicPr>
        <p:blipFill>
          <a:blip r:embed="rId1"/>
          <a:stretch/>
        </p:blipFill>
        <p:spPr>
          <a:xfrm>
            <a:off x="324000" y="622440"/>
            <a:ext cx="415440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jessica-cox-childhood-baby-03-225x300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364000" y="1484280"/>
            <a:ext cx="36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gardless of that, she took part in different activities such as gymnastics, dansing and singing, frequently participating in large present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Jessica-Cox5"/>
          <p:cNvPicPr/>
          <p:nvPr/>
        </p:nvPicPr>
        <p:blipFill>
          <a:blip r:embed="rId1"/>
          <a:stretch/>
        </p:blipFill>
        <p:spPr>
          <a:xfrm>
            <a:off x="285840" y="476280"/>
            <a:ext cx="4430520" cy="5905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932360" y="447840"/>
            <a:ext cx="4103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When she was young she frequently felt opposed, downtrodden and on the verge of tears resulting from anger due to her lack of arms; given this, she placed all her energy in the practice of sport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or Jessica, the main challenge of being born without arms was the constant perception of others more than the physical advers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Jessica-Cox-13"/>
          <p:cNvPicPr/>
          <p:nvPr/>
        </p:nvPicPr>
        <p:blipFill>
          <a:blip r:embed="rId1"/>
          <a:stretch/>
        </p:blipFill>
        <p:spPr>
          <a:xfrm>
            <a:off x="1835280" y="18900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663480" y="4322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 had the habit of becoming very upset when people look at me walking in the street or eating with my feet.  However, I learned to look only at the positive side of situations and this gave me the ability to utilize these positive vibrations to become an example for optimism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amazing-facts"/>
          <p:cNvPicPr/>
          <p:nvPr/>
        </p:nvPicPr>
        <p:blipFill>
          <a:blip r:embed="rId1"/>
          <a:stretch/>
        </p:blipFill>
        <p:spPr>
          <a:xfrm>
            <a:off x="2197080" y="0"/>
            <a:ext cx="4606920" cy="3454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68360" y="347976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Jessica considers her parents as role models to be followed and as pillars for her. “My mother is my model and she always told me that I could do all that I wanted to do.  My father never shed a tear since my birth as he does not consider me to be a victim.  It is difficult to be the father of a handicapped person.  He was my base during the difficult moments and it was he who forged the person I am today."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l104035-2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898560" y="414972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he first time I learned to drive a car, it was thanks to some modifications.  Even with that, after having learned well, I decided to remove the modifications placed in the car and now I hold a driving permit without restric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essica-cox-pumping-gas"/>
          <p:cNvPicPr/>
          <p:nvPr/>
        </p:nvPicPr>
        <p:blipFill>
          <a:blip r:embed="rId1"/>
          <a:stretch/>
        </p:blipFill>
        <p:spPr>
          <a:xfrm>
            <a:off x="1403280" y="189000"/>
            <a:ext cx="6193080" cy="4817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93720" y="520848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Holder of a degree in Psychology from the University of Arizona, she always attracts attention when she fills her car with ga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5:09:53Z</dcterms:created>
  <dc:creator>Paul Adib Shammas</dc:creator>
  <dc:description/>
  <dc:language>en-US</dc:language>
  <cp:lastModifiedBy>Paul Adib Shammas</cp:lastModifiedBy>
  <dcterms:modified xsi:type="dcterms:W3CDTF">2010-03-04T15:12:13Z</dcterms:modified>
  <cp:revision>1</cp:revision>
  <dc:subject>avion </dc:subject>
  <dc:title>Slide 1</dc:title>
</cp:coreProperties>
</file>