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have-yourself-a-merry-little-christmas-carpenters.wav" ContentType="audio/x-wav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4.gif" ContentType="image/gif"/>
  <Override PartName="/ppt/media/image23.jpeg" ContentType="image/jpeg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3.gif" ContentType="image/gif"/>
  <Override PartName="/ppt/media/image26.gif" ContentType="image/gif"/>
  <Override PartName="/ppt/media/image19.gif" ContentType="image/gif"/>
  <Override PartName="/ppt/media/image16.jpeg" ContentType="image/jpeg"/>
  <Override PartName="/ppt/media/image13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E8B-397B-4C5A-992F-7324DA55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CAC-F756-4206-BFD8-B6578F58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6A4-370F-4F9A-9E67-681868A2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86-C899-49E3-B17E-9AA54B23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741-9568-403B-B2DE-D60181A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3D7-2689-43C3-9867-BA6552E4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A34-CE02-4277-A1CE-026C2B7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F63-F14B-47FA-B417-3EE2FD3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7D7-D634-4533-A254-E768B1F4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1AD-F15B-4DD6-8A84-395A2FB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309-FD67-4AC0-AE41-3774E7E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041-0666-4EA9-971D-F05D1DC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DA0-1A11-459F-BEDD-8C5607CFC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5.gif"/><Relationship Id="rId57" Type="http://schemas.openxmlformats.org/officeDocument/2006/relationships/image" Target="../media/image6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audio" Target="../media/have-yourself-a-merry-little-christmas-carpenters.wav"/><Relationship Id="rId6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24.gif"/><Relationship Id="rId18" Type="http://schemas.openxmlformats.org/officeDocument/2006/relationships/image" Target="../media/image3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5.gif"/><Relationship Id="rId49" Type="http://schemas.openxmlformats.org/officeDocument/2006/relationships/image" Target="../media/image6.gif"/><Relationship Id="rId50" Type="http://schemas.openxmlformats.org/officeDocument/2006/relationships/image" Target="../media/image26.gif"/><Relationship Id="rId51" Type="http://schemas.openxmlformats.org/officeDocument/2006/relationships/image" Target="../media/image2.gif"/><Relationship Id="rId5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9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5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780400">
            <a:off x="2895120" y="4495680"/>
            <a:ext cx="666720" cy="22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86400" y="22860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039000" y="35830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05120" y="6094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029200" y="2057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67080" y="8380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399800">
            <a:off x="3200040" y="7621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800760" y="434484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743200" y="6094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618000">
            <a:off x="7105680" y="4649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482000">
            <a:off x="7391160" y="49528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21103200">
            <a:off x="3657600" y="837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895480" y="36576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3429000" y="4419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1261800">
            <a:off x="7695720" y="5257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rot="391800">
            <a:off x="1218960" y="464796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68580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rot="435000">
            <a:off x="205704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rot="1399800">
            <a:off x="8457840" y="56386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 rot="871800">
            <a:off x="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4038480" y="4191120"/>
            <a:ext cx="514440" cy="25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6934320" y="2209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505320" y="11430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609480" y="762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914400" y="1522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086600" y="3048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2286000" y="38098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6934320" y="1676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33520" y="16002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34290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838080" y="3049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2819520" y="28954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7391520" y="3808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73152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7391520" y="3048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7391520" y="19810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553080" y="2590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6019920" y="24382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5867280" y="3657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62485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6324480" y="1523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7772400" y="2286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7772400" y="1371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7086600" y="228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6858000" y="35053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7772400" y="3048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8001000" y="3429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3"/>
          <a:stretch/>
        </p:blipFill>
        <p:spPr>
          <a:xfrm>
            <a:off x="6095880" y="42670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4"/>
          <a:stretch/>
        </p:blipFill>
        <p:spPr>
          <a:xfrm>
            <a:off x="731520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5"/>
          <a:stretch/>
        </p:blipFill>
        <p:spPr>
          <a:xfrm>
            <a:off x="6705720" y="3809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6"/>
          <a:stretch/>
        </p:blipFill>
        <p:spPr>
          <a:xfrm>
            <a:off x="4648320" y="2286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7"/>
          <a:stretch/>
        </p:blipFill>
        <p:spPr>
          <a:xfrm>
            <a:off x="2819520" y="3733920"/>
            <a:ext cx="598320" cy="70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35760"/>
            <a:ext cx="8991720" cy="825480"/>
          </a:xfrm>
          <a:prstGeom prst="rect">
            <a:avLst/>
          </a:prstGeom>
          <a:solidFill>
            <a:srgbClr val="99cc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mic Sans MS"/>
              </a:rPr>
              <a:t>Remember… throughout the year, be thankful for what you hav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8001000" y="1905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5715000" y="4495680"/>
            <a:ext cx="123840" cy="2095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random/>
    <p:sndAc>
      <p:stSnd>
        <p:snd r:embed="rId60" name="have-yourself-a-merry-little-christmas-carpent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7086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971800"/>
            <a:ext cx="7543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66672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27840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are wished a Merry Christ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666720" cy="505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943600" y="5334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191120" y="2514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733920" y="40384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752480" y="4952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2971800" y="2057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1337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733920" y="5486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327672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3200400" y="297180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981080" y="487692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3657600" y="12952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6"/>
          <a:stretch/>
        </p:blipFill>
        <p:spPr>
          <a:xfrm>
            <a:off x="525780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3276720" y="762120"/>
            <a:ext cx="304560" cy="244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4114800" y="42670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2362320" y="53341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0"/>
          <a:stretch/>
        </p:blipFill>
        <p:spPr>
          <a:xfrm>
            <a:off x="2743200" y="23623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1"/>
          <a:stretch/>
        </p:blipFill>
        <p:spPr>
          <a:xfrm>
            <a:off x="5029200" y="57150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2"/>
          <a:stretch/>
        </p:blipFill>
        <p:spPr>
          <a:xfrm>
            <a:off x="2971800" y="4724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3"/>
          <a:stretch/>
        </p:blipFill>
        <p:spPr>
          <a:xfrm>
            <a:off x="3581280" y="3352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4"/>
          <a:stretch/>
        </p:blipFill>
        <p:spPr>
          <a:xfrm>
            <a:off x="3276720" y="1295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5"/>
          <a:stretch/>
        </p:blipFill>
        <p:spPr>
          <a:xfrm rot="391800">
            <a:off x="3047760" y="4266720"/>
            <a:ext cx="51408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371600" y="48769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010280" y="32274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06668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7467480" y="3684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52280" y="50292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7924680" y="4141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8077320" y="4294080"/>
            <a:ext cx="533160" cy="181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8229600" y="44467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600200" y="5943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609480" y="6324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8305920" y="3733920"/>
            <a:ext cx="533160" cy="18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7848720" y="3886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7621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15238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304920" y="60199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7696080" y="3124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8001000" y="3200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83808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8077320" y="49528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534520" y="3505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/>
          <a:stretch/>
        </p:blipFill>
        <p:spPr>
          <a:xfrm>
            <a:off x="807732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838080" y="5791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8305920" y="47242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81532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182880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83059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38088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3"/>
          <a:stretch/>
        </p:blipFill>
        <p:spPr>
          <a:xfrm>
            <a:off x="144792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4"/>
          <a:stretch/>
        </p:blipFill>
        <p:spPr>
          <a:xfrm>
            <a:off x="8610480" y="5410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5"/>
          <a:stretch/>
        </p:blipFill>
        <p:spPr>
          <a:xfrm>
            <a:off x="8001000" y="3657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6"/>
          <a:stretch/>
        </p:blipFill>
        <p:spPr>
          <a:xfrm>
            <a:off x="380880" y="4495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7"/>
          <a:stretch/>
        </p:blipFill>
        <p:spPr>
          <a:xfrm>
            <a:off x="2514600" y="3733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8"/>
          <a:stretch/>
        </p:blipFill>
        <p:spPr>
          <a:xfrm>
            <a:off x="6934320" y="2819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9"/>
          <a:stretch/>
        </p:blipFill>
        <p:spPr>
          <a:xfrm>
            <a:off x="6934320" y="33526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0"/>
          <a:stretch/>
        </p:blipFill>
        <p:spPr>
          <a:xfrm>
            <a:off x="990720" y="5791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1"/>
          <a:stretch/>
        </p:blipFill>
        <p:spPr>
          <a:xfrm>
            <a:off x="1600200" y="4191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2"/>
          <a:stretch/>
        </p:blipFill>
        <p:spPr>
          <a:xfrm>
            <a:off x="7543800" y="4724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3"/>
          <a:stretch/>
        </p:blipFill>
        <p:spPr>
          <a:xfrm>
            <a:off x="838080" y="3809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4"/>
          <a:stretch/>
        </p:blipFill>
        <p:spPr>
          <a:xfrm>
            <a:off x="1752480" y="4952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5"/>
          <a:stretch/>
        </p:blipFill>
        <p:spPr>
          <a:xfrm>
            <a:off x="2286000" y="6095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6"/>
          <a:stretch/>
        </p:blipFill>
        <p:spPr>
          <a:xfrm>
            <a:off x="1981080" y="5486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7"/>
          <a:stretch/>
        </p:blipFill>
        <p:spPr>
          <a:xfrm>
            <a:off x="7620120" y="4114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8"/>
          <a:stretch/>
        </p:blipFill>
        <p:spPr>
          <a:xfrm>
            <a:off x="5181480" y="26668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9"/>
          <a:stretch/>
        </p:blipFill>
        <p:spPr>
          <a:xfrm>
            <a:off x="6019920" y="6019920"/>
            <a:ext cx="403200" cy="473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0"/>
          <a:stretch/>
        </p:blipFill>
        <p:spPr>
          <a:xfrm>
            <a:off x="2743200" y="3657600"/>
            <a:ext cx="3124080" cy="152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36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… throughout the year, be thankful for what you have been blessed wit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36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1"/>
          <a:stretch/>
        </p:blipFill>
        <p:spPr>
          <a:xfrm rot="391800">
            <a:off x="1752120" y="57146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71000" y="2057400"/>
            <a:ext cx="644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207600">
            <a:off x="3124080" y="4114440"/>
            <a:ext cx="990720" cy="12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179200">
            <a:off x="5409720" y="35049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2293800">
            <a:off x="5866920" y="38862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2179200">
            <a:off x="4800240" y="297144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 rot="2179200">
            <a:off x="5105160" y="32763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52280" y="5257800"/>
            <a:ext cx="1008360" cy="136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4800600" y="29718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 rot="18981600">
            <a:off x="4495320" y="3048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 rot="19061400">
            <a:off x="4267080" y="3352320"/>
            <a:ext cx="457200" cy="123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 rot="326400">
            <a:off x="6400800" y="41148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 rot="391800">
            <a:off x="6400440" y="41144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920" y="5410080"/>
            <a:ext cx="855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438280"/>
            <a:ext cx="5715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91320" y="198108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352680" y="68580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238880" y="609588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505320" y="38862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458200" y="4572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3716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2057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914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1600200" y="38862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533520" y="3886200"/>
            <a:ext cx="228600" cy="21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858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16002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152280" y="44197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304920"/>
            <a:ext cx="662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3286080" cy="40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67200" y="1828800"/>
            <a:ext cx="4276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68112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86600" y="76212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362320" y="31240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9680" y="5715000"/>
            <a:ext cx="835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0"/>
            <a:ext cx="62485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458200" y="17524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47920" y="3352680"/>
            <a:ext cx="5867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66294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086600" y="3886200"/>
            <a:ext cx="723960" cy="809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0240" y="1752480"/>
            <a:ext cx="7579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280"/>
            <a:ext cx="563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1175400">
            <a:off x="2057040" y="3886200"/>
            <a:ext cx="757080" cy="29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21136200">
            <a:off x="6933960" y="3413160"/>
            <a:ext cx="838080" cy="103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696080" y="4648320"/>
            <a:ext cx="47628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7391520" y="3352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7391520" y="3962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2590920" y="4114800"/>
            <a:ext cx="179280" cy="5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2133720" y="4191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1268280" y="3962520"/>
            <a:ext cx="292320" cy="86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2590920" y="46483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2057400" y="46483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391800">
            <a:off x="5333760" y="42667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391800">
            <a:off x="4572000" y="4419360"/>
            <a:ext cx="457200" cy="155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1240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,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1522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981000" cy="104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238880" y="29671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81080" y="3200400"/>
            <a:ext cx="6782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28600"/>
            <a:ext cx="5943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400000">
            <a:off x="4542840" y="490500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 rot="5148600">
            <a:off x="4490640" y="3890520"/>
            <a:ext cx="49536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867280" y="22860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 rot="391800">
            <a:off x="4572000" y="4571640"/>
            <a:ext cx="514440" cy="152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Melody Olaker</dc:creator>
  <dc:description/>
  <dc:language>en-US</dc:language>
  <cp:lastModifiedBy>Melody Olaker</cp:lastModifiedBy>
  <dcterms:modified xsi:type="dcterms:W3CDTF">2006-11-27T04:35:36Z</dcterms:modified>
  <cp:revision>19</cp:revision>
  <dc:subject/>
  <dc:title>ChristmasBlessings</dc:title>
</cp:coreProperties>
</file>