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E01-A36F-440D-9137-FBD6FEDC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9E2-93B7-4269-B6E0-A1BA7BF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39C-1168-4BB7-98C4-2BD2CB49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DA1-0B9C-4512-B01C-1DDAD9FC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853-3582-4010-AF85-B39DB4F6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81B-3495-4DCB-99DC-656F64D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7EB-E2D8-4AE3-B9CB-4A6E92D2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ADA-6242-46EE-B6B0-725F1386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2DA-D658-4914-8157-468CDF80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DE2-1444-4AA8-B23F-9F396773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BF4-910F-49E7-B986-ACA3CCB5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896-0AA2-413F-A9E9-6965638B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DF5C-F9EB-4EB8-A97A-5AF7D0C493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 Groups</a:t>
            </a: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 </a:t>
            </a:r>
            <a:br>
              <a:rPr sz="4000"/>
            </a:br>
            <a:r>
              <a:rPr b="0" i="1" lang="en-US" sz="2400" spc="-1" strike="noStrike">
                <a:solidFill>
                  <a:srgbClr val="b7e7ff"/>
                </a:solidFill>
                <a:latin typeface="Arial"/>
              </a:rPr>
              <a:t>plus:</a:t>
            </a:r>
            <a:br>
              <a:rPr sz="2400"/>
            </a:br>
            <a:r>
              <a:rPr b="1" i="1" lang="en-US" sz="4400" spc="-1" strike="noStrike">
                <a:solidFill>
                  <a:srgbClr val="b7e7ff"/>
                </a:solidFill>
                <a:latin typeface="Times New Roman"/>
              </a:rPr>
              <a:t>USS New York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Please use your mouse, down key, space bar or enter key to adv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08-Track 8.wma" descr=""/>
          <p:cNvPicPr/>
          <p:nvPr/>
        </p:nvPicPr>
        <p:blipFill>
          <a:blip r:embed="rId1"/>
          <a:stretch/>
        </p:blipFill>
        <p:spPr>
          <a:xfrm>
            <a:off x="982980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image007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image006"/>
          <p:cNvPicPr/>
          <p:nvPr/>
        </p:nvPicPr>
        <p:blipFill>
          <a:blip r:embed="rId1"/>
          <a:stretch/>
        </p:blipFill>
        <p:spPr>
          <a:xfrm>
            <a:off x="16765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e even had Air Force planes fly-over, with a B-2 Stealth Bomber.  The only warships not seen in the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photos are the 4 nuclear powered submarines standing 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image009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image008"/>
          <p:cNvPicPr/>
          <p:nvPr/>
        </p:nvPicPr>
        <p:blipFill>
          <a:blip r:embed="rId1"/>
          <a:stretch/>
        </p:blipFill>
        <p:spPr>
          <a:xfrm>
            <a:off x="304920" y="531720"/>
            <a:ext cx="84582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image010"/>
          <p:cNvPicPr/>
          <p:nvPr/>
        </p:nvPicPr>
        <p:blipFill>
          <a:blip r:embed="rId1"/>
          <a:stretch/>
        </p:blipFill>
        <p:spPr>
          <a:xfrm>
            <a:off x="304920" y="581040"/>
            <a:ext cx="85341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image011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7e7ff"/>
                </a:solidFill>
                <a:latin typeface="Times New Roman"/>
              </a:rPr>
              <a:t>AND NOW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GREAT NEW PHOTOS!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Here SHE is! </a:t>
            </a:r>
            <a:r>
              <a:rPr b="1" lang="en-US" sz="5400" spc="-1" strike="noStrike">
                <a:solidFill>
                  <a:srgbClr val="b7e7ff"/>
                </a:solidFill>
                <a:latin typeface="Times New Roman"/>
              </a:rPr>
              <a:t>  </a:t>
            </a:r>
            <a:br>
              <a:rPr sz="5400"/>
            </a:b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Notice the twin towers on top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4" descr="image012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ose of you who were in the service or like boats, ships and planes will appreciate this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s and the new fighter jet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e specs are awesome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alk about whip lash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4" descr="image013"/>
          <p:cNvPicPr/>
          <p:nvPr/>
        </p:nvPicPr>
        <p:blipFill>
          <a:blip r:embed="rId1"/>
          <a:stretch/>
        </p:blipFill>
        <p:spPr>
          <a:xfrm>
            <a:off x="380880" y="115920"/>
            <a:ext cx="8382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image016"/>
          <p:cNvPicPr/>
          <p:nvPr/>
        </p:nvPicPr>
        <p:blipFill>
          <a:blip r:embed="rId1"/>
          <a:stretch/>
        </p:blipFill>
        <p:spPr>
          <a:xfrm>
            <a:off x="304920" y="40968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SHE IS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the USS New York,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made from the  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orld Trade Cen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8" descr="image015"/>
          <p:cNvPicPr/>
          <p:nvPr/>
        </p:nvPicPr>
        <p:blipFill>
          <a:blip r:embed="rId1"/>
          <a:stretch/>
        </p:blipFill>
        <p:spPr>
          <a:xfrm>
            <a:off x="304920" y="285840"/>
            <a:ext cx="84582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USS New York...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was built with 24 tons of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crap steel from the  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World Trade Center .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is the fifth in a new class of warship -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esigned for missions that include special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operations against terrorists. It will carr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 crew of 360 sailors and 700 combat-read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Marines to be delivered ashore by helicopters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nd assault craft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 from the World Trade Center was melted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own in a foundry in Amite , LA to cast the ship's bow section. When it was poured into the molds on Sept 9, 2003, 'those big rough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workers treated it with total reverence,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recalled Navy Capt. Kevin Wensing, who was there.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was a spiritual moment for everybody there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Junior Chavers, foundry operations manager,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aid that when the trade center steel first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rrived, he touched it with his hand and th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hair on my neck stood up.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had a big meaning to it for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ll of us,' he said. 'They knocked us down.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y can't keep us down. We're going to b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back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 ship's motto?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Never Forget'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image014"/>
          <p:cNvPicPr/>
          <p:nvPr/>
        </p:nvPicPr>
        <p:blipFill>
          <a:blip r:embed="rId1"/>
          <a:stretch/>
        </p:blipFill>
        <p:spPr>
          <a:xfrm>
            <a:off x="304920" y="214200"/>
            <a:ext cx="85341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b7e7ff"/>
                </a:solidFill>
                <a:latin typeface="Arial"/>
              </a:rPr>
              <a:t>Please keep this going so everyone can see what we are made of in this country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image001"/>
          <p:cNvPicPr/>
          <p:nvPr/>
        </p:nvPicPr>
        <p:blipFill>
          <a:blip r:embed="rId1"/>
          <a:stretch/>
        </p:blipFill>
        <p:spPr>
          <a:xfrm>
            <a:off x="685800" y="600120"/>
            <a:ext cx="76960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he plane in these pictures is still officially the 'Air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Vehicle Number 1', a prototype, on boar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USS George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VN-73 for catapult fit checks.  Not exactly still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op Secret but certainly not yet made public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It will be known as the F/A-37.  Although specs are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lassified, it is believed to be Mach 3.5 (top speed in the Mach 4 range) super-cruise stealth fighter/bomber/interceptor with approximately a 4,000nm range.  Awesome!</a:t>
            </a:r>
            <a:r>
              <a:rPr b="0" lang="en-US" sz="28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8" descr="image003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4" descr="image005"/>
          <p:cNvPicPr/>
          <p:nvPr/>
        </p:nvPicPr>
        <p:blipFill>
          <a:blip r:embed="rId1"/>
          <a:stretch/>
        </p:blipFill>
        <p:spPr>
          <a:xfrm>
            <a:off x="304920" y="480960"/>
            <a:ext cx="84582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Check out the Navy test pilot in the cockpit of the F/A-37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LT Kara Wad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image004"/>
          <p:cNvPicPr/>
          <p:nvPr/>
        </p:nvPicPr>
        <p:blipFill>
          <a:blip r:embed="rId1"/>
          <a:stretch/>
        </p:blipFill>
        <p:spPr>
          <a:xfrm>
            <a:off x="304920" y="430200"/>
            <a:ext cx="85341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or the first time in over 20 some odd years, three carrier strike groups got together in formation for a great photo op. 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rom top to bottom are the aircraft carri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ABRAHAM LINCOLN, KITTY HAWK and RONALD REAGA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3:21:16Z</dcterms:created>
  <dc:creator>Chris Casner</dc:creator>
  <dc:description/>
  <dc:language>en-US</dc:language>
  <cp:lastModifiedBy>jane.pilgrim</cp:lastModifiedBy>
  <dcterms:modified xsi:type="dcterms:W3CDTF">2010-07-16T11:10:20Z</dcterms:modified>
  <cp:revision>12</cp:revision>
  <dc:subject/>
  <dc:title>3 Carrier Groups  plus: USS New York </dc:title>
</cp:coreProperties>
</file>