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3.jpeg" ContentType="image/jpeg"/>
  <Override PartName="/ppt/media/image22.jpeg" ContentType="image/jpeg"/>
  <Override PartName="/ppt/media/F%C3%B3gos1110.wav" ContentType="audio/x-wav"/>
  <Override PartName="/ppt/media/image1.jpeg" ContentType="image/jpeg"/>
  <Override PartName="/ppt/media/image14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Marcas_do_Que_Se_Foi%5B1%5D109.wav" ContentType="audio/x-wav"/>
  <Override PartName="/ppt/media/image26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41.gif" ContentType="image/gif"/>
  <Override PartName="/ppt/media/image12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CEB-8E28-4FC8-B295-7918E5E9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07C-1C7C-4F35-B3C3-4F330BB7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73D-58B2-4580-AF62-51B733A3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F40-147B-43BC-8CD7-72289058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EB5-83C3-46FF-9FBD-BC6FC68C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C72-B72C-46E5-97E5-6F10541F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322-873C-43B1-8FCB-8A0B941A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1EA-8709-48E9-AEC5-6AD13A74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732-3BFF-49F0-A018-C8849B49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8D58-BAC7-4FCF-BECD-D141893E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0ED-859F-4F9C-9B9C-0A01FE9C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B7D-60B0-4EDB-A6FE-8B5EC945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CBC0-1410-4DB1-ADE7-F3591CA6E9D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arcas_do_Que_Se_Foi%5B1%5D109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image" Target="../media/image39.gif"/><Relationship Id="rId7" Type="http://schemas.openxmlformats.org/officeDocument/2006/relationships/image" Target="../media/image40.gif"/><Relationship Id="rId8" Type="http://schemas.openxmlformats.org/officeDocument/2006/relationships/image" Target="../media/image41.gif"/><Relationship Id="rId9" Type="http://schemas.openxmlformats.org/officeDocument/2006/relationships/image" Target="../media/image42.gif"/><Relationship Id="rId10" Type="http://schemas.openxmlformats.org/officeDocument/2006/relationships/audio" Target="../media/F&#243;gos1110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03840" y="5789520"/>
            <a:ext cx="50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ustralian Sunrise"/>
              </a:rPr>
              <a:t>Mais um ano que termin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7"/>
          <p:cNvSpPr/>
          <p:nvPr/>
        </p:nvSpPr>
        <p:spPr>
          <a:xfrm>
            <a:off x="0" y="189000"/>
            <a:ext cx="64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99ff"/>
                </a:solidFill>
                <a:latin typeface="Berlin Sans FB"/>
              </a:rPr>
              <a:t>After the sunset on dec 31</a:t>
            </a:r>
            <a:r>
              <a:rPr b="0" lang="pt-BR" sz="1600" spc="-1" strike="noStrike">
                <a:solidFill>
                  <a:srgbClr val="9999ff"/>
                </a:solidFill>
                <a:latin typeface="Berlin Sans FB"/>
              </a:rPr>
              <a:t>st</a:t>
            </a:r>
            <a:r>
              <a:rPr b="0" lang="pt-BR" sz="2400" spc="-1" strike="noStrike">
                <a:solidFill>
                  <a:srgbClr val="9999ff"/>
                </a:solidFill>
                <a:latin typeface="Berlin Sans FB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Marcas_do_Que_Se_Foi%5B1%5D109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560" y="38160"/>
            <a:ext cx="9144000" cy="6802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403280" y="56610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ritannic Bold"/>
              </a:rPr>
              <a:t>and  always believe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-89280" y="30240"/>
            <a:ext cx="74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ustralian Sunrise"/>
              </a:rPr>
              <a:t>There is a light at the end of the tunnel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067760" y="5950080"/>
            <a:ext cx="69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ustralian Sunrise"/>
              </a:rPr>
              <a:t>...a pot of gold at the end of the rainb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684360" y="4941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cc"/>
                </a:solidFill>
                <a:latin typeface="Arial Rounded MT Bold"/>
              </a:rPr>
              <a:t>... And the rainbow can be anyw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227640" y="162864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erlin Sans FB"/>
              </a:rPr>
              <a:t>Even in a discrete 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-70560" y="0"/>
            <a:ext cx="44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Wide Latin"/>
              </a:rPr>
              <a:t>In 2010, gather the friend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0" y="0"/>
            <a:ext cx="37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ustralian Sunrise"/>
              </a:rPr>
              <a:t>...for a be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-162360" y="95400"/>
            <a:ext cx="32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ustralian Sunrise"/>
              </a:rPr>
              <a:t>...or a fishing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0" y="981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 any other activity you find thrilling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11280" y="47628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 not, but gather the friend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79280" y="14436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cc"/>
                </a:solidFill>
                <a:latin typeface="Arial Rounded MT Bold"/>
              </a:rPr>
              <a:t>We`ll be in command of a brand new yea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-668880" y="587700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000"/>
                </a:solidFill>
                <a:latin typeface="Australian Sunrise"/>
              </a:rPr>
              <a:t>Travel hom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-109800" y="23976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ustralian Sunrise"/>
              </a:rPr>
              <a:t>...travel fa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-366120" y="18900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ustralian Sunrise"/>
              </a:rPr>
              <a:t>...far away!!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-548640" y="260280"/>
            <a:ext cx="27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ustralian Sunrise"/>
              </a:rPr>
              <a:t>Be organized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95280" y="333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cc"/>
                </a:solidFill>
                <a:latin typeface="Arial Rounded MT Bold"/>
              </a:rPr>
              <a:t>In your own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81960" y="14616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ork har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684360" y="765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ery har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-806760" y="168120"/>
            <a:ext cx="53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ustralian Sunrise"/>
              </a:rPr>
              <a:t>...But find time for some fun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807720" y="333360"/>
            <a:ext cx="51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000"/>
                </a:solidFill>
                <a:latin typeface="Australian Sunrise"/>
              </a:rPr>
              <a:t>...Make a little mes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-451080" y="29196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ustralian Sunrise"/>
              </a:rPr>
              <a:t>...Enjoy the su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-892080" y="115920"/>
            <a:ext cx="486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ustralian Sunrise"/>
              </a:rPr>
              <a:t>Where certaily we`ll fac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43920" y="9540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ustralian Sunrise"/>
              </a:rPr>
              <a:t>...the moo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-407520" y="3573360"/>
            <a:ext cx="289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ustralian Sunrise"/>
              </a:rPr>
              <a:t>...the se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-60120" y="2397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cc33"/>
                </a:solidFill>
                <a:latin typeface="Australian Sunrise"/>
              </a:rPr>
              <a:t>...The sky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08000" y="23760"/>
            <a:ext cx="664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erlin Sans FB"/>
              </a:rPr>
              <a:t>Finally, may 2010, bring you </a:t>
            </a:r>
            <a:r>
              <a:rPr b="0" lang="pt-BR" sz="2800" spc="-1" strike="noStrike">
                <a:solidFill>
                  <a:srgbClr val="0000ff"/>
                </a:solidFill>
                <a:latin typeface="Berlin Sans FB"/>
              </a:rPr>
              <a:t>peace</a:t>
            </a:r>
            <a:r>
              <a:rPr b="0" lang="pt-BR" sz="2800" spc="-1" strike="noStrike">
                <a:solidFill>
                  <a:srgbClr val="000000"/>
                </a:solidFill>
                <a:latin typeface="Berlin Sans FB"/>
              </a:rPr>
              <a:t>, </a:t>
            </a:r>
            <a:r>
              <a:rPr b="0" lang="pt-BR" sz="2800" spc="-1" strike="noStrike">
                <a:solidFill>
                  <a:srgbClr val="008000"/>
                </a:solidFill>
                <a:latin typeface="Berlin Sans FB"/>
              </a:rPr>
              <a:t>health</a:t>
            </a:r>
            <a:r>
              <a:rPr b="0" lang="pt-BR" sz="2800" spc="-1" strike="noStrike">
                <a:solidFill>
                  <a:srgbClr val="000000"/>
                </a:solidFill>
                <a:latin typeface="Berlin Sans FB"/>
              </a:rPr>
              <a:t>, </a:t>
            </a:r>
            <a:r>
              <a:rPr b="0" lang="pt-BR" sz="2800" spc="-1" strike="noStrike">
                <a:solidFill>
                  <a:srgbClr val="ff0000"/>
                </a:solidFill>
                <a:latin typeface="Berlin Sans FB"/>
              </a:rPr>
              <a:t>love</a:t>
            </a:r>
            <a:r>
              <a:rPr b="0" lang="pt-BR" sz="2800" spc="-1" strike="noStrike">
                <a:solidFill>
                  <a:srgbClr val="000000"/>
                </a:solidFill>
                <a:latin typeface="Berlin Sans FB"/>
              </a:rPr>
              <a:t> and work, ...everything else is a consequ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8" descr="artifices-17"/>
          <p:cNvPicPr/>
          <p:nvPr/>
        </p:nvPicPr>
        <p:blipFill>
          <a:blip r:embed="rId1"/>
          <a:stretch/>
        </p:blipFill>
        <p:spPr>
          <a:xfrm>
            <a:off x="7380360" y="1916280"/>
            <a:ext cx="1512720" cy="243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champa01me2"/>
          <p:cNvPicPr/>
          <p:nvPr/>
        </p:nvPicPr>
        <p:blipFill>
          <a:blip r:embed="rId2"/>
          <a:stretch/>
        </p:blipFill>
        <p:spPr>
          <a:xfrm>
            <a:off x="0" y="2889360"/>
            <a:ext cx="6443640" cy="396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artifices-01"/>
          <p:cNvPicPr/>
          <p:nvPr/>
        </p:nvPicPr>
        <p:blipFill>
          <a:blip r:embed="rId3"/>
          <a:stretch/>
        </p:blipFill>
        <p:spPr>
          <a:xfrm>
            <a:off x="755640" y="76500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artifices-08"/>
          <p:cNvPicPr/>
          <p:nvPr/>
        </p:nvPicPr>
        <p:blipFill>
          <a:blip r:embed="rId4"/>
          <a:stretch/>
        </p:blipFill>
        <p:spPr>
          <a:xfrm>
            <a:off x="3276720" y="18900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Fogos se cruzando22"/>
          <p:cNvPicPr/>
          <p:nvPr/>
        </p:nvPicPr>
        <p:blipFill>
          <a:blip r:embed="rId5"/>
          <a:stretch/>
        </p:blipFill>
        <p:spPr>
          <a:xfrm>
            <a:off x="6443640" y="404640"/>
            <a:ext cx="889200" cy="889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ogos  tipo bolas11"/>
          <p:cNvPicPr/>
          <p:nvPr/>
        </p:nvPicPr>
        <p:blipFill>
          <a:blip r:embed="rId6"/>
          <a:stretch/>
        </p:blipFill>
        <p:spPr>
          <a:xfrm>
            <a:off x="4716360" y="189000"/>
            <a:ext cx="1098720" cy="109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artifices-06"/>
          <p:cNvPicPr/>
          <p:nvPr/>
        </p:nvPicPr>
        <p:blipFill>
          <a:blip r:embed="rId7"/>
          <a:stretch/>
        </p:blipFill>
        <p:spPr>
          <a:xfrm>
            <a:off x="2124000" y="0"/>
            <a:ext cx="949320" cy="85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fogoss02"/>
          <p:cNvPicPr/>
          <p:nvPr/>
        </p:nvPicPr>
        <p:blipFill>
          <a:blip r:embed="rId8"/>
          <a:stretch/>
        </p:blipFill>
        <p:spPr>
          <a:xfrm>
            <a:off x="7772400" y="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artifices-11"/>
          <p:cNvPicPr/>
          <p:nvPr/>
        </p:nvPicPr>
        <p:blipFill>
          <a:blip r:embed="rId9"/>
          <a:stretch/>
        </p:blipFill>
        <p:spPr>
          <a:xfrm>
            <a:off x="7077240" y="1052640"/>
            <a:ext cx="206676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5292720" y="549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ffff"/>
                </a:solidFill>
                <a:latin typeface="Arial Rounded MT Bold"/>
              </a:rPr>
              <a:t>Storms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406240" y="55166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66"/>
                </a:solidFill>
                <a:latin typeface="Australian Sunrise"/>
              </a:rPr>
              <a:t>Situations that`ll leave us upside dow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050920" y="6165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Rounded MT Bold"/>
              </a:rPr>
              <a:t>... Or spinning aroun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033560" y="30240"/>
            <a:ext cx="80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ustralian Sunrise"/>
              </a:rPr>
              <a:t>...or where we don`t know where to run t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1403280" y="3789360"/>
            <a:ext cx="4103640" cy="1944720"/>
          </a:xfrm>
          <a:custGeom>
            <a:avLst/>
            <a:gdLst>
              <a:gd name="textAreaLeft" fmla="*/ 1026000 w 4103640"/>
              <a:gd name="textAreaRight" fmla="*/ 3078000 w 410364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-1069560" y="115920"/>
            <a:ext cx="62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ustralian Sunrise"/>
              </a:rPr>
              <a:t>...or simply things won`t work!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4500720" y="95400"/>
            <a:ext cx="45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Britannic Bold"/>
              </a:rPr>
              <a:t>Don`t give up, have faith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22:50:42Z</dcterms:created>
  <dc:creator/>
  <dc:description/>
  <dc:language>en-US</dc:language>
  <cp:lastModifiedBy>paulo v prange</cp:lastModifiedBy>
  <dcterms:modified xsi:type="dcterms:W3CDTF">2009-12-28T02:18:13Z</dcterms:modified>
  <cp:revision>35</cp:revision>
  <dc:subject/>
  <dc:title>Slide 1</dc:title>
</cp:coreProperties>
</file>