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D6C-CC16-4DED-A3D3-5B573C66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DA6-8C7C-4C90-BB7D-74B7A1C1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033-4D0A-4C44-A121-A23DF0C3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E85-3125-4068-BE67-9F5BD4A9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730-7B31-4F77-BC4D-0AD2B639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29C-2646-4E54-9D95-5A67F39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788-9977-4778-8B01-ACA5EBA9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617-4122-45E2-8645-60170FE2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9DE-8C9D-4687-B766-0D1367FF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6E0-E035-4491-A179-E8DC29CE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5D7-1131-4EF9-A282-5CF2DDE8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9C1-1375-4A97-B429-78F2BA4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8DEE-28F1-48B9-ABCE-3D54B5EF3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ch vs. The P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yiv1079528884_x005F_x0000_i1031" descr="Click here to join nidokido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4481640" y="53031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yiv1079528884_x005F_x0000_i1032" descr="Click here to join nidokidos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481640" y="5592960"/>
            <a:ext cx="18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yiv1079528884_x005F_x0000_i1033" descr="Click here to join nidokido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343400"/>
            <a:ext cx="54864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 SEE, THE DIFFERENCE IS THAT THE RICH NEVER SMILE BUT THE POOR ALWAYS D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, the Ri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yiv1079528884_x005F_x0000_i1025" descr="Click here to join nidokidos"/>
          <p:cNvPicPr/>
          <p:nvPr/>
        </p:nvPicPr>
        <p:blipFill>
          <a:blip r:embed="rId1"/>
          <a:stretch/>
        </p:blipFill>
        <p:spPr>
          <a:xfrm>
            <a:off x="752400" y="809640"/>
            <a:ext cx="76392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4481640" y="5009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yiv1079528884_x005F_x0000_i1026" descr="Click here to join nidokidos"/>
          <p:cNvPicPr/>
          <p:nvPr/>
        </p:nvPicPr>
        <p:blipFill>
          <a:blip r:embed="rId1"/>
          <a:stretch/>
        </p:blipFill>
        <p:spPr>
          <a:xfrm>
            <a:off x="752400" y="571680"/>
            <a:ext cx="76392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4481640" y="5212080"/>
            <a:ext cx="18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yiv1079528884_x005F_x0000_i1027" descr="Click here to join nidokidos"/>
          <p:cNvPicPr/>
          <p:nvPr/>
        </p:nvPicPr>
        <p:blipFill>
          <a:blip r:embed="rId1"/>
          <a:stretch/>
        </p:blipFill>
        <p:spPr>
          <a:xfrm>
            <a:off x="752400" y="571680"/>
            <a:ext cx="76392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481640" y="53946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yiv1079528884_x005F_x0000_i1028" descr="Click here to join nidokidos"/>
          <p:cNvPicPr/>
          <p:nvPr/>
        </p:nvPicPr>
        <p:blipFill>
          <a:blip r:embed="rId1"/>
          <a:stretch/>
        </p:blipFill>
        <p:spPr>
          <a:xfrm>
            <a:off x="752400" y="571680"/>
            <a:ext cx="763920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4481640" y="53946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yiv1079528884_x005F_x0000_i1029" descr="Click here to join nidokidos"/>
          <p:cNvPicPr/>
          <p:nvPr/>
        </p:nvPicPr>
        <p:blipFill>
          <a:blip r:embed="rId1"/>
          <a:stretch/>
        </p:blipFill>
        <p:spPr>
          <a:xfrm>
            <a:off x="752400" y="571680"/>
            <a:ext cx="7639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, the Po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yiv1079528884_x005F_x0000_i1030" descr="Click here to join nidokidos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481640" y="41601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9:44:55Z</dcterms:created>
  <dc:creator>Richard Church</dc:creator>
  <dc:description/>
  <dc:language>en-US</dc:language>
  <cp:lastModifiedBy>Richard Church</cp:lastModifiedBy>
  <dcterms:modified xsi:type="dcterms:W3CDTF">2011-11-28T23:37:42Z</dcterms:modified>
  <cp:revision>22</cp:revision>
  <dc:subject/>
  <dc:title>Slide 1</dc:title>
</cp:coreProperties>
</file>