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39F-6C8F-4AC3-862F-18D2BB85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C404-9900-4994-9014-BDF3E3B6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74A9-55EE-4E72-BD75-C68CFE55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0DCC-0F1C-4062-962E-2BAC8CE7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4E8A-E704-44E1-942D-9CEA63A7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146-D235-4534-AEB2-EF1DE1E1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35A8-EF9D-4CA7-82D4-3129EB2F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19DB-9B7B-4EBA-B166-A6C2CFC4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1492-D451-41BF-9615-07A1BCD6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68A7-159F-4EEF-B5D7-065F1FEC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8D38-466E-4C6B-AF6E-CBF0A1CB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EBF4-669F-4590-83BE-CB4DE76F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88B9-D2FB-4951-A8AD-F67328664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9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ich vs. The P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yiv1079528884_x005F_x0000_i1031" descr="Click here to join nidokidos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4481640" y="530316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yiv1079528884_x005F_x0000_i1032" descr="Click here to join nidokidos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6096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4481640" y="5592960"/>
            <a:ext cx="18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yiv1079528884_x005F_x0000_i1033" descr="Click here to join nidokidos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440" y="4343400"/>
            <a:ext cx="54864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YOU SEE, THE DIFFERENCE IS THAT THE RICH NEVER SMILE BUT THE POOR ALWAYS D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, the Rich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yiv1079528884_x005F_x0000_i1025" descr="Click here to join nidokidos"/>
          <p:cNvPicPr/>
          <p:nvPr/>
        </p:nvPicPr>
        <p:blipFill>
          <a:blip r:embed="rId1"/>
          <a:stretch/>
        </p:blipFill>
        <p:spPr>
          <a:xfrm>
            <a:off x="752400" y="809640"/>
            <a:ext cx="7639200" cy="5238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4481640" y="50094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yiv1079528884_x005F_x0000_i1026" descr="Click here to join nidokidos"/>
          <p:cNvPicPr/>
          <p:nvPr/>
        </p:nvPicPr>
        <p:blipFill>
          <a:blip r:embed="rId1"/>
          <a:stretch/>
        </p:blipFill>
        <p:spPr>
          <a:xfrm>
            <a:off x="752400" y="571680"/>
            <a:ext cx="76392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4481640" y="5212080"/>
            <a:ext cx="18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yiv1079528884_x005F_x0000_i1027" descr="Click here to join nidokidos"/>
          <p:cNvPicPr/>
          <p:nvPr/>
        </p:nvPicPr>
        <p:blipFill>
          <a:blip r:embed="rId1"/>
          <a:stretch/>
        </p:blipFill>
        <p:spPr>
          <a:xfrm>
            <a:off x="752400" y="571680"/>
            <a:ext cx="763920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4481640" y="53946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yiv1079528884_x005F_x0000_i1028" descr="Click here to join nidokidos"/>
          <p:cNvPicPr/>
          <p:nvPr/>
        </p:nvPicPr>
        <p:blipFill>
          <a:blip r:embed="rId1"/>
          <a:stretch/>
        </p:blipFill>
        <p:spPr>
          <a:xfrm>
            <a:off x="752400" y="571680"/>
            <a:ext cx="7639200" cy="5715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4481640" y="53946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yiv1079528884_x005F_x0000_i1029" descr="Click here to join nidokidos"/>
          <p:cNvPicPr/>
          <p:nvPr/>
        </p:nvPicPr>
        <p:blipFill>
          <a:blip r:embed="rId1"/>
          <a:stretch/>
        </p:blipFill>
        <p:spPr>
          <a:xfrm>
            <a:off x="752400" y="571680"/>
            <a:ext cx="76392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, the Po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yiv1079528884_x005F_x0000_i1030" descr="Click here to join nidokidos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4481640" y="416016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9:44:55Z</dcterms:created>
  <dc:creator>Richard Church</dc:creator>
  <dc:description/>
  <dc:language>en-US</dc:language>
  <cp:lastModifiedBy>Richard Church</cp:lastModifiedBy>
  <dcterms:modified xsi:type="dcterms:W3CDTF">2011-11-28T23:37:42Z</dcterms:modified>
  <cp:revision>22</cp:revision>
  <dc:subject/>
  <dc:title>Slide 1</dc:title>
</cp:coreProperties>
</file>