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01E-CDDD-49B1-985D-6ACFB227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9E5-8D28-40EE-95F1-1CB870E7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BADF-1158-487B-9010-7EEA4289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8D31-EEA2-4A99-843A-EA3C3532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982-412C-4A43-9C60-D52E4D9A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7CAD-3A61-466F-8E9A-719AD28C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A19-BDCE-4813-823E-68FF3961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677-7391-40C7-8DDF-330AE6CD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985F-223A-4FAC-943B-BF7E24EE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BAD-56AC-4BCD-AACE-7450B08E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33B-99AA-4F87-BA86-07E0F91C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1A0-2B81-4DFD-A53E-E95CDA5A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F308-B805-40C1-97C4-4772AEB95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entimental%20Journey.wav" TargetMode="External"/><Relationship Id="rId2" Type="http://schemas.microsoft.com/office/2007/relationships/media" Target="file:///tmp/home/.config/libreoffice/4/user/gallery/Sentimental%20Journey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47640" y="2133720"/>
            <a:ext cx="532944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comic"/>
              </a:rPr>
              <a:t>Really Old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comic"/>
              </a:rPr>
              <a:t>Photographs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comic"/>
              <a:ea typeface="comic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79280" y="6165720"/>
            <a:ext cx="360072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lease click to contin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874800"/>
            <a:ext cx="9144000" cy="5108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79200"/>
            <a:ext cx="9144000" cy="6697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9640" y="0"/>
            <a:ext cx="752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42920"/>
            <a:ext cx="9144000" cy="6572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920" y="0"/>
            <a:ext cx="869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240" y="0"/>
            <a:ext cx="9083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74680"/>
            <a:ext cx="9144000" cy="6308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2120"/>
            <a:ext cx="9144000" cy="641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792000"/>
            <a:ext cx="9144000" cy="5272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74640"/>
            <a:ext cx="9144000" cy="5508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01920" y="0"/>
            <a:ext cx="4340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239840"/>
            <a:ext cx="9144000" cy="437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25640" y="0"/>
            <a:ext cx="5292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979640" y="6524640"/>
            <a:ext cx="518472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razer Canyon Highway British Columb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7600"/>
            <a:ext cx="9144000" cy="656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4520"/>
            <a:ext cx="9144000" cy="670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160"/>
            <a:ext cx="9144000" cy="6835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39640"/>
            <a:ext cx="9144000" cy="5778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5280" y="189000"/>
            <a:ext cx="52563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ella Coola Highway  British Columb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23920" y="0"/>
            <a:ext cx="6896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17440"/>
            <a:ext cx="9144000" cy="6423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39760"/>
            <a:ext cx="9144000" cy="637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0"/>
            <a:ext cx="9071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1760"/>
            <a:ext cx="9144000" cy="659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3880" y="0"/>
            <a:ext cx="5554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54080"/>
            <a:ext cx="9144000" cy="6549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42920"/>
            <a:ext cx="9144000" cy="6572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5680"/>
            <a:ext cx="9144000" cy="6686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54080"/>
            <a:ext cx="9144000" cy="6549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240" y="0"/>
            <a:ext cx="8866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7640"/>
            <a:ext cx="9144000" cy="682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65240"/>
            <a:ext cx="9144000" cy="6526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54200"/>
            <a:ext cx="9144000" cy="5349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7040"/>
            <a:ext cx="9144000" cy="634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54200"/>
            <a:ext cx="9144000" cy="5349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03280"/>
            <a:ext cx="9144000" cy="585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33440"/>
            <a:ext cx="9144000" cy="598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0760"/>
            <a:ext cx="9144000" cy="6754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76360"/>
            <a:ext cx="9144000" cy="5703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89120"/>
            <a:ext cx="9144000" cy="527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80"/>
            <a:ext cx="9144000" cy="6846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68200"/>
            <a:ext cx="9144000" cy="6321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36600"/>
            <a:ext cx="9144000" cy="6183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07800"/>
            <a:ext cx="9144000" cy="6240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57400" y="0"/>
            <a:ext cx="6829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908000" y="3105000"/>
            <a:ext cx="467532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 All Fol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circl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1280"/>
            <a:ext cx="9144000" cy="5635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76160"/>
            <a:ext cx="9144000" cy="530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47600"/>
            <a:ext cx="9144000" cy="656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9:47:07Z</dcterms:created>
  <dc:creator>Bryan</dc:creator>
  <dc:description/>
  <dc:language>en-US</dc:language>
  <cp:lastModifiedBy>Bryan</cp:lastModifiedBy>
  <dcterms:modified xsi:type="dcterms:W3CDTF">2009-11-15T19:47:47Z</dcterms:modified>
  <cp:revision>1</cp:revision>
  <dc:subject/>
  <dc:title>Slide 1</dc:title>
</cp:coreProperties>
</file>