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64A-1226-4812-A009-F07CB9CC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C4E-BEFB-4E50-94F5-B3A7D08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E88-ABB0-40E4-A438-20CFB6E7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585-A651-4FAF-85C1-618E6420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CEB-4C08-4C9B-AC2B-7B4660D4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E6C-C396-4C77-AE20-3FA53414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758-BF0D-414C-AB78-966CD12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F44-127B-4626-B7BE-D449DB40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8B6-25A2-4A10-AB83-CB3F0D0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870-B5C4-4D02-9E10-42D82DA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BB4-1CC2-43FD-A22F-9C58C09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830-A89C-40CF-8B87-74B42EE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859-12A0-464A-B45A-DA87C7095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entimental%20Journey.wav" TargetMode="External"/><Relationship Id="rId2" Type="http://schemas.microsoft.com/office/2007/relationships/media" Target="file:///tmp/home/.config/libreoffice/4/user/gallery/Sentimental%20Journey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2133720"/>
            <a:ext cx="532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"/>
              </a:rPr>
              <a:t>Really Old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"/>
              </a:rPr>
              <a:t>Photograph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9280" y="6165720"/>
            <a:ext cx="3600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ease click to conti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74800"/>
            <a:ext cx="9144000" cy="5108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9200"/>
            <a:ext cx="9144000" cy="669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9640" y="0"/>
            <a:ext cx="752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2920"/>
            <a:ext cx="9144000" cy="6572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920" y="0"/>
            <a:ext cx="869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40" y="0"/>
            <a:ext cx="9083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4680"/>
            <a:ext cx="9144000" cy="630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2120"/>
            <a:ext cx="9144000" cy="64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92000"/>
            <a:ext cx="9144000" cy="527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74640"/>
            <a:ext cx="9144000" cy="550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1920" y="0"/>
            <a:ext cx="4340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39840"/>
            <a:ext cx="9144000" cy="437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5640" y="0"/>
            <a:ext cx="5292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79640" y="6524640"/>
            <a:ext cx="51847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azer Canyon Highway British Columb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7600"/>
            <a:ext cx="9144000" cy="656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4520"/>
            <a:ext cx="9144000" cy="670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160"/>
            <a:ext cx="9144000" cy="6835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9640"/>
            <a:ext cx="9144000" cy="577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89000"/>
            <a:ext cx="52563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lla Coola Highway  British Columb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23920" y="0"/>
            <a:ext cx="6896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7440"/>
            <a:ext cx="9144000" cy="642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39760"/>
            <a:ext cx="9144000" cy="637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0"/>
            <a:ext cx="9071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760"/>
            <a:ext cx="9144000" cy="659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3880" y="0"/>
            <a:ext cx="5554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4080"/>
            <a:ext cx="9144000" cy="654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2920"/>
            <a:ext cx="9144000" cy="6572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5680"/>
            <a:ext cx="9144000" cy="668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4080"/>
            <a:ext cx="9144000" cy="654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240" y="0"/>
            <a:ext cx="886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640"/>
            <a:ext cx="9144000" cy="682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65240"/>
            <a:ext cx="9144000" cy="6526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54200"/>
            <a:ext cx="9144000" cy="534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040"/>
            <a:ext cx="9144000" cy="634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54200"/>
            <a:ext cx="9144000" cy="534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3280"/>
            <a:ext cx="9144000" cy="585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3440"/>
            <a:ext cx="9144000" cy="598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0760"/>
            <a:ext cx="9144000" cy="6754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76360"/>
            <a:ext cx="9144000" cy="5703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89120"/>
            <a:ext cx="9144000" cy="527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80"/>
            <a:ext cx="9144000" cy="684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8200"/>
            <a:ext cx="9144000" cy="632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6600"/>
            <a:ext cx="9144000" cy="618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7800"/>
            <a:ext cx="9144000" cy="624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57400" y="0"/>
            <a:ext cx="6829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8000" y="3105000"/>
            <a:ext cx="46753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 All Fol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1280"/>
            <a:ext cx="9144000" cy="5635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76160"/>
            <a:ext cx="9144000" cy="530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7600"/>
            <a:ext cx="9144000" cy="656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9:47:07Z</dcterms:created>
  <dc:creator>Bryan</dc:creator>
  <dc:description/>
  <dc:language>en-US</dc:language>
  <cp:lastModifiedBy>Bryan</cp:lastModifiedBy>
  <dcterms:modified xsi:type="dcterms:W3CDTF">2009-11-15T19:47:47Z</dcterms:modified>
  <cp:revision>1</cp:revision>
  <dc:subject/>
  <dc:title>Slide 1</dc:title>
</cp:coreProperties>
</file>