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58C-01CB-4B70-8075-AABE757D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200-090C-4002-854F-576A708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6B7-0BD0-4BA4-B493-C2F43DAB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13D-580B-4BF7-92B2-54B1269E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83E-CC6D-491E-903A-307A675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B70-F5FF-4B25-8061-B7BA301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602-04D1-42A9-A5BB-D3678F9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FBC-2A2D-4F7E-A9EE-B557FC59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33A-022E-4DEA-9D8C-08C1CE6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9B4-5859-4A8D-8545-9A5777E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921-E11C-4EA7-A363-7EC3E45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34A-05FC-41C1-8CC7-84C7D03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3E1-7FE7-49D7-B83D-BCD29BD1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d on the Home of a Colombian Drug Dea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onder I have n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.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pace bar to show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1:58:48Z</dcterms:created>
  <dc:creator>Randy Hall</dc:creator>
  <dc:description/>
  <dc:language>en-US</dc:language>
  <cp:lastModifiedBy>Randy Hall</cp:lastModifiedBy>
  <dcterms:modified xsi:type="dcterms:W3CDTF">2010-01-23T05:21:19Z</dcterms:modified>
  <cp:revision>11</cp:revision>
  <dc:subject/>
  <dc:title>Raid on the Home of a Colombian Drug Dealer</dc:title>
</cp:coreProperties>
</file>