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FAB-FA7D-4CAF-8D5F-2D786CCF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670-EB78-4C93-8121-2A8F48F2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39F-0C55-497A-9950-39CC6BE7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B73-AF21-4D6A-9256-FAFEFE3F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E9A-4FC1-46C3-ACA9-CF24D3D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133-5863-46AA-92CD-6C10D49D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939-126A-4CA0-9D6D-E97028C9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932-1AEA-4AB7-99E6-C569843F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671-B740-47EA-AB48-91032827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7B4-51B8-4D40-B87A-1441A8D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BA5-569D-46BE-957E-0C6DEBE3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D08-AD37-4F8D-896E-022A5430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3539-2B86-4ACD-BE24-0049F988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d on the Home of a Colombian Drug Dea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onder I have n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.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pace bar to show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1:58:48Z</dcterms:created>
  <dc:creator>Randy Hall</dc:creator>
  <dc:description/>
  <dc:language>en-US</dc:language>
  <cp:lastModifiedBy>Randy Hall</cp:lastModifiedBy>
  <dcterms:modified xsi:type="dcterms:W3CDTF">2010-01-23T05:21:19Z</dcterms:modified>
  <cp:revision>11</cp:revision>
  <dc:subject/>
  <dc:title>Raid on the Home of a Colombian Drug Dealer</dc:title>
</cp:coreProperties>
</file>