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Bilitis.wav" ContentType="audio/x-wav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iliti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3781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539640" y="189000"/>
            <a:ext cx="7993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华文琥珀"/>
              </a:rPr>
              <a:t>German Photograph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114800" y="5445000"/>
            <a:ext cx="4560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华文琥珀"/>
              </a:rPr>
              <a:t>Use mouse to advance sl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222120"/>
            <a:ext cx="9144000" cy="641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0" y="-193680"/>
            <a:ext cx="9252000" cy="733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755640" y="41400"/>
            <a:ext cx="7632720" cy="67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-217440"/>
            <a:ext cx="9144000" cy="729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0" y="450720"/>
            <a:ext cx="9144000" cy="59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187280" y="0"/>
            <a:ext cx="6832800" cy="68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376200"/>
            <a:ext cx="914400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314280"/>
            <a:ext cx="9144000" cy="62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0" y="581040"/>
            <a:ext cx="9144000" cy="56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0" y="216000"/>
            <a:ext cx="9144000" cy="64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-541440" y="-212760"/>
            <a:ext cx="10153800" cy="72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0" y="-173160"/>
            <a:ext cx="9252000" cy="729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700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0" y="426960"/>
            <a:ext cx="9144000" cy="600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047600" y="-61920"/>
            <a:ext cx="7048800" cy="69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0" y="216000"/>
            <a:ext cx="9144000" cy="64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0" y="247680"/>
            <a:ext cx="9144000" cy="63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2195640" y="0"/>
            <a:ext cx="4632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0" y="512640"/>
            <a:ext cx="9144000" cy="58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0" y="258840"/>
            <a:ext cx="9144000" cy="63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0" y="469800"/>
            <a:ext cx="9144000" cy="591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763640" y="4680"/>
            <a:ext cx="574380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0" y="1093680"/>
            <a:ext cx="9144000" cy="46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0" y="216000"/>
            <a:ext cx="9144000" cy="64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0" y="395280"/>
            <a:ext cx="9144000" cy="60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250920" y="-4680"/>
            <a:ext cx="8713800" cy="692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1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0" y="747720"/>
            <a:ext cx="9144000" cy="53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0" y="858960"/>
            <a:ext cx="9144000" cy="51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0" y="487440"/>
            <a:ext cx="9144000" cy="58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260280"/>
            <a:ext cx="9145440" cy="61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-324000" y="-4680"/>
            <a:ext cx="9864720" cy="69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0" y="1087560"/>
            <a:ext cx="9144000" cy="46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mazone BT"/>
              </a:rPr>
              <a:t>Thanks for Watch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y name is Patrick Notley. I am Autistic and I produced this slide show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lease…..send it round the World…Let beauty shine through at l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8839080" y="6629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574560"/>
            <a:ext cx="9144000" cy="570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42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20:26:04Z</dcterms:created>
  <dc:creator>John Reed</dc:creator>
  <dc:description/>
  <dc:language>en-US</dc:language>
  <cp:lastModifiedBy>user</cp:lastModifiedBy>
  <dcterms:modified xsi:type="dcterms:W3CDTF">2009-12-19T18:03:19Z</dcterms:modified>
  <cp:revision>3</cp:revision>
  <dc:subject/>
  <dc:title>Slide 1</dc:title>
</cp:coreProperties>
</file>