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29.jpeg" ContentType="image/jpeg"/>
  <Override PartName="/ppt/media/image47.png" ContentType="image/png"/>
  <Override PartName="/ppt/media/image35.jpeg" ContentType="image/jpeg"/>
  <Override PartName="/ppt/media/Panfluit%2012.wav" ContentType="audio/x-wav"/>
  <Override PartName="/ppt/media/image10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8.jpeg" ContentType="image/jpeg"/>
  <Override PartName="/ppt/media/image3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590-D2AB-44E3-9A10-2468C2CF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942-22C4-493E-B939-FBDD462D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FB8-38A4-41FA-8429-B359DE1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A11-3C32-40C8-9384-FF7BA2EA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9C9-21D3-4ED6-937D-B62E116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5DA-E072-47B9-9534-2301A25D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54E-485D-4400-9674-A7A7963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2E2-F3A4-4F51-B82B-58EE994E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236-7F93-4276-B06E-A1CC6421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7E5-2044-440D-B9EF-6311B90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417-8843-4025-874F-8167385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745-0B87-434E-9B0E-CFCBE4C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186-048B-474A-BB71-F4C684D491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1335240" y="2279520"/>
            <a:ext cx="4456080" cy="12448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2"/>
          <a:stretch/>
        </p:blipFill>
        <p:spPr>
          <a:xfrm>
            <a:off x="2004840" y="2743200"/>
            <a:ext cx="4262760" cy="120636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" descr=""/>
          <p:cNvPicPr/>
          <p:nvPr/>
        </p:nvPicPr>
        <p:blipFill>
          <a:blip r:embed="rId3"/>
          <a:stretch/>
        </p:blipFill>
        <p:spPr>
          <a:xfrm>
            <a:off x="2633760" y="3170160"/>
            <a:ext cx="4284720" cy="20052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8215200" y="6308640"/>
            <a:ext cx="419040" cy="2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. B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87280" y="258840"/>
            <a:ext cx="8570880" cy="638496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 Bonitech Corp.</cp:lastModifiedBy>
  <dcterms:modified xsi:type="dcterms:W3CDTF">2008-02-02T17:56:46Z</dcterms:modified>
  <cp:revision>11</cp:revision>
  <dc:subject/>
  <dc:title>Neat </dc:title>
</cp:coreProperties>
</file>