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29.jpeg" ContentType="image/jpeg"/>
  <Override PartName="/ppt/media/image47.png" ContentType="image/png"/>
  <Override PartName="/ppt/media/image35.jpeg" ContentType="image/jpeg"/>
  <Override PartName="/ppt/media/Panfluit%2012.wav" ContentType="audio/x-wav"/>
  <Override PartName="/ppt/media/image10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8.jpeg" ContentType="image/jpeg"/>
  <Override PartName="/ppt/media/image3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38D-8482-45DC-8411-E032C62E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93D-0ED3-4FA0-BA91-F0CC46CD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1A5-2882-4683-AA75-A0F36518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447-5899-46E3-9560-5B68FBCA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6C1-1A4E-4074-B434-0DCD2FBA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764-390F-4477-83BF-A1C9FA48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0AB-18D0-4DA5-B29B-21DAFC2E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4C7-4B98-4D4F-B9AA-28DB2277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DBF-9B26-4108-90CB-C863309B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E77-4ECA-4A47-A464-5DD973BC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EE0-25EA-4C57-973B-871915EF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3D0-798F-4446-BA28-FAEB8D7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3B56-DCFD-41FC-9C5F-6CC0B16451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anfluit%2012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1238400" y="3456000"/>
            <a:ext cx="5662440" cy="190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298600" y="4095720"/>
            <a:ext cx="5686560" cy="3219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14200" y="92880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Can anything made by man, even get close to beauty of n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Maybe the musi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940360" y="638172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Arial"/>
              </a:rPr>
              <a:t>R.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  <p:sndAc>
      <p:stSnd>
        <p:snd r:embed="rId2" name="Panfluit%201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1335240" y="2279520"/>
            <a:ext cx="4456080" cy="124488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" descr=""/>
          <p:cNvPicPr/>
          <p:nvPr/>
        </p:nvPicPr>
        <p:blipFill>
          <a:blip r:embed="rId2"/>
          <a:stretch/>
        </p:blipFill>
        <p:spPr>
          <a:xfrm>
            <a:off x="2004840" y="2743200"/>
            <a:ext cx="4262760" cy="120636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5" descr=""/>
          <p:cNvPicPr/>
          <p:nvPr/>
        </p:nvPicPr>
        <p:blipFill>
          <a:blip r:embed="rId3"/>
          <a:stretch/>
        </p:blipFill>
        <p:spPr>
          <a:xfrm>
            <a:off x="2633760" y="3170160"/>
            <a:ext cx="4284720" cy="20052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8215200" y="6308640"/>
            <a:ext cx="419040" cy="2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. B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87280" y="258840"/>
            <a:ext cx="8570880" cy="638496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4:20:45Z</dcterms:created>
  <dc:creator>K &amp; K</dc:creator>
  <dc:description/>
  <dc:language>en-US</dc:language>
  <cp:lastModifiedBy> Bonitech Corp.</cp:lastModifiedBy>
  <dcterms:modified xsi:type="dcterms:W3CDTF">2008-02-02T17:56:46Z</dcterms:modified>
  <cp:revision>11</cp:revision>
  <dc:subject/>
  <dc:title>Neat </dc:title>
</cp:coreProperties>
</file>