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NarniaTheBattle139.wav" ContentType="audio/x-wav"/>
  <Override PartName="/ppt/media/image25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NarniaTheBattle139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 txBox="1"/>
          <p:nvPr/>
        </p:nvSpPr>
        <p:spPr>
          <a:xfrm>
            <a:off x="2133720" y="2133720"/>
            <a:ext cx="48765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MILITARY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SECRET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7" name=""/>
          <p:cNvSpPr/>
          <p:nvPr/>
        </p:nvSpPr>
        <p:spPr>
          <a:xfrm>
            <a:off x="212760" y="5294160"/>
            <a:ext cx="893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A lot of life's problems can be explained by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applications of the common sen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from the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recently declassified Military Secr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3200400" y="9907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Declass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6477120" y="27432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Declass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0" y="27432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Declass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38560" y="44956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Declass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46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241040" y="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A-6 Intru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58658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 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f it's stupid but it works, it isn't stupid. </a:t>
            </a:r>
            <a:br>
              <a:rPr sz="24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 -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Naval Ops Manu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800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090200" y="22860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-130 Her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6171120"/>
            <a:ext cx="92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Having lost sight of our objectives we need to redouble our effo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6035760"/>
            <a:ext cx="9144000" cy="466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00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373080" y="0"/>
            <a:ext cx="27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S Theodore Rooseve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92160" y="4684680"/>
            <a:ext cx="923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92160" y="4456080"/>
            <a:ext cx="923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6034320"/>
            <a:ext cx="91440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'Any ship can be a minesweeper. Once.' </a:t>
            </a:r>
            <a:br>
              <a:rPr sz="24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- Naval Ops Man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45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8400" y="5867280"/>
            <a:ext cx="900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'If you see a bomb technician running, try to keep up with him.' </a:t>
            </a:r>
            <a:br>
              <a:rPr sz="24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- Infantry Journal-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223040" y="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-130 Her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5928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004080" y="1066680"/>
            <a:ext cx="31399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   </a:t>
            </a:r>
            <a:br>
              <a:rPr sz="18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'Flying the airplane is more important than radioing your “plight”  to a person </a:t>
            </a:r>
            <a:br>
              <a:rPr sz="24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on the ground incapable of understanding or doing anything about it.'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- Emergency Checklist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0" y="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-130 Her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40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010280" y="0"/>
            <a:ext cx="16765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B-52 Bo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034320"/>
            <a:ext cx="914400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Cluster bombing from B-52s is very, very accura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The bombs always hit the ground- US Air Fo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18960" y="6216480"/>
            <a:ext cx="850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'The Piper Cub is the safest airplane in the world;  it can just barely kill you.' </a:t>
            </a:r>
            <a:br>
              <a:rPr sz="1800"/>
            </a:b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- Attributed to Max Stanley (Northrop test pil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0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72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6035760"/>
            <a:ext cx="914400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'Whoever said the pen is mightier than the sword, obviously never encountered automatic weapons.' - General MacArthur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938280" y="0"/>
            <a:ext cx="20048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Apache  Longb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40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59421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 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'If you hear me yell;"Eject, Eject, Eject!", the last two will be echos.'</a:t>
            </a:r>
            <a:br>
              <a:rPr sz="1800"/>
            </a:b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If you stop to ask "Why?", you'll be talking to yourself, because by then you'll be the pilot.‘   -Pre-flight Briefing from a Canadi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F104 Pil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76920" y="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adian T-33 Jet Trainer test e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035760"/>
            <a:ext cx="914400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A Purple Heart just proves that were you smart enough to think of a plan, stupid enough to try it, and lucky enough to surv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6429960"/>
            <a:ext cx="9144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n't draw fire, it irritates the people around you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ice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gu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689880" y="112680"/>
            <a:ext cx="24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-18 Ho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76720" y="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Sukhoi SU-27 missing canopy due to a test e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6035760"/>
            <a:ext cx="91440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f you find yourself in a fair fight, you didn't plan your mission properly.   - David Hackwo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912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1240" y="5867280"/>
            <a:ext cx="892152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 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'It is generally inadvisable to eject directly over the area you just bombed.' - US.Air Force Manual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75680" y="0"/>
            <a:ext cx="17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khoi SU-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6921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The three most common expressions (or famous last words) in military aviation are: </a:t>
            </a:r>
            <a:br>
              <a:rPr sz="1800"/>
            </a:b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'Did you feel that?' 'What's that noise?' and 'Oh Shit!' -Authors Unknow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851440" y="189000"/>
            <a:ext cx="29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86200" y="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nderbird Demonstration Team F-16 Fal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76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6156360"/>
            <a:ext cx="9144000" cy="7038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A good battle plan that you act on today can be better than a perfect one tomorrow- Gen George S. Pa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nderbird ejection prior to crash - pilot failed to set altimeter correctly before airs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00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16" name=""/>
          <p:cNvSpPr/>
          <p:nvPr/>
        </p:nvSpPr>
        <p:spPr>
          <a:xfrm>
            <a:off x="1356480" y="6124680"/>
            <a:ext cx="6430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Aim towards the Enemy.</a:t>
            </a:r>
            <a:br>
              <a:rPr sz="24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   - Instruction printed on US Rocket Launcher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-18 Hornet - carrier landing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11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0480" y="6208560"/>
            <a:ext cx="90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When the pin is pulled, Mr. Grenade is not our friend - USMC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-16 Fighting Fal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6445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When you're short of everything but the enemy, you're in combat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-16 Fighting Fal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246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-88200" y="6143760"/>
            <a:ext cx="932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'Without ammunition, the Air Force is just an expensive flying club.' </a:t>
            </a:r>
            <a:br>
              <a:rPr sz="24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-Unknown Author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80240" y="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-22 Ra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613560" y="0"/>
            <a:ext cx="25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F Harrier Jump 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5867280"/>
            <a:ext cx="914400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Everyone wants peace – and they will fight the most terrible war to get it.- Miles King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0" y="6034320"/>
            <a:ext cx="914400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  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'You've never been lost until you've been lost at Mach 3.' </a:t>
            </a:r>
            <a:br>
              <a:rPr sz="24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- Paul F. Crickmore (SR71 test pilot)- 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162920" y="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71 Black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200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17680" y="5638680"/>
            <a:ext cx="40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'If the enemy is in range, so are you.' </a:t>
            </a:r>
            <a:br>
              <a:rPr sz="1800"/>
            </a:b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- Infantry Journal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640840" y="5562720"/>
            <a:ext cx="28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'Tracers work both ways.' </a:t>
            </a:r>
            <a:br>
              <a:rPr sz="1800"/>
            </a:b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 - Army Ordnance M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19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10 Thunder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k.a.-Warth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6035760"/>
            <a:ext cx="914400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 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'There is no reason to fly through a thunderstorm in peacetime.' </a:t>
            </a:r>
            <a:br>
              <a:rPr sz="24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- Sign over Squadron Ops Desk at Davis-Monthan AFB , A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057400" y="2286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-71 Blackbird-the fastest aircraft in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5672160"/>
            <a:ext cx="91440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'Yea, Though I Fly Through the Valley of the Shadow of Death, </a:t>
            </a:r>
            <a:br>
              <a:rPr sz="24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 Shall Fear No Evil.  For I am at 60,000 Feet and Climbing.' </a:t>
            </a:r>
            <a:br>
              <a:rPr sz="24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 - Sign over SR71 Wing Ops-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00800" y="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71 Black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527960" y="0"/>
            <a:ext cx="16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-22 Ospr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034320"/>
            <a:ext cx="91440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 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'If the wings are traveling faster than the fuselage it has to be a helicopter and therefore, unsafe.'    - Fixed Wing Pi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57480" y="6399720"/>
            <a:ext cx="8428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We are not retreating, we are advancing in another direc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27960" y="0"/>
            <a:ext cx="16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B -La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58840" y="5334120"/>
            <a:ext cx="862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You don't win a war by dying for your coun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You win a war by making the other son-of-a-bitch die for his.</a:t>
            </a:r>
            <a:br>
              <a:rPr sz="24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   - General George S. Pat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67480" y="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-4 Phan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58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927760" y="0"/>
            <a:ext cx="321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-2 Spirit &amp; C-130 Her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5670720"/>
            <a:ext cx="91440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'When one engine fails on a twin-engine airplane, you always have enough power left to get you to the scene of the crash.' </a:t>
            </a:r>
            <a:br>
              <a:rPr sz="24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  -Multi-Engine Training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800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0" y="5667480"/>
            <a:ext cx="91440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As the test pilot climbs out of the experimental aircraft, having torn off the wings and tail in the crash landing, the crash truck arr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The rescuer sees the bloodied pilot and asks,'What happened?' </a:t>
            </a:r>
            <a:br>
              <a:rPr sz="1800"/>
            </a:b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The pilot's reply: 'I don't know, I just got here myself!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147080" y="0"/>
            <a:ext cx="199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10 Thunder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0" y="5670720"/>
            <a:ext cx="91440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'You know that your landing gear is up and locked when it takes full power to taxi to the terminal.'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Lead-in Fighter Training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91320" y="304920"/>
            <a:ext cx="30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F-16 Fighting Fal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-46080" y="5791320"/>
            <a:ext cx="923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Sometimes I think war is God's way of teaching us geography.</a:t>
            </a:r>
            <a:br>
              <a:rPr sz="24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   - Paul Rodrigue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95880" y="3049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F-16 Fighting Fal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 Angels fly over Liberty Island and The Statue Of Lib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6035760"/>
            <a:ext cx="90835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Coffee tastes better if the latrines are dug downstream from an encampment. - US Army Field Regulations, 1861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70360" y="5370480"/>
            <a:ext cx="527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034320"/>
            <a:ext cx="9144000" cy="8254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Don't ever be the first, don't ever be the las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and don't ever volunteer for anything- USN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23040" y="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-111 Aardv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952720" y="2728800"/>
            <a:ext cx="3333960" cy="9334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271600" y="5257800"/>
            <a:ext cx="4600800" cy="1600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143000" y="38088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Military Secr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300320" y="6216480"/>
            <a:ext cx="654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 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'The only time you have too much fuel is when you're on fire.' </a:t>
            </a:r>
            <a:br>
              <a:rPr sz="1800"/>
            </a:b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 -Unknown Author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2819520"/>
            <a:ext cx="9144000" cy="3244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819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375680" y="2819520"/>
            <a:ext cx="17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CH-47 Chin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727720" y="6034320"/>
            <a:ext cx="64137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'Five second fuses last about three seconds.'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nfantry Journal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-130 Hercules AKA “Fat Albert” JATO rocket ass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371600" y="4876920"/>
            <a:ext cx="7772400" cy="1981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rcRect l="0" t="5480" r="0" b="1389"/>
          <a:stretch/>
        </p:blipFill>
        <p:spPr>
          <a:xfrm>
            <a:off x="1981080" y="0"/>
            <a:ext cx="7162920" cy="6477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rcRect l="0" t="0" r="80855" b="1389"/>
          <a:stretch/>
        </p:blipFill>
        <p:spPr>
          <a:xfrm>
            <a:off x="0" y="0"/>
            <a:ext cx="198108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952880" y="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 Angels flying the F-18 Ho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156360"/>
            <a:ext cx="91440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hing is so good for the morale of the troops as to occasionally see a dead general. - Field Marshal Sli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208320" y="6171120"/>
            <a:ext cx="27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Friendly fire - isn't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10080" y="0"/>
            <a:ext cx="3733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Blue Angels flying the F-18 Ho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-46080" y="5670720"/>
            <a:ext cx="923616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Airspeed, altitude, and bra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Two of these are always necessary to successfully complete the mission  -  Basic Flight Training Manu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91320" y="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-18 Hornet Carrier Take-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08:51:12Z</dcterms:created>
  <dc:creator/>
  <dc:description>LongstreetsEdit</dc:description>
  <dc:language>en-US</dc:language>
  <cp:lastModifiedBy>Longstreets</cp:lastModifiedBy>
  <dcterms:modified xsi:type="dcterms:W3CDTF">2011-02-28T21:27:41Z</dcterms:modified>
  <cp:revision>5</cp:revision>
  <dc:subject/>
  <dc:title>MilitarySecrets</dc:title>
</cp:coreProperties>
</file>