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191-C511-4282-9082-4E822B5C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C85-D8E6-4D50-8A02-8BF43003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B0D-8C60-4620-809A-495468D5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69C-C862-47B3-AB29-29E9F5F8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2A4-8580-4545-A4D5-74B4996A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4A9-D8D6-4F73-925D-B21C9C8F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ECB-E51F-45EB-8D01-276E1821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AE7-F56E-4071-86E0-60B67492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99E-6A51-43F5-B630-49141AF6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8B5-B812-4489-9774-FFA1945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1BB-AC57-4278-9091-ECADAF0E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18C-48A4-45E4-89F1-C52896E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26D6-0B4B-4C81-B86A-B0704E4AFA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3 Carrier Groups</a:t>
            </a: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 </a:t>
            </a:r>
            <a:br>
              <a:rPr sz="4000"/>
            </a:br>
            <a:r>
              <a:rPr b="0" i="1" lang="en-US" sz="2400" spc="-1" strike="noStrike">
                <a:solidFill>
                  <a:srgbClr val="b7e7ff"/>
                </a:solidFill>
                <a:latin typeface="Arial"/>
              </a:rPr>
              <a:t>plus:</a:t>
            </a:r>
            <a:br>
              <a:rPr sz="2400"/>
            </a:br>
            <a:r>
              <a:rPr b="1" i="1" lang="en-US" sz="4400" spc="-1" strike="noStrike">
                <a:solidFill>
                  <a:srgbClr val="b7e7ff"/>
                </a:solidFill>
                <a:latin typeface="Times New Roman"/>
              </a:rPr>
              <a:t>USS New York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Please use your mouse, down key, space bar or enter key to adv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08-Track 8.wma" descr=""/>
          <p:cNvPicPr/>
          <p:nvPr/>
        </p:nvPicPr>
        <p:blipFill>
          <a:blip r:embed="rId1"/>
          <a:stretch/>
        </p:blipFill>
        <p:spPr>
          <a:xfrm>
            <a:off x="982980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1" name="Picture 4" descr="image007"/>
          <p:cNvPicPr/>
          <p:nvPr/>
        </p:nvPicPr>
        <p:blipFill>
          <a:blip r:embed="rId1"/>
          <a:stretch/>
        </p:blipFill>
        <p:spPr>
          <a:xfrm>
            <a:off x="304920" y="423720"/>
            <a:ext cx="8534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4" descr="image006"/>
          <p:cNvPicPr/>
          <p:nvPr/>
        </p:nvPicPr>
        <p:blipFill>
          <a:blip r:embed="rId1"/>
          <a:stretch/>
        </p:blipFill>
        <p:spPr>
          <a:xfrm>
            <a:off x="1676520" y="228600"/>
            <a:ext cx="5257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40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We even had Air Force planes fly-over, with a B-2 Stealth Bomber.  The only warships not seen in the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photos are the 4 nuclear powered submarines standing gu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4" descr="image009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image008"/>
          <p:cNvPicPr/>
          <p:nvPr/>
        </p:nvPicPr>
        <p:blipFill>
          <a:blip r:embed="rId1"/>
          <a:stretch/>
        </p:blipFill>
        <p:spPr>
          <a:xfrm>
            <a:off x="304920" y="531720"/>
            <a:ext cx="84582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4" descr="image010"/>
          <p:cNvPicPr/>
          <p:nvPr/>
        </p:nvPicPr>
        <p:blipFill>
          <a:blip r:embed="rId1"/>
          <a:stretch/>
        </p:blipFill>
        <p:spPr>
          <a:xfrm>
            <a:off x="304920" y="581040"/>
            <a:ext cx="85341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image011"/>
          <p:cNvPicPr/>
          <p:nvPr/>
        </p:nvPicPr>
        <p:blipFill>
          <a:blip r:embed="rId1"/>
          <a:stretch/>
        </p:blipFill>
        <p:spPr>
          <a:xfrm>
            <a:off x="304920" y="423720"/>
            <a:ext cx="8534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7e7ff"/>
                </a:solidFill>
                <a:latin typeface="Times New Roman"/>
              </a:rPr>
              <a:t>AND NOW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b7e7ff"/>
                </a:solidFill>
                <a:latin typeface="Arial"/>
              </a:rPr>
              <a:t>GREAT NEW PHOTOS!</a:t>
            </a: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Here SHE is! </a:t>
            </a:r>
            <a:r>
              <a:rPr b="1" lang="en-US" sz="5400" spc="-1" strike="noStrike">
                <a:solidFill>
                  <a:srgbClr val="b7e7ff"/>
                </a:solidFill>
                <a:latin typeface="Times New Roman"/>
              </a:rPr>
              <a:t>  </a:t>
            </a:r>
            <a:br>
              <a:rPr sz="5400"/>
            </a:b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Notice the twin towers on top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4" descr="image012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hose of you who were in the service or like boats, ships and planes will appreciate this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3 carriers and the new fighter jet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he specs are awesome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alk about whip lash.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4" descr="image013"/>
          <p:cNvPicPr/>
          <p:nvPr/>
        </p:nvPicPr>
        <p:blipFill>
          <a:blip r:embed="rId1"/>
          <a:stretch/>
        </p:blipFill>
        <p:spPr>
          <a:xfrm>
            <a:off x="380880" y="115920"/>
            <a:ext cx="838224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4" descr="image016"/>
          <p:cNvPicPr/>
          <p:nvPr/>
        </p:nvPicPr>
        <p:blipFill>
          <a:blip r:embed="rId1"/>
          <a:stretch/>
        </p:blipFill>
        <p:spPr>
          <a:xfrm>
            <a:off x="304920" y="40968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SHE IS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the USS New York, </a:t>
            </a: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made from the   </a:t>
            </a: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World Trade Cen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8" descr="image015"/>
          <p:cNvPicPr/>
          <p:nvPr/>
        </p:nvPicPr>
        <p:blipFill>
          <a:blip r:embed="rId1"/>
          <a:stretch/>
        </p:blipFill>
        <p:spPr>
          <a:xfrm>
            <a:off x="304920" y="285840"/>
            <a:ext cx="8458200" cy="63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40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USS New York...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It was built with 24 tons of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crap steel from the  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World Trade Center .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It is the fifth in a new class of warship -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designed for missions that include special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operations against terrorists. It will carry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 crew of 360 sailors and 700 combat-ready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Marines to be delivered ashore by helicopters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nd assault craft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teel from the World Trade Center was melted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down in a foundry in Amite , LA to cast the ship's bow section. When it was poured into the molds on Sept 9, 2003, 'those big rough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teelworkers treated it with total reverence,'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recalled Navy Capt. Kevin Wensing, who was there.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2286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It was a spiritual moment for everybody there.'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Junior Chavers, foundry operations manager,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aid that when the trade center steel first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rrived, he touched it with his hand and the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hair on my neck stood up.'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It had a big meaning to it for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ll of us,' he said. 'They knocked us down.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They can't keep us down. We're going to be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back.'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The ship's motto?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Never Forget'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4" descr="image014"/>
          <p:cNvPicPr/>
          <p:nvPr/>
        </p:nvPicPr>
        <p:blipFill>
          <a:blip r:embed="rId1"/>
          <a:stretch/>
        </p:blipFill>
        <p:spPr>
          <a:xfrm>
            <a:off x="304920" y="214200"/>
            <a:ext cx="853416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800" spc="-1" strike="noStrike">
                <a:solidFill>
                  <a:srgbClr val="b7e7ff"/>
                </a:solidFill>
                <a:latin typeface="Arial"/>
              </a:rPr>
              <a:t>Please keep this going so everyone can see what we are made of in this country.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Picture 4" descr="image001"/>
          <p:cNvPicPr/>
          <p:nvPr/>
        </p:nvPicPr>
        <p:blipFill>
          <a:blip r:embed="rId1"/>
          <a:stretch/>
        </p:blipFill>
        <p:spPr>
          <a:xfrm>
            <a:off x="685800" y="600120"/>
            <a:ext cx="76960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The plane in these pictures is still officially the 'Air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Vehicle Number 1', a prototype, on board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USS George Wash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CVN-73 for catapult fit checks.  Not exactly still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Top Secret but certainly not yet made public.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It will be known as the F/A-37.  Although specs are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classified, it is believed to be Mach 3.5 (top speed in the Mach 4 range) super-cruise stealth fighter/bomber/interceptor with approximately a 4,000nm range.  Awesome!</a:t>
            </a:r>
            <a:r>
              <a:rPr b="0" lang="en-US" sz="2800" spc="-1" strike="noStrike">
                <a:solidFill>
                  <a:srgbClr val="b7e7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8" descr="image003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3" name="Picture 4" descr="image005"/>
          <p:cNvPicPr/>
          <p:nvPr/>
        </p:nvPicPr>
        <p:blipFill>
          <a:blip r:embed="rId1"/>
          <a:stretch/>
        </p:blipFill>
        <p:spPr>
          <a:xfrm>
            <a:off x="304920" y="480960"/>
            <a:ext cx="84582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Check out the Navy test pilot in the cockpit of the F/A-37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LT Kara Wad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image004"/>
          <p:cNvPicPr/>
          <p:nvPr/>
        </p:nvPicPr>
        <p:blipFill>
          <a:blip r:embed="rId1"/>
          <a:stretch/>
        </p:blipFill>
        <p:spPr>
          <a:xfrm>
            <a:off x="304920" y="430200"/>
            <a:ext cx="85341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For the first time in over 20 some odd years, three carrier strike groups got together in formation for a great photo op. 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From top to bottom are the aircraft carrier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ABRAHAM LINCOLN, KITTY HAWK and RONALD REAGA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23:21:16Z</dcterms:created>
  <dc:creator>Chris Casner</dc:creator>
  <dc:description/>
  <dc:language>en-US</dc:language>
  <cp:lastModifiedBy>jane.pilgrim</cp:lastModifiedBy>
  <dcterms:modified xsi:type="dcterms:W3CDTF">2010-07-16T11:10:20Z</dcterms:modified>
  <cp:revision>12</cp:revision>
  <dc:subject/>
  <dc:title>3 Carrier Groups  plus: USS New York </dc:title>
</cp:coreProperties>
</file>