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1DC-FFAF-4E6D-B39B-F94D56F0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1DF-E33E-4915-BD53-7564702B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9CF-C41E-4512-9CCF-A5937EB2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692-FBC4-4D92-A49E-FF6836D1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435-3CD7-4BE9-89BE-C29E547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4EE-EE0E-4B60-9375-F292A26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386-B7B6-4503-8E63-0FE6D154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069-5C71-4C2D-AD50-6E6C6CEB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429-2752-41E7-85B3-BC69ACDF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76A-9192-41A1-BBE2-6A6497D4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0E6-FBFD-4DCA-AF61-55119388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D02-85C3-415A-9859-8A9D315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D9530F-EE79-4690-AC7C-463FA4FA60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05080" y="0"/>
            <a:ext cx="4676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6736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8584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4791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44640" y="0"/>
            <a:ext cx="5622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1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348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51200" y="0"/>
            <a:ext cx="5287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734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</cp:lastModifiedBy>
  <dcterms:modified xsi:type="dcterms:W3CDTF">2009-03-12T05:52:36Z</dcterms:modified>
  <cp:revision>1</cp:revision>
  <dc:subject/>
  <dc:title>PowerPoint-Präsentation</dc:title>
</cp:coreProperties>
</file>