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17A-5079-417F-BACC-47249BF9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013-0FC1-4EB0-805A-E91647D9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2FC-4004-48D5-8C71-775D4ED3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A36-453D-4331-9198-78C93A44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BDA-C123-4CF0-9764-C01640D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F66-F436-4463-81F1-E1FDFA9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977-2CC7-44A6-8101-CD1E0FE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D7D-050D-4425-86A5-FB177657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657-2B17-495E-9E37-DE093E49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319-76C3-4968-9280-E0F7444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78B-63F2-4E55-999E-C83FB8B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95B-E4B7-4D1D-92FE-921DCEEC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A8AF2-F98F-4702-A480-D7D7EAA327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05080" y="0"/>
            <a:ext cx="4676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6736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8584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4791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44640" y="0"/>
            <a:ext cx="5622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10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348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1200" y="0"/>
            <a:ext cx="528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734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</cp:lastModifiedBy>
  <dcterms:modified xsi:type="dcterms:W3CDTF">2009-03-12T05:52:36Z</dcterms:modified>
  <cp:revision>1</cp:revision>
  <dc:subject/>
  <dc:title>PowerPoint-Präsentation</dc:title>
</cp:coreProperties>
</file>