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N11Brook%20Benton%20-%20Funny%20How%20Time%20Slips%20Away.wav" ContentType="audio/x-wav"/>
  <Override PartName="/ppt/media/image9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DB6-BB88-4A11-A742-C48B556C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2BD-BDBA-402B-B522-398F78BA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B98-5E44-464F-81C1-6A5BB196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FA5-D4D1-47EA-B9D0-1A1CB515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D0E-BD77-4E90-AC1E-E24FBD71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7A9-39FC-46ED-B780-5949285F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4A5-D552-4D2B-A7E7-F4DA015C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392-97BD-4B68-9224-91438A66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D66-1395-4EE2-B873-4762A9F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CB9-86B3-4919-8593-A686DC7A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C5A-FD19-43FC-90BC-9FDB4291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BF5-5D55-400A-BEB3-3D746012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1F51-4FE3-4CCD-8340-C255002D0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11Brook%20Benton%20-%20Funny%20How%20Time%20Slips%20Awa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-DOG DARE YOU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's This For Nostalg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0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467480" y="6095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by: Wil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838080" y="6248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Click to advance EACH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5268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considered a great privilege to be taken out to dinner at a real restaurant with your par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9"/>
          <p:cNvPicPr/>
          <p:nvPr/>
        </p:nvPicPr>
        <p:blipFill>
          <a:blip r:embed="rId1"/>
          <a:stretch/>
        </p:blipFill>
        <p:spPr>
          <a:xfrm>
            <a:off x="3889440" y="0"/>
            <a:ext cx="5254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10"/>
          <p:cNvPicPr/>
          <p:nvPr/>
        </p:nvPicPr>
        <p:blipFill>
          <a:blip r:embed="rId1"/>
          <a:stretch/>
        </p:blipFill>
        <p:spPr>
          <a:xfrm>
            <a:off x="-304920" y="-55440"/>
            <a:ext cx="9525240" cy="711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threatened to keep kids back a grade if they failed..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y did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1"/>
          <p:cNvPicPr/>
          <p:nvPr/>
        </p:nvPicPr>
        <p:blipFill>
          <a:blip r:embed="rId1"/>
          <a:stretch/>
        </p:blipFill>
        <p:spPr>
          <a:xfrm>
            <a:off x="1371600" y="1568520"/>
            <a:ext cx="6629400" cy="5289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57 Chevy was everyone's dream car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uise in, peel out, or watch drive-in movi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oys and girls went stea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428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 one ever asked where the car keys were because they were always in the the ignition and cars were never lock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2"/>
          <p:cNvPicPr/>
          <p:nvPr/>
        </p:nvPicPr>
        <p:blipFill>
          <a:blip r:embed="rId1"/>
          <a:stretch/>
        </p:blipFill>
        <p:spPr>
          <a:xfrm>
            <a:off x="2252520" y="1085760"/>
            <a:ext cx="4638960" cy="19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372600" cy="7000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ing on your back in the grass with your friends..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aying things like, 'That cloud looks like a... '?'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4"/>
          <p:cNvPicPr/>
          <p:nvPr/>
        </p:nvPicPr>
        <p:blipFill>
          <a:blip r:embed="rId1"/>
          <a:stretch/>
        </p:blipFill>
        <p:spPr>
          <a:xfrm>
            <a:off x="0" y="-181080"/>
            <a:ext cx="9372600" cy="7390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ing baseball with no adults to help kids with the rules of the ga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5"/>
          <p:cNvPicPr/>
          <p:nvPr/>
        </p:nvPicPr>
        <p:blipFill>
          <a:blip r:embed="rId1"/>
          <a:stretch/>
        </p:blipFill>
        <p:spPr>
          <a:xfrm>
            <a:off x="-228600" y="-157320"/>
            <a:ext cx="10439280" cy="716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ff from the store came without safety caps and hermetic seals because no one had yet tried to poison a perfect strang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2860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ith all our progress, don't you just wish just once, you could slip back in time and savor the slower pace and share it with the children of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6543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372600" cy="7404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eing sent to the principal's office was nothing compared to the fate that awaited students at h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87692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ally we were in fear for our lives, but it wasn't because of drive-by shootings, drugs, gangs, etc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parents and grandparents were a much bigger threat!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we survived because their love was greater than their threat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8"/>
          <p:cNvPicPr/>
          <p:nvPr/>
        </p:nvPicPr>
        <p:blipFill>
          <a:blip r:embed="rId1"/>
          <a:stretch/>
        </p:blipFill>
        <p:spPr>
          <a:xfrm>
            <a:off x="5002200" y="0"/>
            <a:ext cx="4141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19360" y="274320"/>
            <a:ext cx="4724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ver Young..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ad I grew up th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4295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19920" y="274680"/>
            <a:ext cx="266688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ur summers were filled with bike rides, Hula Hoops and visits to a pool, and eating Kool-Aid pow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5883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Doesn't it feel good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just to go back and say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'Yeah, I remember that'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312408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sharing this with you today and ending it with a Double Dog Dare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what a Double Dog Dare is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remember that the perfect age is somewhere between old enough to know better and too young to c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an still rememb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Howdy Doody”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-HowdyDoody"/>
          <p:cNvPicPr/>
          <p:nvPr/>
        </p:nvPicPr>
        <p:blipFill>
          <a:blip r:embed="rId1"/>
          <a:stretch/>
        </p:blipFill>
        <p:spPr>
          <a:xfrm>
            <a:off x="3745080" y="0"/>
            <a:ext cx="5398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38680" y="274320"/>
            <a:ext cx="335304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ne Ranger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adow Knows, Peanut Gallery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ie Bell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y and Dal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gger and Buttermi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1-LoneRanger"/>
          <p:cNvPicPr/>
          <p:nvPr/>
        </p:nvPicPr>
        <p:blipFill>
          <a:blip r:embed="rId1"/>
          <a:stretch/>
        </p:blipFill>
        <p:spPr>
          <a:xfrm>
            <a:off x="0" y="0"/>
            <a:ext cx="5533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dy cigarette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2-CandyCigs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 Coke-shaped bottles with colored sugar water insid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3-sugarpop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24-bClove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307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24-aTeaberry"/>
          <p:cNvPicPr/>
          <p:nvPr/>
        </p:nvPicPr>
        <p:blipFill>
          <a:blip r:embed="rId2"/>
          <a:stretch/>
        </p:blipFill>
        <p:spPr>
          <a:xfrm>
            <a:off x="0" y="3841920"/>
            <a:ext cx="5410080" cy="3016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a pop machines that dispensed glass bottles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ffee shops with Table Side Jukeboxes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jack, Clove and Teaberry chewing g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22860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milk delive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lass bottles with cardboard lid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5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sreels before the movie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6"/>
          <p:cNvPicPr/>
          <p:nvPr/>
        </p:nvPicPr>
        <p:blipFill>
          <a:blip r:embed="rId1"/>
          <a:stretch/>
        </p:blipFill>
        <p:spPr>
          <a:xfrm>
            <a:off x="-304920" y="1371600"/>
            <a:ext cx="998244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 number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word prefix... (YUkon 2-601).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y line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7"/>
          <p:cNvPicPr/>
          <p:nvPr/>
        </p:nvPicPr>
        <p:blipFill>
          <a:blip r:embed="rId1"/>
          <a:stretch/>
        </p:blipFill>
        <p:spPr>
          <a:xfrm>
            <a:off x="304920" y="2203560"/>
            <a:ext cx="7238880" cy="46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7459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took three minutes for a TV to warm u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57440" y="3352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ashoo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8-PeaShooters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-Fi's, 78 &amp; 45 RPM record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9-45RPM"/>
          <p:cNvPicPr/>
          <p:nvPr/>
        </p:nvPicPr>
        <p:blipFill>
          <a:blip r:embed="rId1"/>
          <a:stretch/>
        </p:blipFill>
        <p:spPr>
          <a:xfrm>
            <a:off x="0" y="0"/>
            <a:ext cx="2819520" cy="2787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30-78RPM"/>
          <p:cNvPicPr/>
          <p:nvPr/>
        </p:nvPicPr>
        <p:blipFill>
          <a:blip r:embed="rId2"/>
          <a:stretch/>
        </p:blipFill>
        <p:spPr>
          <a:xfrm>
            <a:off x="4648320" y="3483000"/>
            <a:ext cx="449568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0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S&amp;H) Green Stamp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Taste of Licking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ing them into boo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31-GreenStamps"/>
          <p:cNvPicPr/>
          <p:nvPr/>
        </p:nvPicPr>
        <p:blipFill>
          <a:blip r:embed="rId1"/>
          <a:stretch/>
        </p:blipFill>
        <p:spPr>
          <a:xfrm>
            <a:off x="2514600" y="1447920"/>
            <a:ext cx="3902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meograph paper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Sniffing Duplicator Fluid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32-Mimeo"/>
          <p:cNvPicPr/>
          <p:nvPr/>
        </p:nvPicPr>
        <p:blipFill>
          <a:blip r:embed="rId1"/>
          <a:stretch/>
        </p:blipFill>
        <p:spPr>
          <a:xfrm>
            <a:off x="0" y="1512720"/>
            <a:ext cx="9144000" cy="53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33-FortApache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ort Apache Play Se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 You Remember A Time Wh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. . 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were made by going 'eeny-meeny-miney-moe'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istakes were corrected by simply exclaiming, 'Do Over’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Race issue' meant arguing about who ran the fastes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34-OurGang"/>
          <p:cNvPicPr/>
          <p:nvPr/>
        </p:nvPicPr>
        <p:blipFill>
          <a:blip r:embed="rId1"/>
          <a:stretch/>
        </p:blipFill>
        <p:spPr>
          <a:xfrm>
            <a:off x="1981080" y="2301840"/>
            <a:ext cx="525780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tching Fireflies Could Happily Occupy An Entire Ev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35-FireFlies"/>
          <p:cNvPicPr/>
          <p:nvPr/>
        </p:nvPicPr>
        <p:blipFill>
          <a:blip r:embed="rId1"/>
          <a:stretch/>
        </p:blipFill>
        <p:spPr>
          <a:xfrm>
            <a:off x="3792600" y="0"/>
            <a:ext cx="5351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36-SnowFort"/>
          <p:cNvPicPr/>
          <p:nvPr/>
        </p:nvPicPr>
        <p:blipFill>
          <a:blip r:embed="rId1"/>
          <a:stretch/>
        </p:blipFill>
        <p:spPr>
          <a:xfrm>
            <a:off x="0" y="0"/>
            <a:ext cx="9144000" cy="7523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n't odd to have two or three 'Best Friend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040" y="274320"/>
            <a:ext cx="43434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ving a Weapon in School meant being caught with a Slingsh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37-SlingShot"/>
          <p:cNvPicPr/>
          <p:nvPr/>
        </p:nvPicPr>
        <p:blipFill>
          <a:blip r:embed="rId1"/>
          <a:stretch/>
        </p:blipFill>
        <p:spPr>
          <a:xfrm>
            <a:off x="0" y="0"/>
            <a:ext cx="427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day morning cartoons weren't 30-minute commercials for action fig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38-Cartoons"/>
          <p:cNvPicPr/>
          <p:nvPr/>
        </p:nvPicPr>
        <p:blipFill>
          <a:blip r:embed="rId1"/>
          <a:stretch/>
        </p:blipFill>
        <p:spPr>
          <a:xfrm>
            <a:off x="990720" y="1504800"/>
            <a:ext cx="7238880" cy="53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19920" y="274320"/>
            <a:ext cx="266688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body owned a purebred d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0" y="-533520"/>
            <a:ext cx="571500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'Oly-oly-oxen-free'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de perfect s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39-OlyOlyOxenFree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52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ning around, getting dizzy, and falling down was cause for giggles?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40-GirlsDance"/>
          <p:cNvPicPr/>
          <p:nvPr/>
        </p:nvPicPr>
        <p:blipFill>
          <a:blip r:embed="rId1"/>
          <a:stretch/>
        </p:blipFill>
        <p:spPr>
          <a:xfrm>
            <a:off x="0" y="131760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41-Team"/>
          <p:cNvPicPr/>
          <p:nvPr/>
        </p:nvPicPr>
        <p:blipFill>
          <a:blip r:embed="rId1"/>
          <a:stretch/>
        </p:blipFill>
        <p:spPr>
          <a:xfrm>
            <a:off x="-76320" y="-291960"/>
            <a:ext cx="9525240" cy="7226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orst Embarrassment was being picked last for 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42-Cards"/>
          <p:cNvPicPr/>
          <p:nvPr/>
        </p:nvPicPr>
        <p:blipFill>
          <a:blip r:embed="rId2"/>
          <a:stretch/>
        </p:blipFill>
        <p:spPr>
          <a:xfrm>
            <a:off x="-76320" y="0"/>
            <a:ext cx="6782040" cy="6781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720" y="274680"/>
            <a:ext cx="259092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’ was a card g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ll cards in the spokes transformed any bike into a motor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43-Bike"/>
          <p:cNvPicPr/>
          <p:nvPr/>
        </p:nvPicPr>
        <p:blipFill>
          <a:blip r:embed="rId1"/>
          <a:stretch/>
        </p:blipFill>
        <p:spPr>
          <a:xfrm>
            <a:off x="0" y="1314360"/>
            <a:ext cx="91440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44-BabyAspirin"/>
          <p:cNvPicPr/>
          <p:nvPr/>
        </p:nvPicPr>
        <p:blipFill>
          <a:blip r:embed="rId1"/>
          <a:stretch/>
        </p:blipFill>
        <p:spPr>
          <a:xfrm>
            <a:off x="152280" y="1333440"/>
            <a:ext cx="8839440" cy="5343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ing drugs meant orange flavored chewable aspir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ter balloons wer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ultimate weap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45-WaterBaloons"/>
          <p:cNvPicPr/>
          <p:nvPr/>
        </p:nvPicPr>
        <p:blipFill>
          <a:blip r:embed="rId1"/>
          <a:stretch/>
        </p:blipFill>
        <p:spPr>
          <a:xfrm>
            <a:off x="838080" y="1525680"/>
            <a:ext cx="746784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50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can remembe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st or all of these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n You Have Lived!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 you know Anyo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may need a brea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their 'Grown-Up' Lif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accurate ‘Retiree’s life’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Double-Dog-Dare-Ya to share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1680" y="35064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quarter was a decent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4"/>
          <p:cNvPicPr/>
          <p:nvPr/>
        </p:nvPicPr>
        <p:blipFill>
          <a:blip r:embed="rId1"/>
          <a:stretch/>
        </p:blipFill>
        <p:spPr>
          <a:xfrm>
            <a:off x="-457200" y="0"/>
            <a:ext cx="72388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5"/>
          <p:cNvPicPr/>
          <p:nvPr/>
        </p:nvPicPr>
        <p:blipFill>
          <a:blip r:embed="rId1"/>
          <a:stretch/>
        </p:blipFill>
        <p:spPr>
          <a:xfrm>
            <a:off x="2209680" y="0"/>
            <a:ext cx="6934320" cy="6894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5638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'd reach into 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ddy gutter for a penny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Mom wore nylons that came in two pie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6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7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67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got your windshield cleaned, oil checked and gas pumped, without asking. All for free, every time! And you didn't pay for air and you got trading stamps to bo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ndry detergent had free glasse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hes or towels hidden inside the bo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8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49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21:04:10Z</dcterms:created>
  <dc:creator>Steve</dc:creator>
  <dc:description/>
  <dc:language>en-US</dc:language>
  <cp:lastModifiedBy>William Clark</cp:lastModifiedBy>
  <dcterms:modified xsi:type="dcterms:W3CDTF">2012-11-20T19:47:48Z</dcterms:modified>
  <cp:revision>18</cp:revision>
  <dc:subject/>
  <dc:title>DOUBLE-DOG DARE YOU!!</dc:title>
</cp:coreProperties>
</file>