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FF0-C7E9-45E7-9318-E2CF9039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19A-CAB0-4D24-AF58-8F48B4B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F09-1C92-4EB1-AED5-C97830E1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A0B-95AA-4253-BD29-EA8343D6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628-5943-42D5-AD25-970B23E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D5F-E39D-45A2-8C45-CC79ED5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607-34F6-45D2-85C3-FCA5610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EA4-0983-4269-B999-F3C894C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E62-DC7C-434E-AD61-5EFEAD5A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CB9-0E1C-48F8-9DAE-DA494317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8FB-52CB-4F6C-898C-CECA16C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15C-5088-439B-B25B-BFAB350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3FC-9F8C-457F-B5C9-DB64ABFBDAA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ép 1" descr="1.jpg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ép 1" descr="1214501913p11GPb6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ép 1" descr="1215943089gdZ4IB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ép 1" descr="1217308211jtf2xSk.jpg"/>
          <p:cNvPicPr/>
          <p:nvPr/>
        </p:nvPicPr>
        <p:blipFill>
          <a:blip r:embed="rId1"/>
          <a:stretch/>
        </p:blipFill>
        <p:spPr>
          <a:xfrm>
            <a:off x="-974880" y="0"/>
            <a:ext cx="1011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ép 1" descr="1219371034a3vBPEd.jpg"/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ép 1" descr="1206912923JYmqhV8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" descr="1217477432hrDdsq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ép 1" descr="1252358926kdrfcp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ép 1" descr="1221345313b1aKAgF.jpg"/>
          <p:cNvPicPr/>
          <p:nvPr/>
        </p:nvPicPr>
        <p:blipFill>
          <a:blip r:embed="rId1"/>
          <a:stretch/>
        </p:blipFill>
        <p:spPr>
          <a:xfrm>
            <a:off x="-20520" y="0"/>
            <a:ext cx="929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ép 1" descr="1222697958spvMSvd.jpg"/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ép 1" descr="1220684071Fr4BwHn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ép 1" descr="1215435752rPdJ8Zt.jpg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Kép 1" descr="1221940516ApBM9fl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ép 1" descr="1222692441PW87huW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Kép 1" descr="1223002632ygPd8k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Kép 1" descr="1224770638m96C4G8.jpg"/>
          <p:cNvPicPr/>
          <p:nvPr/>
        </p:nvPicPr>
        <p:blipFill>
          <a:blip r:embed="rId1"/>
          <a:stretch/>
        </p:blipFill>
        <p:spPr>
          <a:xfrm>
            <a:off x="-225360" y="0"/>
            <a:ext cx="936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Kép 1" descr="1227255735jcsaDNf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Kép 1" descr="1231938387Wfj8vu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Kép 1" descr="1226341272zpWJ3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Kép 1" descr="1216253921eFYgQNN.jp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Kép 1" descr="1226363821FfEAjt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Kép 1" descr="1236747295GILDJVM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ép 1" descr="1206130799dat7IY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Kép 1" descr="1234365292UzKCEs7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ép 1" descr="12250311233HhAm7g.jpg"/>
          <p:cNvPicPr/>
          <p:nvPr/>
        </p:nvPicPr>
        <p:blipFill>
          <a:blip r:embed="rId1"/>
          <a:stretch/>
        </p:blipFill>
        <p:spPr>
          <a:xfrm>
            <a:off x="-582480" y="0"/>
            <a:ext cx="972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ép 1" descr="1226579098yWkybeW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Kép 1" descr="1231328064NWnXsc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Kép 1" descr="1237444292F2vBeX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Kép 1" descr="1238072960Bhp8ftt.jpg"/>
          <p:cNvPicPr/>
          <p:nvPr/>
        </p:nvPicPr>
        <p:blipFill>
          <a:blip r:embed="rId1"/>
          <a:stretch/>
        </p:blipFill>
        <p:spPr>
          <a:xfrm>
            <a:off x="-298440" y="0"/>
            <a:ext cx="1013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Kép 1" descr="1246966528Acvylq7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Kép 1" descr="1219510660JQ7ugC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Kép 1" descr="1248248263xZQRKB7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Kép 1" descr="1238168601qdbGM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ép 1" descr="1206330478g8saKwx.jpg"/>
          <p:cNvPicPr/>
          <p:nvPr/>
        </p:nvPicPr>
        <p:blipFill>
          <a:blip r:embed="rId1"/>
          <a:stretch/>
        </p:blipFill>
        <p:spPr>
          <a:xfrm>
            <a:off x="-441360" y="0"/>
            <a:ext cx="958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ép 1" descr="1255432930AhheSRq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ép 1" descr="12163785598X7Gc6h.jpg"/>
          <p:cNvPicPr/>
          <p:nvPr/>
        </p:nvPicPr>
        <p:blipFill>
          <a:blip r:embed="rId1"/>
          <a:stretch/>
        </p:blipFill>
        <p:spPr>
          <a:xfrm>
            <a:off x="-625320" y="0"/>
            <a:ext cx="9769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ép 1" descr="12200037763rUnRV8.jpg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ép 1" descr="12211861522LXkSK6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ép 1" descr="12299734909xMYL6E.jpg"/>
          <p:cNvPicPr/>
          <p:nvPr/>
        </p:nvPicPr>
        <p:blipFill>
          <a:blip r:embed="rId1"/>
          <a:stretch/>
        </p:blipFill>
        <p:spPr>
          <a:xfrm>
            <a:off x="0" y="-1214280"/>
            <a:ext cx="9144000" cy="90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ép 1" descr="12351534237SE6us4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ép 1" descr="v6fJ4zF7Zw4v.jpg"/>
          <p:cNvPicPr/>
          <p:nvPr/>
        </p:nvPicPr>
        <p:blipFill>
          <a:blip r:embed="rId1"/>
          <a:stretch/>
        </p:blipFill>
        <p:spPr>
          <a:xfrm>
            <a:off x="-127080" y="-214200"/>
            <a:ext cx="9485280" cy="72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ép 1" descr="uVkZYwzuEram.jpg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ép 1" descr="1227478263nM3hQy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ép 1" descr="1229875506eFsPGu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ép 1" descr="1207865305nzgGRwj.jpg"/>
          <p:cNvPicPr/>
          <p:nvPr/>
        </p:nvPicPr>
        <p:blipFill>
          <a:blip r:embed="rId1"/>
          <a:stretch/>
        </p:blipFill>
        <p:spPr>
          <a:xfrm>
            <a:off x="-270000" y="0"/>
            <a:ext cx="941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ép 1" descr="1225281498DFXtZ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ép 1" descr="1219888920WXx4cbq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ép 1" descr="5GKpYqiQkDAC.jpg"/>
          <p:cNvPicPr/>
          <p:nvPr/>
        </p:nvPicPr>
        <p:blipFill>
          <a:blip r:embed="rId1"/>
          <a:stretch/>
        </p:blipFill>
        <p:spPr>
          <a:xfrm>
            <a:off x="-214200" y="-214200"/>
            <a:ext cx="9572400" cy="72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ép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1212639278g5XaC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ép 1" descr="1214346386IBxFwl3.jpg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885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41:02Z</dcterms:created>
  <dc:creator>Consul</dc:creator>
  <dc:description/>
  <dc:language>en-US</dc:language>
  <cp:lastModifiedBy>Philip Cheung</cp:lastModifiedBy>
  <dcterms:modified xsi:type="dcterms:W3CDTF">2010-02-24T04:06:52Z</dcterms:modified>
  <cp:revision>28</cp:revision>
  <dc:subject/>
  <dc:title>1. 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