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7.jpeg" ContentType="image/jpeg"/>
  <Override PartName="/ppt/media/image38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C2BB-1EAB-4DD7-A9DE-3C7B4DC9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AF48-7931-4D82-B9FA-1A876B89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ECFF-9062-46DB-A781-9D5EEBD9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E02F-9D15-4DB6-B281-6D4D1748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1AF2-CC7C-4CB7-808A-09A6E569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2EE-1644-4DF8-94ED-662278B6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079C-432D-4A7F-BD78-6E9E2DAC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493C-B8EF-439B-A959-4329C164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232-D7A6-4474-BE16-BF032686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D3B8-7397-47D6-B28E-94F8EC73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C96F-80CF-463D-A4E1-4D9CDE6B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26AC-5AA5-4B49-8AF5-D432F022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E5F1-67D6-4754-9B2C-588247EEE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447920" y="0"/>
            <a:ext cx="624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5410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LC-6 receives its first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lta 4-Heavy rocket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mbled Delta 4-Heavy rocket is transported from the Horizontal Integration Facility to the pad at Vandenberg Air Force Base's Space Launch Complex 6 in January 2010 to begin extensive testing and preparation for the first West Coast flight of the massive vehicle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274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lta 4-Heavy rocket goes vertical at SLC-6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xed pad erector uses hydraulic pistons to lift the Delta 4-Heavy rocket upright and place the vehicle atop the pad at Vandenberg Air Force Base's Space Launch Complex 6 in January 2010. The action occurs inside the protective confines of the mobile assembly shelter that shrouds the 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190600" y="0"/>
            <a:ext cx="476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7652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67652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43080" y="0"/>
            <a:ext cx="48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ifornia's first Delta 4-Heavy arrives at Vandenberg AFB, CA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ree Common Booster Cores and the cryogenic upper stage to comprise the West Coast's first Delta 4-Heavy rocket arrives aboard the Delta Mariner shipping vessel at Vandenberg Air Force Base's harbor in September 2009 after a month-long, 4,000-mile voyage from the factory in Alabama, including a trip through the Panama Canal. The rocket segments were transported up the road to Space Launch Complex 6 and the Horizontal Integration Facility for assemb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ssive Delta rocket nearly ready for launch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images show the Delta 4-Heavy rocket as workers retracted an assembly shelter on the eve of blastoff from Space Launch Complex 6 at Vandenberg Air Force Base, Calif. The triple-body launcher will send a classified U.S. spy satellite into orbit for the National Reconnaissance Office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190600" y="0"/>
            <a:ext cx="476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90600" y="0"/>
            <a:ext cx="476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lta 4-Heavy rocket revealed for launch at VAFB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elta 4-Heavy rocket is unveiled for its critical national security satellite launch as the mobile service gantry is retracted from the mammoth booster at Vandenberg's Space Launch Complex 6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 January 201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05740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502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unch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cket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elta 4-Heav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yload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ROL-49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Jan. 20, 2011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1:08 p.m. PST (4:08 p.m. EST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LC-6, Vandenberg AFB, Calif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133720" y="0"/>
            <a:ext cx="441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3:41:37Z</dcterms:created>
  <dc:creator>Edward H. Meyer</dc:creator>
  <dc:description/>
  <dc:language>en-US</dc:language>
  <cp:lastModifiedBy>Edward H. Meyer</cp:lastModifiedBy>
  <dcterms:modified xsi:type="dcterms:W3CDTF">2011-01-21T03:14:24Z</dcterms:modified>
  <cp:revision>18</cp:revision>
  <dc:subject/>
  <dc:title>California's first Delta 4-Heavy arrives at Vandenberg AFB, CA  The three Common Booster Cores and the cryogenic upper stage to comprise the West Coast's first Delta 4-Heavy rocket arrives aboard the Delta Mariner shipping vessel at Vandenberg Air Force Base's harbor in September 2009 after a month-long, 4,000-mile voyage from the factory in Alabama, including a trip through the Panama Canal. The rocket segments were transported up the road to Space Launch Complex 6 and the Horizontal Integration Facility for assembly. </dc:title>
</cp:coreProperties>
</file>