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B61-EDFC-4895-AF8B-2972772A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F92-9219-47E9-8130-E533592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499-3466-45C9-9D87-A712976F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F50-33FB-4FDF-B661-37A606D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050-2D87-4C72-B99C-ABD5D80F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ED9-8F15-4006-825B-0AF7084F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9F2-05A4-4326-841C-36EE1D3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CE6-B1A9-437B-9E7E-E65FC7E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858-B106-4CE7-B887-03332AD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70D-4C46-48A9-990F-9172EF0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B0B-468A-4C41-9382-D25F0A4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B15-D0BD-4F4B-AA41-D1023E5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D36-36C7-4137-8927-04370ABC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2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C-6 receives its firs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mbled Delta 4-Heavy rocket is transported from the Horizontal Integration Facility to the pad at Vandenberg Air Force Base's Space Launch Complex 6 in January 2010 to begin extensive testing and preparation for the first West Coast flight of the massive vehi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 goes vertical at SLC-6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xed pad erector uses hydraulic pistons to lift the Delta 4-Heavy rocket upright and place the vehicle atop the pad at Vandenberg Air Force Base's Space Launch Complex 6 in January 2010. The action occurs inside the protective confines of the mobile assembly shelter that shrouds the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ifornia's first Delta 4-Heavy arrives at Vandenberg AFB, CA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Common Booster Cores and the cryogenic upper stage to comprise the West Coast's first Delta 4-Heavy rocket arrives aboard the Delta Mariner shipping vessel at Vandenberg Air Force Base's harbor in September 2009 after a month-long, 4,000-mile voyage from the factory in Alabama, including a trip through the Panama Canal. The rocket segments were transported up the road to Space Launch Complex 6 and the Horizontal Integration Facility for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ive Delta rocket nearly ready for laun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mages show the Delta 4-Heavy rocket as workers retracted an assembly shelter on the eve of blastoff from Space Launch Complex 6 at Vandenberg Air Force Base, Calif. The triple-body launcher will send a classified U.S. spy satellite into orbit for the National Reconnaissance Offic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ta 4-Heavy rocket revealed for launch at VAFB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lta 4-Heavy rocket is unveiled for its critical national security satellite launch as the mobile service gantry is retracted from the mammoth booster at Vandenberg's Space Launch Complex 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January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unch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cket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lta 4-Heav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load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ROL-49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an. 20,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:08 p.m. PST (4:08 p.m. EST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LC-6, Vandenberg AFB, Calif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76640" y="0"/>
            <a:ext cx="459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41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3:41:37Z</dcterms:created>
  <dc:creator>Edward H. Meyer</dc:creator>
  <dc:description/>
  <dc:language>en-US</dc:language>
  <cp:lastModifiedBy>Edward H. Meyer</cp:lastModifiedBy>
  <dcterms:modified xsi:type="dcterms:W3CDTF">2011-01-21T03:14:24Z</dcterms:modified>
  <cp:revision>18</cp:revision>
  <dc:subject/>
  <dc:title>California's first Delta 4-Heavy arrives at Vandenberg AFB, CA  The three Common Booster Cores and the cryogenic upper stage to comprise the West Coast's first Delta 4-Heavy rocket arrives aboard the Delta Mariner shipping vessel at Vandenberg Air Force Base's harbor in September 2009 after a month-long, 4,000-mile voyage from the factory in Alabama, including a trip through the Panama Canal. The rocket segments were transported up the road to Space Launch Complex 6 and the Horizontal Integration Facility for assembly. </dc:title>
</cp:coreProperties>
</file>