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TwilightZone%20(Short)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209-C355-4EE5-9068-DE469D90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288-2A93-4001-9FA4-7E07BF1A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93C-4298-496D-8432-5C454CDA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CB1-0D9F-4967-BA26-A85C77C0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32A-572C-437E-85C2-F0C3FD89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21D-D430-4F23-AB05-9C20453A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D57-D6D2-4BEF-9BC7-1AF865BB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89D-E285-4610-9A63-1C64E097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32A-69F0-4033-9747-90BB51B5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DA0-0072-4567-8203-1120D7B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3DD-149F-40AA-A029-4132E6D0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DE5-C0F4-4AF8-BEB1-16E455E2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5937-5A40-4696-B675-13F66DE55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TwilightZone%20(Short)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6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92880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Comic Sans MS"/>
              </a:rPr>
              <a:t>I CAN SEE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It’s </a:t>
            </a:r>
            <a:fld id="{6FF2752E-6709-4977-96B0-0E1F453A6F66}" type="datetime12">
              <a:rPr b="1" lang="en-US" sz="3200" spc="-1" strike="noStrike">
                <a:solidFill>
                  <a:srgbClr val="ffffff"/>
                </a:solidFill>
                <a:latin typeface="Comic Sans MS"/>
              </a:rPr>
              <a:t>04:44 PM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9200-779A-435B-9BA0-B7071CA3B893}" type="datetime2"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riday, July 31, 2026</a:t>
            </a:fld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657600" y="2286000"/>
            <a:ext cx="1819440" cy="905040"/>
            <a:chOff x="3657600" y="2286000"/>
            <a:chExt cx="1819440" cy="9050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572000" y="2286000"/>
              <a:ext cx="90504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657600" y="2286000"/>
              <a:ext cx="905040" cy="90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0" y="571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As usual, you are not doing Squat !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47:50Z</dcterms:created>
  <dc:creator/>
  <dc:description/>
  <dc:language>en-US</dc:language>
  <cp:lastModifiedBy/>
  <dcterms:modified xsi:type="dcterms:W3CDTF">2009-02-01T23:01:58Z</dcterms:modified>
  <cp:revision>11</cp:revision>
  <dc:subject/>
  <dc:title> </dc:title>
</cp:coreProperties>
</file>