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TwilightZone%20(Short)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5A4-BFB8-4FB0-ABE7-CDAD2180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223-6973-4653-8F82-E17348C3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F01A-70EE-4285-997E-7EED4332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7787-3ABD-48D2-ABA5-2E2EDA07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F18-43BA-4EBA-84DC-19451FE1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9030-4F81-4EEE-A87A-32E5039D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E27-B2C0-44D4-8A25-11C7FC44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41B-E848-43B8-94FA-992BF9CE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E5F-00B9-4A9B-8226-8A9685E5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BB1-BD45-41DB-BA3D-C69B1D6F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3E7-C8C7-4A03-8D3B-CA926FF0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816-C8EF-4E62-8EFC-EAB39D41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0464-661F-41CE-936F-2DA25336A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audio" Target="../media/TwilightZone%20(Short)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76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928800"/>
            <a:ext cx="82296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Comic Sans MS"/>
              </a:rPr>
              <a:t>I CAN SEE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It’s </a:t>
            </a:r>
            <a:fld id="{0772F23C-2391-4661-AE59-666DEA98630B}" type="datetime12">
              <a:rPr b="1" lang="en-US" sz="3200" spc="-1" strike="noStrike">
                <a:solidFill>
                  <a:srgbClr val="ffffff"/>
                </a:solidFill>
                <a:latin typeface="Comic Sans MS"/>
              </a:rPr>
              <a:t>07:19 AM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06B6-9CAA-4804-A58B-03381C210573}" type="datetime2"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ednesday, July 29, 2026</a:t>
            </a:fld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657600" y="2286000"/>
            <a:ext cx="1819440" cy="905040"/>
            <a:chOff x="3657600" y="2286000"/>
            <a:chExt cx="1819440" cy="9050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572000" y="2286000"/>
              <a:ext cx="90504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657600" y="2286000"/>
              <a:ext cx="905040" cy="90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"/>
          <p:cNvSpPr/>
          <p:nvPr/>
        </p:nvSpPr>
        <p:spPr>
          <a:xfrm>
            <a:off x="0" y="5715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As usual, you are not doing Squat !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3:47:50Z</dcterms:created>
  <dc:creator/>
  <dc:description/>
  <dc:language>en-US</dc:language>
  <cp:lastModifiedBy/>
  <dcterms:modified xsi:type="dcterms:W3CDTF">2009-02-01T23:01:58Z</dcterms:modified>
  <cp:revision>11</cp:revision>
  <dc:subject/>
  <dc:title> </dc:title>
</cp:coreProperties>
</file>