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xxxxxelcondorpasasimonandgarfunkel.wav" ContentType="audio/x-wav"/>
  <Override PartName="/ppt/media/image30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50.gif" ContentType="image/gif"/>
  <Override PartName="/ppt/media/image12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83B-6557-4484-B509-07BD888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4E3-4C66-46F8-A639-EBA97B1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AF2-CA2C-40E3-90BB-BC32FF56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8CD-EDFC-4AF6-AEA2-F283021A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D51-6CC0-404A-8531-474A6FE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D61-3B50-4A31-ABCA-896C842E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DF5-420F-4B57-A5A1-7F94276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8CC-AAC5-43BD-BEE5-A8B41B5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063-F6E1-49C6-B6FA-C478DD8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56B-D3BB-4E4D-AB5F-93D2FD8E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F58-F43E-40F2-9C99-1C7172C3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C6D-C8BF-4E76-B8EE-F6314C7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12E-29E2-4EE5-BCE1-67BA95B6C56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xxxxelcondorpasasimonandgarfunke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1" descr="133713.jpg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642960" y="64296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7.40741E-007 L 0.63195 -0.01435 E">
                                      <p:cBhvr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63195 -0.01435 L 0.63195 0.74167 E">
                                      <p:cBhvr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63194 0.74166 L 0.02569 0.10115 E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1" descr="1341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1348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1" descr="1349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135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1363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1452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1369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138017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138040.jpg"/>
          <p:cNvPicPr/>
          <p:nvPr/>
        </p:nvPicPr>
        <p:blipFill>
          <a:blip r:embed="rId1"/>
          <a:stretch/>
        </p:blipFill>
        <p:spPr>
          <a:xfrm>
            <a:off x="3376440" y="0"/>
            <a:ext cx="31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138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" descr="13726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1333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146283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1384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134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1" descr="1388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138861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1397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1398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14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fbeelding 1" descr="1423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fbeelding 1" descr="1329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1" descr="142356.jpg"/>
          <p:cNvPicPr/>
          <p:nvPr/>
        </p:nvPicPr>
        <p:blipFill>
          <a:blip r:embed="rId1"/>
          <a:stretch/>
        </p:blipFill>
        <p:spPr>
          <a:xfrm>
            <a:off x="190008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1" descr="141759.jpg"/>
          <p:cNvPicPr/>
          <p:nvPr/>
        </p:nvPicPr>
        <p:blipFill>
          <a:blip r:embed="rId1"/>
          <a:stretch/>
        </p:blipFill>
        <p:spPr>
          <a:xfrm>
            <a:off x="2165400" y="0"/>
            <a:ext cx="48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141412.jpg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1412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140986.jpg"/>
          <p:cNvPicPr/>
          <p:nvPr/>
        </p:nvPicPr>
        <p:blipFill>
          <a:blip r:embed="rId1"/>
          <a:stretch/>
        </p:blipFill>
        <p:spPr>
          <a:xfrm>
            <a:off x="111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" descr="140771.jpg"/>
          <p:cNvPicPr/>
          <p:nvPr/>
        </p:nvPicPr>
        <p:blipFill>
          <a:blip r:embed="rId1"/>
          <a:stretch/>
        </p:blipFill>
        <p:spPr>
          <a:xfrm>
            <a:off x="2111400" y="0"/>
            <a:ext cx="49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140682.jpg"/>
          <p:cNvPicPr/>
          <p:nvPr/>
        </p:nvPicPr>
        <p:blipFill>
          <a:blip r:embed="rId1"/>
          <a:stretch/>
        </p:blipFill>
        <p:spPr>
          <a:xfrm>
            <a:off x="188424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1426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1" descr="1443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4432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fbeelding 1" descr="131993.jpg"/>
          <p:cNvPicPr/>
          <p:nvPr/>
        </p:nvPicPr>
        <p:blipFill>
          <a:blip r:embed="rId1"/>
          <a:stretch/>
        </p:blipFill>
        <p:spPr>
          <a:xfrm>
            <a:off x="207180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144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1" descr="144607.jpg"/>
          <p:cNvPicPr/>
          <p:nvPr/>
        </p:nvPicPr>
        <p:blipFill>
          <a:blip r:embed="rId1"/>
          <a:stretch/>
        </p:blipFill>
        <p:spPr>
          <a:xfrm>
            <a:off x="1425600" y="0"/>
            <a:ext cx="62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fbeelding 1" descr="1451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1453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1" descr="1467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146729.jpg"/>
          <p:cNvPicPr/>
          <p:nvPr/>
        </p:nvPicPr>
        <p:blipFill>
          <a:blip r:embed="rId1"/>
          <a:stretch/>
        </p:blipFill>
        <p:spPr>
          <a:xfrm>
            <a:off x="0" y="0"/>
            <a:ext cx="976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fbeelding 1" descr="largest-rabbit-alive-unbelievable-548116_400_306.jpg"/>
          <p:cNvPicPr/>
          <p:nvPr/>
        </p:nvPicPr>
        <p:blipFill>
          <a:blip r:embed="rId1"/>
          <a:stretch/>
        </p:blipFill>
        <p:spPr>
          <a:xfrm>
            <a:off x="8892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147094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fbeelding 1" descr="1456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fbeelding 1" descr="theend.png"/>
          <p:cNvPicPr/>
          <p:nvPr/>
        </p:nvPicPr>
        <p:blipFill>
          <a:blip r:embed="rId1"/>
          <a:stretch/>
        </p:blipFill>
        <p:spPr>
          <a:xfrm>
            <a:off x="417600" y="500040"/>
            <a:ext cx="8308800" cy="5857920"/>
          </a:xfrm>
          <a:prstGeom prst="rect">
            <a:avLst/>
          </a:prstGeom>
          <a:ln w="0">
            <a:noFill/>
          </a:ln>
        </p:spPr>
      </p:pic>
      <p:sp>
        <p:nvSpPr>
          <p:cNvPr id="91" name="Rechthoek 2"/>
          <p:cNvSpPr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Afbeelding 4" descr="lijn have a nice day.gif"/>
          <p:cNvPicPr/>
          <p:nvPr/>
        </p:nvPicPr>
        <p:blipFill>
          <a:blip r:embed="rId2"/>
          <a:stretch/>
        </p:blipFill>
        <p:spPr>
          <a:xfrm>
            <a:off x="2571840" y="2500200"/>
            <a:ext cx="39607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133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1" descr="1337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133767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fbeelding 1" descr="1338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fbeelding 1" descr="13387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09:12Z</dcterms:created>
  <dc:creator>peter</dc:creator>
  <dc:description/>
  <dc:language>en-US</dc:language>
  <cp:lastModifiedBy>gb</cp:lastModifiedBy>
  <dcterms:modified xsi:type="dcterms:W3CDTF">2009-02-19T19:39:26Z</dcterms:modified>
  <cp:revision>4</cp:revision>
  <dc:subject/>
  <dc:title>Dia 1</dc:title>
</cp:coreProperties>
</file>