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7273-5CF6-4C00-8631-3373C20974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94D3-0B91-4448-BC04-7EA24716D268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F559-647F-4DFA-9225-BD603669417B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650A-8E78-4245-BA76-B036E1C01BE5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F234-CFB8-4A8E-9C05-6033A7CA41C0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B403-57E5-45E9-8308-614371CF8E02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4B25-24AD-41B3-9D39-A748CFD378CF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7E64-F29A-49AC-99F9-6B8DE0ED353A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369F-4C96-4377-A157-5D045DE607BA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A8CB-0266-4006-824D-5EF4D4A6D5A1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424A-5D88-4E49-A33F-42B8E3FA3F7A}" type="slidenum">
              <a:rPr b="0" lang="de-DE" sz="1200" spc="-1" strike="noStrike">
                <a:solidFill>
                  <a:srgbClr val="000000"/>
                </a:solidFill>
                <a:latin typeface="ISOCTEU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7ED-C90B-4EBF-8F09-542548A5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0E1-38D5-4202-A711-AF37412D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7E192-588A-4AAF-9EDA-66B35A7D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64721-E9AD-4A22-A5C5-7229D871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8AD20-CAEF-4FCE-B9EE-2BA65F82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8F8A2-62AB-4696-9110-CFC8767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61EE1-1B79-496E-8EBF-1F41B436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F7D68-48D1-46F6-BAEF-074D4AD9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0A2AB-DA0F-4992-B7F5-D7B91B73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38D67-4630-4FC3-AEB6-B722D38B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CB084-9782-408E-B4E2-F501085C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CEF-BF04-438C-B4D8-9AC10103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97B-D2AB-4A71-ACB3-FAB02D7C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E993-CC77-4A2A-8955-6F4DAF1B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CD19-6C03-4F87-8773-68307355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CBE7-CD84-4FB5-8E91-3542DBF6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1EF4-B9E9-4DAB-B457-94969B5E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3DDE-399D-4EFD-B3C5-D6C3D2C0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2C34-5E9B-47F0-8748-ACF0F4AA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FD07-AB49-4F5B-9169-B5133443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A08-BB81-4825-9FC5-5BB0D8A6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B3D6-8DA7-4D49-A74B-695F32E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E743-FDC9-4ECB-82F9-A9BFB03A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2A9A-5F89-4B8D-860E-9870088C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7E34-39C8-4BBE-91A3-DF20E634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AC72-47AC-446E-AB43-D60EA9BF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5E03-8943-421F-AEB0-D8D6EBCB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5CA3-385F-4D84-807E-6554A3A7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0577-1663-4AFF-914E-6B6F53F8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344B-2A9B-419A-B21E-721EF54F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E89C-69E1-4718-8DFB-863896FC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983-5F16-484D-BB0E-3F21FF45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E37E-9BF3-4E38-9006-D5BEFA40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F9B6-F3C2-4043-8A25-85B60BF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75B1-DAF3-44F1-BBC9-7E00A89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FAF6-0EE9-4CDE-88F3-F584458B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6711F-7005-48B7-9410-FED7727B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C46A3-8504-4D61-AB2D-CC62855C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DACA-62EC-4519-AC7C-7F334A84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6D1D-A434-471C-A469-9B6EAFED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21EE-6331-40A9-B108-582B75FF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2F13-4BE5-4DB9-96BF-C5729DA3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BB5-0A1F-409A-AE23-60ED9770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1382F-A872-4335-9A4E-11BC2A19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79927-7930-4A93-B5B1-A3645017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E5AF7-6546-4BD8-A737-7D721224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0394-6C34-46B4-BB29-A0399B48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79A7B-A730-4DD8-BAFC-C8D97B8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7111C-ACD4-4588-A09C-2A394CA2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28D4-1840-41BA-B053-B5BE4C49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D8A1-05C7-4C52-BB31-5B88DCD7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E914F-9D6D-40F1-9A9A-C4AE7056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B59D-BB78-42DB-9151-B8543EEF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B86-DCDA-45CC-972B-B05D3C29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42A41-7F2C-44A2-80A2-48067F25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A8F1D-D004-459B-A2D6-8686EB4A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7186B-3AB3-4610-874E-2CF1384A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77F73-AFA8-419E-A0F7-FA09B5D5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AA9DA-39E3-4DB6-80E8-5DAAB512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23FB-B614-4D06-8206-15F8CAE0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7ADA0-3809-4C2B-A366-3986BA95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1A51F-1792-46A2-96A5-AC1A4064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CB2B-4A0E-4E50-8116-7026A268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09EF9-0EA5-4E2C-B4EC-BC9D1DF3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E66-9DFF-4196-96D7-6050A35E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DFA3E-BBEB-44D6-91E2-6FAE4A42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B2B88-8847-4ACE-93D8-CC02D5BB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6EA6A-73CE-465E-A5C3-52723FC7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06E46-F226-4E36-B842-44CC5626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8EF67-6EE1-4D7A-BBEE-D90FF849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DF5A4-C70C-4AE4-A36A-8C18B849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C35F5-70C7-48A2-92B9-D8E09470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68B82-FA77-41CA-B599-B2462F7E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88B1-8B0A-41EF-8578-DE498CE5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5B830-7CCF-42AE-89FF-7CCC26A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292A-EF0B-4C62-BC84-3AD2A50A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E7F7-360E-4FCC-94D8-9D666E49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F879C-89F9-41DA-AD3C-D2D07B7B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E7B3F-5015-4C42-BE65-E287828B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4DD6A-5815-49D6-86F6-0127B430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00B98-9073-478D-BB89-0C9D6767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0CF73-2ABA-43D9-817E-31C9BD5D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3438A-62B4-454C-8B6F-1B2AA15F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27540-A91F-478C-9C6F-B1F2F945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8EFAF-DB9B-4A91-BD41-359F1064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441BA-BB35-4D29-8C2A-5B4B3C8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9DA-AAA4-439E-AE9E-2F64DF41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974C-EE68-42EF-86E2-33BDD253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F1CC9-8296-441F-93F7-F7B8DF1E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36F9A-2AD5-4D8B-BF7D-D87B1C0A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1C443-43AA-433E-8EA6-4CB5EEA2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E7129-7971-49F3-883C-72115888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204AB-545C-4C5E-8139-8D12B6F1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4C5B7-D34C-416C-8A4C-F19929D3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F3271-E944-44C6-9181-7DF47F3C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A4396-1036-4BDD-926B-F750BF93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9D42F-8B7E-4251-A3B6-D968A9A3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105-D220-41F0-A61F-F0320B23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C3DE6-0764-4F71-9497-FF754B39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FDF1-6EC9-40A0-9F32-4769458A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2EE85-958B-45F4-912D-CDFAC277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39919-F247-4F84-9C7B-F8AC6DEF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0F0ED-826D-48B9-B909-055C5BCB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1D123-698E-49B9-85B8-72932889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1DB1A-A242-4026-B877-D9B6DD91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1F07E-1147-43E8-BCCE-AED710F8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2DD30-453E-493E-8C49-7E03D83E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A5883-A91B-471F-B459-7B88B8C6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7C72-4A23-4C16-9ED0-FE8554301AF6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2D5C-84B1-42F9-B301-8980E07ADD9A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D104-217B-4712-82AB-E6B3647B521B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B44E-5515-4EEF-890B-5F146C82C3E8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B0E4-764E-47BB-8D3B-DCC038598FF5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164A-FBB7-4D80-AD2C-840E913DE6B6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ISOCTEUR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8A44-467F-4638-BF1B-A35964B94271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77A-EF6C-417C-AD67-10FF71746703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3F5C-3F32-457D-B64E-5E10CD3A6323}" type="slidenum">
              <a:rPr b="0" lang="de-DE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0a2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0" y="357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b050"/>
                </a:solidFill>
                <a:latin typeface="ISOCTEUR"/>
              </a:rPr>
              <a:t>Et voici les gagnants de</a:t>
            </a:r>
            <a:endParaRPr b="0" lang="en-US" sz="3200" spc="-1" strike="noStrike">
              <a:solidFill>
                <a:srgbClr val="000000"/>
              </a:solidFill>
              <a:latin typeface="ISOCTEU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b050"/>
                </a:solidFill>
                <a:latin typeface="ISOCTEUR"/>
              </a:rPr>
              <a:t> </a:t>
            </a:r>
            <a:r>
              <a:rPr b="1" lang="de-DE" sz="3200" spc="-1" strike="noStrike">
                <a:solidFill>
                  <a:srgbClr val="00b050"/>
                </a:solidFill>
                <a:latin typeface="ISOCTEUR"/>
              </a:rPr>
              <a:t>notre grand concours sur :</a:t>
            </a:r>
            <a:endParaRPr b="0" lang="en-US" sz="32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14200" y="1571760"/>
            <a:ext cx="86108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b050"/>
                </a:solidFill>
                <a:latin typeface="ISOCTEUR"/>
              </a:rPr>
              <a:t>LA SÉCURITÉ AU TRAVAIL </a:t>
            </a:r>
            <a:endParaRPr b="0" lang="en-US" sz="5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2286000" y="20574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SOCTEUR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SOCTEUR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214200" y="4857840"/>
            <a:ext cx="86108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70c0"/>
                </a:solidFill>
                <a:latin typeface="ISOCTEUR"/>
              </a:rPr>
              <a:t>SAFETY AT WORK</a:t>
            </a:r>
            <a:endParaRPr b="0" lang="en-US" sz="5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285840" y="37148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ISOCTEUR"/>
              </a:rPr>
              <a:t>We are proud to present you the winners of our contest:</a:t>
            </a:r>
            <a:endParaRPr b="0" lang="en-US" sz="32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3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2" name="Text Box 1027"/>
          <p:cNvSpPr/>
          <p:nvPr/>
        </p:nvSpPr>
        <p:spPr>
          <a:xfrm>
            <a:off x="5092200" y="550080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luggage handler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3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4577040" y="214308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s bagagistes de l’aéroport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00018819"/>
          <p:cNvPicPr/>
          <p:nvPr/>
        </p:nvPicPr>
        <p:blipFill>
          <a:blip r:embed="rId1"/>
          <a:stretch/>
        </p:blipFill>
        <p:spPr>
          <a:xfrm>
            <a:off x="228600" y="239760"/>
            <a:ext cx="8686800" cy="63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1056600" y="78588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ISOCTEUR"/>
              </a:rPr>
              <a:t>12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074920" y="221472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Les peintres en bâtiment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013040" y="39290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ISOCTEUR"/>
              </a:rPr>
              <a:t>12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6298200" y="52862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The painter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1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2" name="Text Box 1027"/>
          <p:cNvSpPr/>
          <p:nvPr/>
        </p:nvSpPr>
        <p:spPr>
          <a:xfrm>
            <a:off x="4029840" y="228600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s mécaniciens de chantier naval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3" name="Text Box 1027"/>
          <p:cNvSpPr/>
          <p:nvPr/>
        </p:nvSpPr>
        <p:spPr>
          <a:xfrm>
            <a:off x="5093280" y="550080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shipyard mechanic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1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D:\Data\jjbdata\Private\Humour\Securite au travail\ThreeMenAndAPlank01.jpg"/>
          <p:cNvPicPr/>
          <p:nvPr/>
        </p:nvPicPr>
        <p:blipFill>
          <a:blip r:embed="rId1"/>
          <a:stretch/>
        </p:blipFill>
        <p:spPr>
          <a:xfrm>
            <a:off x="357120" y="214200"/>
            <a:ext cx="8501040" cy="637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842040" y="11430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0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4649760" y="250020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’installateur de climatisatio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4595760" y="52862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air conditioner installe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727200" y="400068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0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sicurezza"/>
          <p:cNvPicPr/>
          <p:nvPr/>
        </p:nvPicPr>
        <p:blipFill>
          <a:blip r:embed="rId1"/>
          <a:stretch/>
        </p:blipFill>
        <p:spPr>
          <a:xfrm>
            <a:off x="1447920" y="152280"/>
            <a:ext cx="62830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941400" y="92880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9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2" name="Text Box 1027"/>
          <p:cNvSpPr/>
          <p:nvPr/>
        </p:nvSpPr>
        <p:spPr>
          <a:xfrm>
            <a:off x="5007600" y="228600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’ouvrier du BTP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3" name="Text Box 1027"/>
          <p:cNvSpPr/>
          <p:nvPr/>
        </p:nvSpPr>
        <p:spPr>
          <a:xfrm>
            <a:off x="4521960" y="55008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construction site worke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897120" y="414324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9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D:\Data\jjbdata\Private\Humour\Securite au travail\SafetyHelmet.jpg"/>
          <p:cNvPicPr/>
          <p:nvPr/>
        </p:nvPicPr>
        <p:blipFill>
          <a:blip r:embed="rId1"/>
          <a:stretch/>
        </p:blipFill>
        <p:spPr>
          <a:xfrm>
            <a:off x="428760" y="357120"/>
            <a:ext cx="8238960" cy="617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7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2" name="Text Box 1027"/>
          <p:cNvSpPr/>
          <p:nvPr/>
        </p:nvSpPr>
        <p:spPr>
          <a:xfrm>
            <a:off x="6581520" y="2286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livreu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3" name="Text Box 1027"/>
          <p:cNvSpPr/>
          <p:nvPr/>
        </p:nvSpPr>
        <p:spPr>
          <a:xfrm>
            <a:off x="5658840" y="55008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delivery ma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7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6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655560" y="100008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8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825480" y="428616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8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8" name="Text Box 1027"/>
          <p:cNvSpPr/>
          <p:nvPr/>
        </p:nvSpPr>
        <p:spPr>
          <a:xfrm>
            <a:off x="4315680" y="550080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rt in biological weapon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59" name="Text Box 1027"/>
          <p:cNvSpPr/>
          <p:nvPr/>
        </p:nvSpPr>
        <p:spPr>
          <a:xfrm>
            <a:off x="4021560" y="257184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’expert en armes bactériologique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SafetyOfficer06[1]"/>
          <p:cNvPicPr/>
          <p:nvPr/>
        </p:nvPicPr>
        <p:blipFill>
          <a:blip r:embed="rId1"/>
          <a:stretch/>
        </p:blipFill>
        <p:spPr>
          <a:xfrm>
            <a:off x="357120" y="571680"/>
            <a:ext cx="837720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d5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26"/>
          <p:cNvSpPr/>
          <p:nvPr/>
        </p:nvSpPr>
        <p:spPr>
          <a:xfrm>
            <a:off x="358920" y="100008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7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897120" y="42148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7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3" name="Text Box 1027"/>
          <p:cNvSpPr/>
          <p:nvPr/>
        </p:nvSpPr>
        <p:spPr>
          <a:xfrm>
            <a:off x="4311000" y="550080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WMD warehouse manage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4" name="Text Box 1027"/>
          <p:cNvSpPr/>
          <p:nvPr/>
        </p:nvSpPr>
        <p:spPr>
          <a:xfrm>
            <a:off x="4929120" y="250020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transporteur d’armes de destruction massive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URFired"/>
          <p:cNvPicPr/>
          <p:nvPr/>
        </p:nvPicPr>
        <p:blipFill>
          <a:blip r:embed="rId1"/>
          <a:stretch/>
        </p:blipFill>
        <p:spPr>
          <a:xfrm>
            <a:off x="428760" y="320760"/>
            <a:ext cx="8286480" cy="62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501840" y="92880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6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7" name="Text Box 1027"/>
          <p:cNvSpPr/>
          <p:nvPr/>
        </p:nvSpPr>
        <p:spPr>
          <a:xfrm>
            <a:off x="5006880" y="228600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écanicien automobile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8" name="Text Box 1027"/>
          <p:cNvSpPr/>
          <p:nvPr/>
        </p:nvSpPr>
        <p:spPr>
          <a:xfrm>
            <a:off x="5087520" y="55008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car mechanic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897120" y="414324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6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3" descr="pas peur"/>
          <p:cNvPicPr/>
          <p:nvPr/>
        </p:nvPicPr>
        <p:blipFill>
          <a:blip r:embed="rId1"/>
          <a:stretch/>
        </p:blipFill>
        <p:spPr>
          <a:xfrm>
            <a:off x="571680" y="357120"/>
            <a:ext cx="8076960" cy="60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026"/>
          <p:cNvSpPr/>
          <p:nvPr/>
        </p:nvSpPr>
        <p:spPr>
          <a:xfrm>
            <a:off x="500040" y="642960"/>
            <a:ext cx="59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5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6220080" y="200016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’électricie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3" name="Rectangle 1026"/>
          <p:cNvSpPr/>
          <p:nvPr/>
        </p:nvSpPr>
        <p:spPr>
          <a:xfrm>
            <a:off x="571680" y="4000680"/>
            <a:ext cx="59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5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6086520" y="52862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electricia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SafetyOfficer05[1]"/>
          <p:cNvPicPr/>
          <p:nvPr/>
        </p:nvPicPr>
        <p:blipFill>
          <a:blip r:embed="rId1"/>
          <a:stretch/>
        </p:blipFill>
        <p:spPr>
          <a:xfrm>
            <a:off x="2506680" y="380880"/>
            <a:ext cx="3873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85840" y="785880"/>
            <a:ext cx="562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ISOCTEUR"/>
              </a:rPr>
              <a:t>4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6086160" y="542916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The erection team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285840" y="4071960"/>
            <a:ext cx="562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ISOCTEUR"/>
              </a:rPr>
              <a:t>4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6288480" y="21430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Les monteur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OHS2"/>
          <p:cNvPicPr/>
          <p:nvPr/>
        </p:nvPicPr>
        <p:blipFill>
          <a:blip r:embed="rId1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00019732"/>
          <p:cNvPicPr/>
          <p:nvPr/>
        </p:nvPicPr>
        <p:blipFill>
          <a:blip r:embed="rId1"/>
          <a:stretch/>
        </p:blipFill>
        <p:spPr>
          <a:xfrm>
            <a:off x="304920" y="384120"/>
            <a:ext cx="8458200" cy="60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6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3"/>
          <p:cNvSpPr/>
          <p:nvPr/>
        </p:nvSpPr>
        <p:spPr>
          <a:xfrm>
            <a:off x="358920" y="8571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3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2" name="Text Box 1027"/>
          <p:cNvSpPr/>
          <p:nvPr/>
        </p:nvSpPr>
        <p:spPr>
          <a:xfrm>
            <a:off x="6218640" y="20718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s câbleur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897120" y="42148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3rd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5095080" y="5572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power cable installers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SafetyOfficer07[1]"/>
          <p:cNvPicPr/>
          <p:nvPr/>
        </p:nvPicPr>
        <p:blipFill>
          <a:blip r:embed="rId1"/>
          <a:stretch/>
        </p:blipFill>
        <p:spPr>
          <a:xfrm>
            <a:off x="2143080" y="500040"/>
            <a:ext cx="449748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0a2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3"/>
          <p:cNvSpPr/>
          <p:nvPr/>
        </p:nvSpPr>
        <p:spPr>
          <a:xfrm>
            <a:off x="430200" y="6429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2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4578480" y="207180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écanicien aéronautique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968400" y="40006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2nd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5017320" y="542916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aircraft mechanic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3" descr="0001996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28"/>
          <p:cNvSpPr/>
          <p:nvPr/>
        </p:nvSpPr>
        <p:spPr>
          <a:xfrm>
            <a:off x="0" y="500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6600"/>
                </a:solidFill>
                <a:latin typeface="ISOCTEUR"/>
              </a:rPr>
              <a:t>Et le GAGNANT est</a:t>
            </a:r>
            <a:r>
              <a:rPr b="0" lang="de-DE" sz="5400" spc="-1" strike="noStrike">
                <a:solidFill>
                  <a:srgbClr val="000000"/>
                </a:solidFill>
                <a:latin typeface="ISOCTEUR"/>
              </a:rPr>
              <a:t> </a:t>
            </a: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2" name="Text Box 1029"/>
          <p:cNvSpPr/>
          <p:nvPr/>
        </p:nvSpPr>
        <p:spPr>
          <a:xfrm>
            <a:off x="4312800" y="1857240"/>
            <a:ext cx="45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Le service technique municipal !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3" name="Text Box 1028"/>
          <p:cNvSpPr/>
          <p:nvPr/>
        </p:nvSpPr>
        <p:spPr>
          <a:xfrm>
            <a:off x="0" y="37861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6600"/>
                </a:solidFill>
                <a:latin typeface="ISOCTEUR"/>
              </a:rPr>
              <a:t>And the winner is</a:t>
            </a:r>
            <a:r>
              <a:rPr b="0" lang="de-DE" sz="5400" spc="-1" strike="noStrike">
                <a:solidFill>
                  <a:srgbClr val="000000"/>
                </a:solidFill>
                <a:latin typeface="ISOCTEUR"/>
              </a:rPr>
              <a:t> </a:t>
            </a: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4" name="Text Box 1029"/>
          <p:cNvSpPr/>
          <p:nvPr/>
        </p:nvSpPr>
        <p:spPr>
          <a:xfrm>
            <a:off x="3598560" y="514368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The city council maintenance team !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75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125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75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SafetyOfficer04[1]"/>
          <p:cNvPicPr/>
          <p:nvPr/>
        </p:nvPicPr>
        <p:blipFill>
          <a:blip r:embed="rId1"/>
          <a:stretch/>
        </p:blipFill>
        <p:spPr>
          <a:xfrm>
            <a:off x="2514600" y="304920"/>
            <a:ext cx="41878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0" y="428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ISOCTEUR"/>
              </a:rPr>
              <a:t>Hors compétition :</a:t>
            </a:r>
            <a:endParaRPr b="0" lang="en-US" sz="5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4941360" y="164304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’employé de stand de ti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0" y="3857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ISOCTEUR"/>
              </a:rPr>
              <a:t>And finally, a special prize to :</a:t>
            </a:r>
            <a:endParaRPr b="0" lang="en-US" sz="5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4667760" y="585792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shooting gallery assistant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75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75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6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Legge626_1"/>
          <p:cNvPicPr/>
          <p:nvPr/>
        </p:nvPicPr>
        <p:blipFill>
          <a:blip r:embed="rId1"/>
          <a:stretch/>
        </p:blipFill>
        <p:spPr>
          <a:xfrm>
            <a:off x="1981080" y="228600"/>
            <a:ext cx="51991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6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7" name="Text Box 1027"/>
          <p:cNvSpPr/>
          <p:nvPr/>
        </p:nvSpPr>
        <p:spPr>
          <a:xfrm>
            <a:off x="6440400" y="22860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euleu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8" name="Text Box 1027"/>
          <p:cNvSpPr/>
          <p:nvPr/>
        </p:nvSpPr>
        <p:spPr>
          <a:xfrm>
            <a:off x="6512040" y="55008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grinde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6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D:\Data\jjbdata\Private\Humour\Securite au travail\FACEMASK.jpg"/>
          <p:cNvPicPr/>
          <p:nvPr/>
        </p:nvPicPr>
        <p:blipFill>
          <a:blip r:embed="rId1"/>
          <a:stretch/>
        </p:blipFill>
        <p:spPr>
          <a:xfrm>
            <a:off x="1009800" y="1195560"/>
            <a:ext cx="7124400" cy="45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5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2" name="Text Box 1027"/>
          <p:cNvSpPr/>
          <p:nvPr/>
        </p:nvSpPr>
        <p:spPr>
          <a:xfrm>
            <a:off x="6796440" y="22860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maço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3" name="Text Box 1027"/>
          <p:cNvSpPr/>
          <p:nvPr/>
        </p:nvSpPr>
        <p:spPr>
          <a:xfrm>
            <a:off x="6297120" y="55008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mason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5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4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Legge626_3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63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984960" y="92880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4ème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7" name="Text Box 1027"/>
          <p:cNvSpPr/>
          <p:nvPr/>
        </p:nvSpPr>
        <p:spPr>
          <a:xfrm>
            <a:off x="6726240" y="22860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e soudeu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8" name="Text Box 1027"/>
          <p:cNvSpPr/>
          <p:nvPr/>
        </p:nvSpPr>
        <p:spPr>
          <a:xfrm>
            <a:off x="6655320" y="55008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he welder</a:t>
            </a:r>
            <a:endParaRPr b="0" lang="en-US" sz="2400" spc="-1" strike="noStrike">
              <a:solidFill>
                <a:srgbClr val="000000"/>
              </a:solidFill>
              <a:latin typeface="ISOCTEUR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941400" y="41432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14th place</a:t>
            </a:r>
            <a:endParaRPr b="0" lang="en-US" sz="6000" spc="-1" strike="noStrike">
              <a:solidFill>
                <a:srgbClr val="000000"/>
              </a:solidFill>
              <a:latin typeface="ISOCTEU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D:\Data\jjbdata\Private\Humour\Securite au travail\WELDING.jpg"/>
          <p:cNvPicPr/>
          <p:nvPr/>
        </p:nvPicPr>
        <p:blipFill>
          <a:blip r:embed="rId1"/>
          <a:stretch/>
        </p:blipFill>
        <p:spPr>
          <a:xfrm>
            <a:off x="1571760" y="642960"/>
            <a:ext cx="5715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9:11Z</dcterms:created>
  <dc:creator>-</dc:creator>
  <dc:description/>
  <dc:language>en-US</dc:language>
  <cp:lastModifiedBy>jjb</cp:lastModifiedBy>
  <dcterms:modified xsi:type="dcterms:W3CDTF">2008-02-01T04:55:19Z</dcterms:modified>
  <cp:revision>28</cp:revision>
  <dc:subject/>
  <dc:title>PowerPoint-Präsentation</dc:title>
</cp:coreProperties>
</file>