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B91A-0435-4C24-B7EE-0756A4215B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9955-EFD4-4903-A55A-C7E7AD9B4381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42A4-CFFE-4D4D-94C6-6A388F8DA9B8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66C5-4615-45DD-AF60-5DF1C8D23B0D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A712-281B-4B1D-AA46-10E351BC3751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8CDC-72A6-42E3-8BFE-E0982A6C3E2C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738C-62E3-4479-8DB1-1FF1ACA57992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08F0-CEAC-42DB-97B6-CC5C1C6040A4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742D-F368-4C0B-9CA8-8D9F1F7D4768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2190-645F-492B-9F41-6C85066DB206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4A3C-0A3D-4936-82B1-C881B8AFC779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151-CDBA-4383-9BA0-2CDFBBCE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B79-FAA8-4E70-848A-0E538B43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C3425-7D08-4BE1-8052-96E49804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FF843-911D-4D57-8A70-B778CB44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0555E-828A-442B-96EF-39FB62B9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966A8-A3DF-4F5E-BEE3-DEB9AFD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1CCC3-1FCB-459F-980F-416152C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81CF7-A3A2-4E16-8F35-D6B7DF3E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6B671-DA51-456C-A8F3-4966E7D9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A09B8-FB4B-488E-9F7C-199FD9F3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CB2FA-AAB7-4135-BA85-795DCA12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ADB-02EC-465B-81AB-8E3A40F5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CF0-0659-44B3-BFAF-D4C3D9E4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FA0C-6F22-4AAF-BD90-2B273337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3428-7134-4BF6-A75A-E05978A7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4AB7-A4F9-47C3-9671-3603838E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DA78-0C38-489F-AAE3-45B9E85E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A57A-C08A-4003-A407-CE1BE804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E9DA-24A3-4A1C-8A64-CD1CB1A7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B52C-F319-4332-9A4C-E3DD5106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E1F-EF2B-4D8F-8B79-BFE116E3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FD77-353F-4255-BC43-2820448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895C-DBE1-48CA-8ADD-1AF5892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BBF5-3971-42CC-B4F4-686227F4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26E1-D895-443D-A007-B6CAA0E6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5B86-5ABD-4E83-BEDE-1B789FE3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1533-4A9D-4C06-9C6D-5C5FB22E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B4D5-6FCE-4553-913F-41629372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ECAD-021A-44D3-ADE9-F0FC617B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28082-6002-4602-8CB5-55BF5FCD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9301-46A3-4F9C-81B7-8AC04A5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59B-7856-471D-AFF1-2F5441E7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0BA7-1661-4E0C-BB0D-AA8CA6E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9AE6-EBE4-4599-BA1E-270B750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F644-CC82-4B9C-A669-242CD80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8CE7-1421-4D2F-A6B1-DC142A6D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C5E62-46F7-4603-8DE9-8D35D3EE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5AAD2-62BA-4293-9DD3-67C7EF42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CC9E-D581-4C15-B942-671D8844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F4A5B-75F7-4438-BEAD-93C54FB4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3F71-235C-4535-B36B-03343F94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44A97-CBF7-4250-967A-22491D4C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32C-6C0D-4B49-8373-19BD6730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6CF6-A079-4DCB-A6C9-942EBF07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B75D8-A086-4485-A70A-8655C6AC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E2AE0-E414-4409-B0E7-EC192E5D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737AA-5802-4E5C-BFE9-63C0FB61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02CF-C538-4B92-BFA5-2BE1025C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CB168-F1BC-44A5-BC23-CCA4DBB9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E9ED7-58F9-41A9-87F4-15E4BF49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9D57B-DA6A-49AD-9C66-E0BF1412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28E5-6963-40F3-AA10-466D4972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A55F4-466E-4025-ACDF-BE9EB90D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962-E9B1-4605-A5D1-1661088F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DD522-06B1-444E-8F9A-62EA27D3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93CF5-21A7-4B7A-9BBE-461EF925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C100E-E569-464D-BAA4-B4A7F320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B8E2D-2D02-43A3-B847-9F75339B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24AB9-72B4-465E-898D-20016AE1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D2CBD-C693-4F00-80DB-E66BC465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EAFE2-5450-4C7E-9993-CB563AB3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584B1-92C2-4369-820A-42F551A8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0D12-DACB-4D10-8C10-8059BE76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CBFE1-3B25-42B0-B8B7-7831E35F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24F-1341-4C63-B584-5BB47C6A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2ECEC-F2FE-4629-8603-2B5900B0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8E582-C83B-413E-9CA0-691FE167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F316B-D366-4E8E-A09C-AE8E9B29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5F204-79DE-4498-8F55-1840848C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589F-69AE-4A04-8899-BE5908A3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CAE93-54AB-496C-9991-7C457F92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6068-EA3A-49F2-8BC7-7A8295C7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AA1E5-CBA2-461E-8A18-1AB40856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2459F-0D6A-4323-A57A-D60BD45B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23EA4-26FE-468E-B94B-B797453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7BB-9C3D-40DA-99C1-2F9278F3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C2081-D743-4F06-BA7E-8DDB842C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60A7-5CE9-41E3-A835-BD9CA856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C6BF7-240C-4E23-89FB-25436C8A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5F3C8-2299-416E-AD83-05B5F38F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B40B-C852-47E3-AA67-29758887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15A12-CF78-4DEF-A54B-B33F319B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185A8-C0B4-4E0C-979B-5E200F51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AFC84-D552-4774-AF7D-96983882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02FAF-8E8A-4FF0-9347-11ACD1E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C667-DB52-456B-8EDB-D9D39019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34F-8EF7-4E25-A133-765E576C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7D3A2-CD5A-4EFC-9BA0-10B22E47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84002-97C7-43FE-A447-AF3A3DE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6797-785D-41B6-A8F6-BC4A89A1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F4D3-FBEC-45DA-ABB4-BB3DD018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784BB-F556-4A00-BBB8-C7B3C6C9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229BC-3379-4D96-BFFB-EDE7D539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C4E4D-A621-460A-AFF9-6C395F32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8487D-A9D4-4197-8428-324295CE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32DE5-F7A2-4428-9D42-6C5D1BE8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B126C-DC9E-4B71-B174-0E3A8888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620-6228-4C76-8ACC-8A588F2D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44477-95BF-4B1E-973E-E52563FA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8450D-8CDF-4CBE-9078-60C481D1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29E08-6D99-4A1A-9D2D-0C9E5782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4CE1A-B606-4BF7-928F-B6C10002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B7112-19E2-477E-A6AA-F756BFEB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DC394-12DB-444F-A46D-BB4E1E74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B8143-3512-48B8-9F45-41713573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0F617-88A0-443F-970F-DCB49494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ACE9D-94E9-4C2E-B97D-9008C550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159CE-136D-4C01-9613-F2595B3D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D855-F64D-4160-B3A1-00C740EDE718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2112-3025-4FF8-8C5A-E4906B5A546A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4528-CA37-4740-8F6B-45232EE6ABAC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9589-9A23-4546-89FD-29D709CAC17A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5F0A-DDC8-40F1-871C-4D39FFB239B1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12D3-BEB0-4754-9530-971DD222D686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ABE0-D70B-4F1B-AB6E-9FA63DA12580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EB6D-012A-40B6-A8F4-A0ACD1EB1C57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044E-CE8A-4FBE-B7B5-8B74471AF25F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0a2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0" y="357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b050"/>
                </a:solidFill>
                <a:latin typeface="ISOCTEUR"/>
              </a:rPr>
              <a:t>Et voici les gagnants de</a:t>
            </a:r>
            <a:endParaRPr b="0" lang="en-US" sz="3200" spc="-1" strike="noStrike">
              <a:solidFill>
                <a:srgbClr val="000000"/>
              </a:solidFill>
              <a:latin typeface="ISOCTEU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b050"/>
                </a:solidFill>
                <a:latin typeface="ISOCTEUR"/>
              </a:rPr>
              <a:t> </a:t>
            </a:r>
            <a:r>
              <a:rPr b="1" lang="de-DE" sz="3200" spc="-1" strike="noStrike">
                <a:solidFill>
                  <a:srgbClr val="00b050"/>
                </a:solidFill>
                <a:latin typeface="ISOCTEUR"/>
              </a:rPr>
              <a:t>notre grand concours sur :</a:t>
            </a:r>
            <a:endParaRPr b="0" lang="en-US" sz="3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14200" y="1571760"/>
            <a:ext cx="86108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b050"/>
                </a:solidFill>
                <a:latin typeface="ISOCTEUR"/>
              </a:rPr>
              <a:t>LA SÉCURITÉ AU TRAVAIL </a:t>
            </a:r>
            <a:endParaRPr b="0" lang="en-US" sz="5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2286000" y="20574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SOCTEUR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SOCTEUR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214200" y="4857840"/>
            <a:ext cx="86108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70c0"/>
                </a:solidFill>
                <a:latin typeface="ISOCTEUR"/>
              </a:rPr>
              <a:t>SAFETY AT WORK</a:t>
            </a:r>
            <a:endParaRPr b="0" lang="en-US" sz="5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285840" y="37148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ISOCTEUR"/>
              </a:rPr>
              <a:t>We are proud to present you the winners of our contest:</a:t>
            </a:r>
            <a:endParaRPr b="0" lang="en-US" sz="32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3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2" name="Text Box 1027"/>
          <p:cNvSpPr/>
          <p:nvPr/>
        </p:nvSpPr>
        <p:spPr>
          <a:xfrm>
            <a:off x="5092200" y="550080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luggage handler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3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4577040" y="214308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s bagagistes de l’aéroport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00018819"/>
          <p:cNvPicPr/>
          <p:nvPr/>
        </p:nvPicPr>
        <p:blipFill>
          <a:blip r:embed="rId1"/>
          <a:stretch/>
        </p:blipFill>
        <p:spPr>
          <a:xfrm>
            <a:off x="228600" y="239760"/>
            <a:ext cx="8686800" cy="63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1056600" y="78588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ISOCTEUR"/>
              </a:rPr>
              <a:t>12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074920" y="221472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Les peintres en bâtiment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013040" y="39290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ISOCTEUR"/>
              </a:rPr>
              <a:t>12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6298200" y="52862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The painter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1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2" name="Text Box 1027"/>
          <p:cNvSpPr/>
          <p:nvPr/>
        </p:nvSpPr>
        <p:spPr>
          <a:xfrm>
            <a:off x="4029840" y="228600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s mécaniciens de chantier naval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3" name="Text Box 1027"/>
          <p:cNvSpPr/>
          <p:nvPr/>
        </p:nvSpPr>
        <p:spPr>
          <a:xfrm>
            <a:off x="5093280" y="550080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shipyard mechanic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1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D:\Data\jjbdata\Private\Humour\Securite au travail\ThreeMenAndAPlank01.jpg"/>
          <p:cNvPicPr/>
          <p:nvPr/>
        </p:nvPicPr>
        <p:blipFill>
          <a:blip r:embed="rId1"/>
          <a:stretch/>
        </p:blipFill>
        <p:spPr>
          <a:xfrm>
            <a:off x="357120" y="214200"/>
            <a:ext cx="8501040" cy="637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842040" y="11430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0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4649760" y="250020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’installateur de climatisatio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4595760" y="52862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air conditioner installe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727200" y="400068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0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sicurezza"/>
          <p:cNvPicPr/>
          <p:nvPr/>
        </p:nvPicPr>
        <p:blipFill>
          <a:blip r:embed="rId1"/>
          <a:stretch/>
        </p:blipFill>
        <p:spPr>
          <a:xfrm>
            <a:off x="1447920" y="152280"/>
            <a:ext cx="62830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941400" y="92880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9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2" name="Text Box 1027"/>
          <p:cNvSpPr/>
          <p:nvPr/>
        </p:nvSpPr>
        <p:spPr>
          <a:xfrm>
            <a:off x="5007600" y="228600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’ouvrier du BTP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3" name="Text Box 1027"/>
          <p:cNvSpPr/>
          <p:nvPr/>
        </p:nvSpPr>
        <p:spPr>
          <a:xfrm>
            <a:off x="4521960" y="55008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construction site worke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897120" y="414324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9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D:\Data\jjbdata\Private\Humour\Securite au travail\SafetyHelmet.jpg"/>
          <p:cNvPicPr/>
          <p:nvPr/>
        </p:nvPicPr>
        <p:blipFill>
          <a:blip r:embed="rId1"/>
          <a:stretch/>
        </p:blipFill>
        <p:spPr>
          <a:xfrm>
            <a:off x="428760" y="357120"/>
            <a:ext cx="8238960" cy="617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7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2" name="Text Box 1027"/>
          <p:cNvSpPr/>
          <p:nvPr/>
        </p:nvSpPr>
        <p:spPr>
          <a:xfrm>
            <a:off x="6581520" y="2286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livreu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3" name="Text Box 1027"/>
          <p:cNvSpPr/>
          <p:nvPr/>
        </p:nvSpPr>
        <p:spPr>
          <a:xfrm>
            <a:off x="5658840" y="55008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delivery ma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7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6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655560" y="100008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8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825480" y="428616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8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8" name="Text Box 1027"/>
          <p:cNvSpPr/>
          <p:nvPr/>
        </p:nvSpPr>
        <p:spPr>
          <a:xfrm>
            <a:off x="4315680" y="550080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rt in biological weapon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9" name="Text Box 1027"/>
          <p:cNvSpPr/>
          <p:nvPr/>
        </p:nvSpPr>
        <p:spPr>
          <a:xfrm>
            <a:off x="4021560" y="257184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’expert en armes bactériologique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SafetyOfficer06[1]"/>
          <p:cNvPicPr/>
          <p:nvPr/>
        </p:nvPicPr>
        <p:blipFill>
          <a:blip r:embed="rId1"/>
          <a:stretch/>
        </p:blipFill>
        <p:spPr>
          <a:xfrm>
            <a:off x="357120" y="571680"/>
            <a:ext cx="837720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d5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26"/>
          <p:cNvSpPr/>
          <p:nvPr/>
        </p:nvSpPr>
        <p:spPr>
          <a:xfrm>
            <a:off x="358920" y="100008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7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897120" y="42148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7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3" name="Text Box 1027"/>
          <p:cNvSpPr/>
          <p:nvPr/>
        </p:nvSpPr>
        <p:spPr>
          <a:xfrm>
            <a:off x="4311000" y="550080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WMD warehouse manage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4" name="Text Box 1027"/>
          <p:cNvSpPr/>
          <p:nvPr/>
        </p:nvSpPr>
        <p:spPr>
          <a:xfrm>
            <a:off x="4929120" y="250020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transporteur d’armes de destruction massive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URFired"/>
          <p:cNvPicPr/>
          <p:nvPr/>
        </p:nvPicPr>
        <p:blipFill>
          <a:blip r:embed="rId1"/>
          <a:stretch/>
        </p:blipFill>
        <p:spPr>
          <a:xfrm>
            <a:off x="428760" y="320760"/>
            <a:ext cx="8286480" cy="62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501840" y="92880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6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7" name="Text Box 1027"/>
          <p:cNvSpPr/>
          <p:nvPr/>
        </p:nvSpPr>
        <p:spPr>
          <a:xfrm>
            <a:off x="5006880" y="228600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écanicien automobile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8" name="Text Box 1027"/>
          <p:cNvSpPr/>
          <p:nvPr/>
        </p:nvSpPr>
        <p:spPr>
          <a:xfrm>
            <a:off x="5087520" y="55008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car mechanic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897120" y="414324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6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3" descr="pas peur"/>
          <p:cNvPicPr/>
          <p:nvPr/>
        </p:nvPicPr>
        <p:blipFill>
          <a:blip r:embed="rId1"/>
          <a:stretch/>
        </p:blipFill>
        <p:spPr>
          <a:xfrm>
            <a:off x="571680" y="357120"/>
            <a:ext cx="8076960" cy="60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026"/>
          <p:cNvSpPr/>
          <p:nvPr/>
        </p:nvSpPr>
        <p:spPr>
          <a:xfrm>
            <a:off x="500040" y="642960"/>
            <a:ext cx="59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5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6220080" y="200016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’électricie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3" name="Rectangle 1026"/>
          <p:cNvSpPr/>
          <p:nvPr/>
        </p:nvSpPr>
        <p:spPr>
          <a:xfrm>
            <a:off x="571680" y="4000680"/>
            <a:ext cx="59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5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6086520" y="52862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electricia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SafetyOfficer05[1]"/>
          <p:cNvPicPr/>
          <p:nvPr/>
        </p:nvPicPr>
        <p:blipFill>
          <a:blip r:embed="rId1"/>
          <a:stretch/>
        </p:blipFill>
        <p:spPr>
          <a:xfrm>
            <a:off x="2506680" y="380880"/>
            <a:ext cx="3873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85840" y="785880"/>
            <a:ext cx="562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ISOCTEUR"/>
              </a:rPr>
              <a:t>4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6086160" y="542916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The erection team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285840" y="4071960"/>
            <a:ext cx="562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ISOCTEUR"/>
              </a:rPr>
              <a:t>4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6288480" y="21430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Les monteur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OHS2"/>
          <p:cNvPicPr/>
          <p:nvPr/>
        </p:nvPicPr>
        <p:blipFill>
          <a:blip r:embed="rId1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00019732"/>
          <p:cNvPicPr/>
          <p:nvPr/>
        </p:nvPicPr>
        <p:blipFill>
          <a:blip r:embed="rId1"/>
          <a:stretch/>
        </p:blipFill>
        <p:spPr>
          <a:xfrm>
            <a:off x="304920" y="384120"/>
            <a:ext cx="8458200" cy="60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6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3"/>
          <p:cNvSpPr/>
          <p:nvPr/>
        </p:nvSpPr>
        <p:spPr>
          <a:xfrm>
            <a:off x="358920" y="8571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3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2" name="Text Box 1027"/>
          <p:cNvSpPr/>
          <p:nvPr/>
        </p:nvSpPr>
        <p:spPr>
          <a:xfrm>
            <a:off x="6218640" y="20718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s câbleur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897120" y="42148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3rd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5095080" y="5572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power cable installer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SafetyOfficer07[1]"/>
          <p:cNvPicPr/>
          <p:nvPr/>
        </p:nvPicPr>
        <p:blipFill>
          <a:blip r:embed="rId1"/>
          <a:stretch/>
        </p:blipFill>
        <p:spPr>
          <a:xfrm>
            <a:off x="2143080" y="500040"/>
            <a:ext cx="449748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0a2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3"/>
          <p:cNvSpPr/>
          <p:nvPr/>
        </p:nvSpPr>
        <p:spPr>
          <a:xfrm>
            <a:off x="430200" y="6429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2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4578480" y="207180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écanicien aéronautique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968400" y="40006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2nd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5017320" y="542916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aircraft mechanic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3" descr="0001996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28"/>
          <p:cNvSpPr/>
          <p:nvPr/>
        </p:nvSpPr>
        <p:spPr>
          <a:xfrm>
            <a:off x="0" y="500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6600"/>
                </a:solidFill>
                <a:latin typeface="ISOCTEUR"/>
              </a:rPr>
              <a:t>Et le GAGNANT est</a:t>
            </a:r>
            <a:r>
              <a:rPr b="0" lang="de-DE" sz="5400" spc="-1" strike="noStrike">
                <a:solidFill>
                  <a:srgbClr val="000000"/>
                </a:solidFill>
                <a:latin typeface="ISOCTEUR"/>
              </a:rPr>
              <a:t> </a:t>
            </a: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2" name="Text Box 1029"/>
          <p:cNvSpPr/>
          <p:nvPr/>
        </p:nvSpPr>
        <p:spPr>
          <a:xfrm>
            <a:off x="4312800" y="1857240"/>
            <a:ext cx="45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Le service technique municipal !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3" name="Text Box 1028"/>
          <p:cNvSpPr/>
          <p:nvPr/>
        </p:nvSpPr>
        <p:spPr>
          <a:xfrm>
            <a:off x="0" y="37861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6600"/>
                </a:solidFill>
                <a:latin typeface="ISOCTEUR"/>
              </a:rPr>
              <a:t>And the winner is</a:t>
            </a:r>
            <a:r>
              <a:rPr b="0" lang="de-DE" sz="5400" spc="-1" strike="noStrike">
                <a:solidFill>
                  <a:srgbClr val="000000"/>
                </a:solidFill>
                <a:latin typeface="ISOCTEUR"/>
              </a:rPr>
              <a:t> </a:t>
            </a: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4" name="Text Box 1029"/>
          <p:cNvSpPr/>
          <p:nvPr/>
        </p:nvSpPr>
        <p:spPr>
          <a:xfrm>
            <a:off x="3598560" y="514368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The city council maintenance team !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75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125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75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SafetyOfficer04[1]"/>
          <p:cNvPicPr/>
          <p:nvPr/>
        </p:nvPicPr>
        <p:blipFill>
          <a:blip r:embed="rId1"/>
          <a:stretch/>
        </p:blipFill>
        <p:spPr>
          <a:xfrm>
            <a:off x="2514600" y="304920"/>
            <a:ext cx="41878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0" y="428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ISOCTEUR"/>
              </a:rPr>
              <a:t>Hors compétition :</a:t>
            </a:r>
            <a:endParaRPr b="0" lang="en-US" sz="5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4941360" y="164304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’employé de stand de ti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0" y="3857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ISOCTEUR"/>
              </a:rPr>
              <a:t>And finally, a special prize to :</a:t>
            </a:r>
            <a:endParaRPr b="0" lang="en-US" sz="5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4667760" y="585792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shooting gallery assistant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75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75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6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Legge626_1"/>
          <p:cNvPicPr/>
          <p:nvPr/>
        </p:nvPicPr>
        <p:blipFill>
          <a:blip r:embed="rId1"/>
          <a:stretch/>
        </p:blipFill>
        <p:spPr>
          <a:xfrm>
            <a:off x="1981080" y="228600"/>
            <a:ext cx="51991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6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7" name="Text Box 1027"/>
          <p:cNvSpPr/>
          <p:nvPr/>
        </p:nvSpPr>
        <p:spPr>
          <a:xfrm>
            <a:off x="6440400" y="22860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euleu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8" name="Text Box 1027"/>
          <p:cNvSpPr/>
          <p:nvPr/>
        </p:nvSpPr>
        <p:spPr>
          <a:xfrm>
            <a:off x="6512040" y="55008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grinde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6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D:\Data\jjbdata\Private\Humour\Securite au travail\FACEMASK.jpg"/>
          <p:cNvPicPr/>
          <p:nvPr/>
        </p:nvPicPr>
        <p:blipFill>
          <a:blip r:embed="rId1"/>
          <a:stretch/>
        </p:blipFill>
        <p:spPr>
          <a:xfrm>
            <a:off x="1009800" y="1195560"/>
            <a:ext cx="7124400" cy="45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5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2" name="Text Box 1027"/>
          <p:cNvSpPr/>
          <p:nvPr/>
        </p:nvSpPr>
        <p:spPr>
          <a:xfrm>
            <a:off x="6796440" y="22860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aço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3" name="Text Box 1027"/>
          <p:cNvSpPr/>
          <p:nvPr/>
        </p:nvSpPr>
        <p:spPr>
          <a:xfrm>
            <a:off x="6297120" y="55008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maso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5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Legge626_3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63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4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7" name="Text Box 1027"/>
          <p:cNvSpPr/>
          <p:nvPr/>
        </p:nvSpPr>
        <p:spPr>
          <a:xfrm>
            <a:off x="6726240" y="22860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soudeu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8" name="Text Box 1027"/>
          <p:cNvSpPr/>
          <p:nvPr/>
        </p:nvSpPr>
        <p:spPr>
          <a:xfrm>
            <a:off x="6655320" y="55008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welde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4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D:\Data\jjbdata\Private\Humour\Securite au travail\WELDING.jpg"/>
          <p:cNvPicPr/>
          <p:nvPr/>
        </p:nvPicPr>
        <p:blipFill>
          <a:blip r:embed="rId1"/>
          <a:stretch/>
        </p:blipFill>
        <p:spPr>
          <a:xfrm>
            <a:off x="1571760" y="642960"/>
            <a:ext cx="5715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9:11Z</dcterms:created>
  <dc:creator>-</dc:creator>
  <dc:description/>
  <dc:language>en-US</dc:language>
  <cp:lastModifiedBy>jjb</cp:lastModifiedBy>
  <dcterms:modified xsi:type="dcterms:W3CDTF">2008-02-01T04:55:19Z</dcterms:modified>
  <cp:revision>28</cp:revision>
  <dc:subject/>
  <dc:title>PowerPoint-Präsentation</dc:title>
</cp:coreProperties>
</file>