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8.jpeg" ContentType="image/jpeg"/>
  <Override PartName="/ppt/media/image10.jpeg" ContentType="image/jpeg"/>
  <Override PartName="/ppt/media/image25.gif" ContentType="image/gif"/>
  <Override PartName="/ppt/media/image12.jpeg" ContentType="image/jpeg"/>
  <Override PartName="/ppt/media/sound001.wav" ContentType="audio/x-wav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.png" ContentType="image/png"/>
  <Override PartName="/ppt/media/image3.jpeg" ContentType="image/jpeg"/>
  <Override PartName="/ppt/media/image24.jpeg" ContentType="image/jpeg"/>
  <Override PartName="/ppt/media/image26.gif" ContentType="image/gif"/>
  <Override PartName="/ppt/media/image20.jpeg" ContentType="image/jpeg"/>
  <Override PartName="/ppt/media/image15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.gif" ContentType="image/gif"/>
  <Override PartName="/ppt/media/image14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360FE-8D53-44A9-857C-A51284F1B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D5EE3-4C7C-403B-AFD1-F6CA9496A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0475A-130E-4CAF-BB4E-24A2CAD66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4C780-88A4-49A8-8D7E-FD0B320E1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F0908-2CF1-4E10-8FFF-9F6B70436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89D7E-DA3D-417F-B223-C6A060F48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CA04F-5079-492D-8B78-6F79DA48D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65371-C606-4B4E-8969-E7D84E7B1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D9E8B-EF57-49DD-97B9-2F2D1C123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A54A0-D304-466E-B6AD-79973CBC6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C5DC5-CD84-466F-AC0E-EB1175D71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F42A6-79C5-4BDA-A75B-B26DDC38B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cf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AD091-2E1F-4531-8CDC-E609BC053207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audio" Target="../media/sound001.wav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cf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24360" y="1060560"/>
            <a:ext cx="6438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Comic Sans MS"/>
                <a:ea typeface="David"/>
              </a:rPr>
              <a:t>About dogs and people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908000" y="2781360"/>
            <a:ext cx="1955880" cy="13428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643280" y="2133720"/>
            <a:ext cx="2448000" cy="3733560"/>
          </a:xfrm>
          <a:prstGeom prst="rect">
            <a:avLst/>
          </a:prstGeom>
          <a:ln w="0">
            <a:noFill/>
          </a:ln>
        </p:spPr>
      </p:pic>
    </p:spTree>
  </p:cSld>
  <p:transition>
    <p:zoom dir="out"/>
    <p:sndAc>
      <p:stSnd>
        <p:snd r:embed="rId3" name="sound001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cf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684360" y="612720"/>
            <a:ext cx="7991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Don’t accept your dog’s admiration as conclusive evidence that you are wonderful.  </a:t>
            </a:r>
            <a:r>
              <a:rPr b="0" lang="en-US" sz="1800" spc="-1" strike="noStrike">
                <a:solidFill>
                  <a:srgbClr val="000099"/>
                </a:solidFill>
                <a:latin typeface="Comic Sans MS"/>
              </a:rPr>
              <a:t>Ann Land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cf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900000" y="0"/>
            <a:ext cx="491976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6208560" y="1773360"/>
            <a:ext cx="23241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perly trained, a Man can be Dog's best friend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~Corey Fo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cf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468360" y="5734080"/>
            <a:ext cx="763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I wonder if other dogs think poodles are members of a weird religious cult..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ita Rudn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cf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2453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324000" y="620640"/>
            <a:ext cx="264132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ver consider what our dogs must think of us? I mean, here we come back from a grocery store with the most amazing haul – chicken, pork, half a cow. They must think we’re t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greatest hunters on earth!    Anne Ty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cf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611280" y="5950080"/>
            <a:ext cx="8353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Anybody who doesn’t know what soap tastes like never washed a dog.             </a:t>
            </a:r>
            <a:r>
              <a:rPr b="0" lang="en-US" sz="1800" spc="-1" strike="noStrike">
                <a:solidFill>
                  <a:srgbClr val="ff3300"/>
                </a:solidFill>
                <a:latin typeface="Comic Sans MS"/>
              </a:rPr>
              <a:t>Franklin P. J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cf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324000" y="5661000"/>
            <a:ext cx="849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If I have any beliefs about immortality, it is that certain dogs I have known will go to heaven - and very, very few persons.   </a:t>
            </a: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James Thur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cf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684360" y="981000"/>
            <a:ext cx="7724520" cy="563904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303120" y="404640"/>
            <a:ext cx="830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e most affectionate creature in the world is a wet dog.  ~Ambrose Bie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cf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395280" y="5734080"/>
            <a:ext cx="8497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My dog is worried about the economy because Alpo is up to $3 a ca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That’s almost $21 in dog money.   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Joe Weinste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cf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468360" y="692280"/>
            <a:ext cx="1871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f your dog is fat, you aren’t getting enough exerci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cf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57200" y="38088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333360"/>
            <a:ext cx="2160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My Goal in life is to be as good  a person as my dog already thinks I a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cf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836640"/>
            <a:ext cx="9144000" cy="51433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468360" y="1197000"/>
            <a:ext cx="828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mic Sans MS"/>
              </a:rPr>
              <a:t>If there are no dogs in Heaven, then when I die I want to go where they went. - </a:t>
            </a:r>
            <a:r>
              <a:rPr b="0" lang="en-US" sz="2000" spc="-1" strike="noStrike">
                <a:solidFill>
                  <a:srgbClr val="008000"/>
                </a:solidFill>
                <a:latin typeface="Comic Sans MS"/>
              </a:rPr>
              <a:t>Will Rog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cf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971640" y="476280"/>
            <a:ext cx="7561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Dogs love their friends and bite their enemies, quite unlike people, who are incapable of pure love and always have to mix love and hate - Sigmund Freu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cf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838080" y="3124080"/>
            <a:ext cx="678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5877000"/>
            <a:ext cx="828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mic Sans MS"/>
              </a:rPr>
              <a:t>Dogs are not our whole life, but they make our lives who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omic Sans MS"/>
              </a:rPr>
              <a:t>- </a:t>
            </a:r>
            <a:r>
              <a:rPr b="0" lang="en-US" sz="1800" spc="-1" strike="noStrike">
                <a:solidFill>
                  <a:srgbClr val="008000"/>
                </a:solidFill>
                <a:latin typeface="Comic Sans MS"/>
              </a:rPr>
              <a:t>Roger Car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116000" y="260280"/>
            <a:ext cx="6858000" cy="54864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cf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684360" y="620640"/>
            <a:ext cx="792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Comic Sans MS"/>
              </a:rPr>
              <a:t>The reason a dog has so many friends is that he wags his tail instead of his tongu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-181080" y="1844640"/>
            <a:ext cx="9577440" cy="53625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cf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50920" y="5950080"/>
            <a:ext cx="867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omic Sans MS"/>
              </a:rPr>
              <a:t>Women and cats will do as they please, and men and dogs should relax and get used to the idea. ~ </a:t>
            </a: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Robert A. Heinle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826920" y="189000"/>
            <a:ext cx="7417080" cy="54068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cf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009800" y="2000160"/>
            <a:ext cx="7124400" cy="28576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cf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042920" y="1989000"/>
            <a:ext cx="6985080" cy="32403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cf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042920" y="31680"/>
            <a:ext cx="4551480" cy="68263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867280" y="1270080"/>
            <a:ext cx="30258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ne reason a dog can be such a comfort when you're feeling blue is that he doesn't try to find out wh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~Author Unknow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cf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398040" y="2052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你默默的回首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916360" y="0"/>
            <a:ext cx="485748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24000" y="1125360"/>
            <a:ext cx="21603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The average dog is a nicer person than the average pers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- Andy Roon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cf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640720" cy="64803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592200" y="4869000"/>
            <a:ext cx="80121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Comic Sans MS"/>
              </a:rPr>
              <a:t>Everything I Need to Know I Learned From My Do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When loved ones come home, always run to greet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Never pass up the opportunity to go for a joyri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Allow the experience of fresh air and the wind in your face to be pure ecstas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cf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877080" y="1268280"/>
            <a:ext cx="201600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omic Sans MS"/>
              </a:rPr>
              <a:t>If you pick up a starving dog and make him prosperous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omic Sans MS"/>
              </a:rPr>
              <a:t>he will not bite you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omic Sans MS"/>
              </a:rPr>
              <a:t>that is the principa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omic Sans MS"/>
              </a:rPr>
              <a:t>difference betwe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omic Sans MS"/>
              </a:rPr>
              <a:t>a dog and a man </a:t>
            </a: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–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Mark Twa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79280" y="620640"/>
            <a:ext cx="6264360" cy="53704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cf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5977080" cy="44830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203640" y="4797360"/>
            <a:ext cx="5472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 man may smile and bid you ha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Yet wish you to the devil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ut when a good dog wags his tail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You know he's on the leve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~Author Unknow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cf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9724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755640" y="836640"/>
            <a:ext cx="7435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Comic Sans MS"/>
              </a:rPr>
              <a:t>There is no psychiatrist in the world like a puppy licking your face.    </a:t>
            </a:r>
            <a:r>
              <a:rPr b="0" lang="en-US" sz="2000" spc="-1" strike="noStrike">
                <a:solidFill>
                  <a:srgbClr val="663300"/>
                </a:solidFill>
                <a:latin typeface="Comic Sans MS"/>
              </a:rPr>
              <a:t>Ben Willia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cf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2784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0" y="630864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Comic Sans MS"/>
              </a:rPr>
              <a:t>Scratch a dog and you'll find a permanent job.  ~Franklin P. Jones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20T16:34:52Z</dcterms:created>
  <dc:creator/>
  <dc:description/>
  <dc:language>en-US</dc:language>
  <cp:lastModifiedBy>Crash</cp:lastModifiedBy>
  <dcterms:modified xsi:type="dcterms:W3CDTF">2010-09-25T18:48:20Z</dcterms:modified>
  <cp:revision>35</cp:revision>
  <dc:subject/>
  <dc:title>PowerPoint Presentation</dc:title>
</cp:coreProperties>
</file>