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sound001.wav" ContentType="audio/x-wav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221-7414-4E65-95A1-8102BB37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F54-3C63-47FD-879D-3BD578E8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DF9-650F-4B5B-90AC-F48FFFE0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936-2715-4519-9B65-65486406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B9E-556A-4DF0-984B-38EC7347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2A7-D076-42E8-98E8-AB19CC1A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490-AED6-4BEB-AD90-0701DCCD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4A8-34B7-43A3-923A-3C3E352C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72B-6EA2-49CD-8FB2-2C2F213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AC5-45F9-4B8F-B773-21A7E33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0E0-32B0-4A83-AF61-F3BFAC2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E8A-572A-4C0A-9FCC-6770A8DF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C7B2-4A67-4739-9CE7-73FA89633A2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sound00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4360" y="1060560"/>
            <a:ext cx="643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David"/>
              </a:rPr>
              <a:t>About dogs and peop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1955880" cy="1342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2448000" cy="3733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61272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on’t accept your dog’s admiration as conclusive evidence that you are wonderful. 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nn La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4919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08560" y="1773360"/>
            <a:ext cx="232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erly trained, a Man can be Dog's best frien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Corey 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57340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wonder if other dogs think poodles are members of a weird religious cult.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ta Rud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620640"/>
            <a:ext cx="2641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er consider what our dogs must think of us? I mean, here we come back from a grocery store with the most amazing haul – chicken, pork, half a cow. They must think we’r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eatest hunters on earth!    Anne Ty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59500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ybody who doesn’t know what soap tastes like never washed a dog.        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ranklin P. J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566100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f I have any beliefs about immortality, it is that certain dogs I have known will go to heaven - and very, very few persons.  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James Thu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24520" cy="5639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3120" y="404640"/>
            <a:ext cx="83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ost affectionate creature in the world is a wet dog.  ~Ambrose Bi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573408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y dog is worried about the economy because Alpo is up to $3 a 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at’s almost $21 in dog money.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oe Weins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692280"/>
            <a:ext cx="18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our dog is fat, you aren’t getting enough exer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333360"/>
            <a:ext cx="21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y Goal in life is to be as good  a person as my dog already thinks I 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If there are no dogs in Heaven, then when I die I want to go where they went. -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Will Ro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47628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gs love their friends and bite their enemies, quite unlike people, who are incapable of pure love and always have to mix love and hate - Sigmund Fre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3124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87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Dogs are not our whole life, but they make our lives w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Roger Ca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620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The reason a dog has so many friends is that he wags his tail instead of his tong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81080" y="1844640"/>
            <a:ext cx="9577440" cy="536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5950080"/>
            <a:ext cx="86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Women and cats will do as they please, and men and dogs should relax and get used to the idea. ~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obert A. Hein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540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09800" y="2000160"/>
            <a:ext cx="7124400" cy="285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8508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31680"/>
            <a:ext cx="4551480" cy="6826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1270080"/>
            <a:ext cx="302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ason a dog can be such a comfort when you're feeling blue is that he doesn't try to find out w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Author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98040" y="20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你默默的回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4857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1125360"/>
            <a:ext cx="216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average dog is a nicer person than the average per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- Andy Ro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200" y="4869000"/>
            <a:ext cx="801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Everything I Need to Know I Learned From My D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loved ones come home, always run to greet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ver pass up the opportunity to go for a joyr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low the experience of fresh air and the wind in your face to be pure ecstas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77080" y="1268280"/>
            <a:ext cx="201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If you pick up a starving dog and make him prospero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he will not bite you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that is the princip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difference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 dog and a man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ark Tw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6264360" cy="537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03640" y="4797360"/>
            <a:ext cx="54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an may smile and bid you h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t wish you to the dev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hen a good dog wags his tai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know he's on the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Author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836640"/>
            <a:ext cx="743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There is no psychiatrist in the world like a puppy licking your face.    </a:t>
            </a: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Ben Willi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308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Scratch a dog and you'll find a permanent job.  ~Franklin P. Jon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6:34:52Z</dcterms:created>
  <dc:creator/>
  <dc:description/>
  <dc:language>en-US</dc:language>
  <cp:lastModifiedBy>Crash</cp:lastModifiedBy>
  <dcterms:modified xsi:type="dcterms:W3CDTF">2010-09-25T18:48:20Z</dcterms:modified>
  <cp:revision>35</cp:revision>
  <dc:subject/>
  <dc:title>PowerPoint Presentation</dc:title>
</cp:coreProperties>
</file>