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12.gif" ContentType="image/gif"/>
  <Override PartName="/ppt/media/image15.png" ContentType="image/png"/>
  <Override PartName="/ppt/media/image10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9.jpeg" ContentType="image/jpeg"/>
  <Override PartName="/ppt/media/image11.jpeg" ContentType="image/jpeg"/>
  <Override PartName="/ppt/media/image6.jpeg" ContentType="image/jpeg"/>
  <Override PartName="/ppt/media/image4.gif" ContentType="image/gif"/>
  <Override PartName="/ppt/media/image22.jpeg" ContentType="image/jpeg"/>
  <Override PartName="/ppt/media/image27.gif" ContentType="image/gif"/>
  <Override PartName="/ppt/media/image26.gif" ContentType="image/gif"/>
  <Override PartName="/ppt/media/image20.jpeg" ContentType="image/jpeg"/>
  <Override PartName="/ppt/media/image25.png" ContentType="image/png"/>
  <Override PartName="/ppt/media/image23.jpeg" ContentType="image/jpeg"/>
  <Override PartName="/ppt/media/image21.jpeg" ContentType="image/jpeg"/>
  <Override PartName="/ppt/media/image19.jpeg" ContentType="image/jpeg"/>
  <Override PartName="/ppt/media/image24.gif" ContentType="image/gif"/>
  <Override PartName="/ppt/media/image1.gif" ContentType="image/gif"/>
  <Override PartName="/ppt/media/image18.gif" ContentType="image/gif"/>
  <Override PartName="/ppt/media/image14.jpeg" ContentType="image/jpeg"/>
  <Override PartName="/ppt/media/image7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19E4-218E-4C9C-B982-0F126EC7F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8D0A-5A89-45E8-A2F6-4811F9B9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C91E-CB72-48FE-BA70-29FC96891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7D0B-952C-4E48-8968-BECBBB868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5B49-8651-4B0A-85B9-A8F16263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84EE-750C-4101-8455-A9F080D3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8602-819E-47CE-9BE9-6CE517C5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B37A-7D46-4427-AA77-B1C4AB14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B821-CE09-4D69-9ADE-DB2B80AF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E86F-DDF5-4350-B9E1-9AF4C552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D5F7-AD7D-4278-AA47-ED3D637A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1A86-59CA-4966-AB42-58B1BAE5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C3B8C-1C29-4EBF-BEA3-DEED65D7F55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83664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9999"/>
                </a:solidFill>
                <a:latin typeface="Comic Sans MS"/>
              </a:rPr>
              <a:t>The capabilities of the human brain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340000" y="3789360"/>
            <a:ext cx="597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00360" y="3573360"/>
            <a:ext cx="64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9999"/>
                </a:solidFill>
                <a:latin typeface="Comic Sans MS"/>
              </a:rPr>
              <a:t>Hope you find it inter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708360" y="1484280"/>
            <a:ext cx="1076400" cy="1846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00000" y="4941720"/>
            <a:ext cx="685800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mic Sans MS"/>
              </a:rPr>
              <a:t>Can you tell the difference between a horse and a fro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EC__x005F_x0000_i1031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6048360" cy="5784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227640" y="771480"/>
            <a:ext cx="27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mic Sans MS"/>
              </a:rPr>
              <a:t>Watch closely..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381636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mic Sans MS"/>
              </a:rPr>
              <a:t>Weird Walking Cow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EC__x005F_x0000_i1030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6481800" cy="5837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284720" y="-144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Comic Sans MS"/>
              </a:rPr>
              <a:t>Warning: Do not view this while drinking</a:t>
            </a:r>
            <a:r>
              <a:rPr b="0" lang="en-CA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99cc00"/>
                </a:solidFill>
                <a:latin typeface="Comic Sans MS"/>
              </a:rPr>
              <a:t>More optical Illusions…</a:t>
            </a:r>
            <a:r>
              <a:rPr b="0" lang="en-CA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de-DE" sz="2400" spc="-1" strike="noStrike">
                <a:solidFill>
                  <a:srgbClr val="333399"/>
                </a:solidFill>
                <a:latin typeface="Comic Sans MS"/>
              </a:rPr>
              <a:t>is anything rotating?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4000" y="561960"/>
            <a:ext cx="8424720" cy="62960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Comic Sans MS"/>
              </a:rPr>
              <a:t>are these moving?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378080"/>
            <a:ext cx="9144000" cy="4565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9cc00"/>
                </a:solidFill>
                <a:latin typeface="Comic Sans MS"/>
              </a:rPr>
              <a:t>how about thes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8604360" cy="59068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9cc00"/>
                </a:solidFill>
                <a:latin typeface="Comic Sans MS"/>
              </a:rPr>
              <a:t>actually none of these move!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244000" cy="5949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Ja, tun sie!"/>
          <p:cNvPicPr/>
          <p:nvPr/>
        </p:nvPicPr>
        <p:blipFill>
          <a:blip r:embed="rId2"/>
          <a:stretch/>
        </p:blipFill>
        <p:spPr>
          <a:xfrm>
            <a:off x="395280" y="6521400"/>
            <a:ext cx="8209080" cy="3366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Comic Sans MS"/>
              </a:rPr>
              <a:t>are all the hozontal lines parallel?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136000" cy="61196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mic Sans MS"/>
              </a:rPr>
              <a:t>are the purple lines straight or bent?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209080" cy="49784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3300"/>
                </a:solidFill>
                <a:latin typeface="Comic Sans MS"/>
              </a:rPr>
              <a:t>are the concentric lines, circles or a spir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403280" y="522360"/>
            <a:ext cx="6372360" cy="63356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cus on the dot in the centre and move your head  backwards and forwards...Weird..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63640" y="981000"/>
            <a:ext cx="5688000" cy="56563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henomenal power of the human mind</a:t>
            </a:r>
            <a:br>
              <a:rPr sz="2800"/>
            </a:b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cdnuolt blveiee taht I cluod aulaclty uesdnatnrd waht I was rdanie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haonmneal pweor of the hmuan mnid! Aoccdrnig to a rscheearch at Cmabrigde Uinervtisy, it deosn't mttaer inwaht oredr the ltteers in a wrod are, the olny iprmoatnt tihng is taht the frist and lsat ltteer be in the rghit pclae. The rset can be a taotl mses and you can sitll raed it wouthit a porbelm. Tihs is bcuseae the huamn mnid deos not raed ervey lteter by istlef, but the wrod as a wlohe. Amzanig huh? Yaeh, and I awlyas thought slpeling was ipmorantt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TE: I read this somewhere and I just had to pass it around. I do not know the origins of the text</a:t>
            </a:r>
            <a:br>
              <a:rPr sz="1800"/>
            </a:b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mic Sans MS"/>
              </a:rPr>
              <a:t>Do you see gray areas in between the squares? Now where did they come from?</a:t>
            </a: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58920" y="1341360"/>
            <a:ext cx="6502320" cy="45514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5219280" y="0"/>
            <a:ext cx="3924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his is quite amaz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f you see this lady turning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clockwise,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you are supposed to be using your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ight brain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f you see it turning the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other way,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th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dy turning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counter-clockwis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you are supposed to be  using your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left brain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me people can make the lady turn both ways, but most people see it turning only one way (It is said that only about 15% of the US population can see her (make her) move both way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BOTH DIRECTIONS CAN BE DONE!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See if you can make her go one way and then the other by shifting the brain's curren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his is without a doubt one of the coolest PC illusions I have seen so fa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348000" y="1197000"/>
            <a:ext cx="5203800" cy="4640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0920" y="1125360"/>
            <a:ext cx="309708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Comic Sans MS"/>
              </a:rPr>
              <a:t>Follow the instruction below.</a:t>
            </a:r>
            <a:br>
              <a:rPr sz="1700"/>
            </a:br>
            <a:r>
              <a:rPr b="1" lang="de-DE" sz="1700" spc="-1" strike="noStrike">
                <a:solidFill>
                  <a:srgbClr val="000000"/>
                </a:solidFill>
                <a:latin typeface="Comic Sans MS"/>
              </a:rPr>
              <a:t>  </a:t>
            </a:r>
            <a:br>
              <a:rPr sz="1700"/>
            </a:br>
            <a:r>
              <a:rPr b="1" lang="ar-SA" sz="17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de-DE" sz="1700" spc="-1" strike="noStrike">
                <a:solidFill>
                  <a:srgbClr val="000000"/>
                </a:solidFill>
                <a:latin typeface="Comic Sans MS"/>
              </a:rPr>
              <a:t>) Relax and stare 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at the 4 little dots on the middle of the picture for 30 seconds </a:t>
            </a:r>
            <a:br>
              <a:rPr sz="1700"/>
            </a:br>
            <a:br>
              <a:rPr sz="1700"/>
            </a:br>
            <a:r>
              <a:rPr b="1" lang="de-DE" sz="1700" spc="-1" strike="noStrike">
                <a:solidFill>
                  <a:srgbClr val="000000"/>
                </a:solidFill>
                <a:latin typeface="Comic Sans MS"/>
              </a:rPr>
              <a:t>2) then look at a </a:t>
            </a:r>
            <a:r>
              <a:rPr b="1" lang="en-CA" sz="1700" spc="-1" strike="noStrike">
                <a:solidFill>
                  <a:srgbClr val="000000"/>
                </a:solidFill>
                <a:latin typeface="Comic Sans MS"/>
              </a:rPr>
              <a:t>blank</a:t>
            </a:r>
            <a:r>
              <a:rPr b="0" lang="en-CA" sz="1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de-DE" sz="1700" spc="-1" strike="noStrike">
                <a:solidFill>
                  <a:srgbClr val="000000"/>
                </a:solidFill>
                <a:latin typeface="Comic Sans MS"/>
              </a:rPr>
              <a:t>wall near you (any smooth, single coloured surface)</a:t>
            </a:r>
            <a:br>
              <a:rPr sz="1700"/>
            </a:br>
            <a:br>
              <a:rPr sz="1700"/>
            </a:br>
            <a:r>
              <a:rPr b="1" lang="ar-SA" sz="17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de-DE" sz="1700" spc="-1" strike="noStrike">
                <a:solidFill>
                  <a:srgbClr val="000000"/>
                </a:solidFill>
                <a:latin typeface="Comic Sans MS"/>
              </a:rPr>
              <a:t>) a bright spot will appear</a:t>
            </a:r>
            <a:br>
              <a:rPr sz="1700"/>
            </a:br>
            <a:r>
              <a:rPr b="1" lang="de-DE" sz="17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700"/>
            </a:br>
            <a:r>
              <a:rPr b="1" lang="ar-SA" sz="17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de-DE" sz="17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en-CA" sz="1700" spc="-1" strike="noStrike">
                <a:solidFill>
                  <a:srgbClr val="000000"/>
                </a:solidFill>
                <a:latin typeface="Comic Sans MS"/>
              </a:rPr>
              <a:t>Blink your eyes</a:t>
            </a:r>
            <a:r>
              <a:rPr b="1" lang="de-DE" sz="1700" spc="-1" strike="noStrike">
                <a:solidFill>
                  <a:srgbClr val="000000"/>
                </a:solidFill>
                <a:latin typeface="Comic Sans MS"/>
              </a:rPr>
              <a:t> a few times and you will see a figure emerging</a:t>
            </a:r>
            <a:br>
              <a:rPr sz="1700"/>
            </a:br>
            <a:r>
              <a:rPr b="1" lang="de-DE" sz="17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700"/>
            </a:br>
            <a:r>
              <a:rPr b="1" lang="de-DE" sz="1700" spc="-1" strike="noStrike">
                <a:solidFill>
                  <a:srgbClr val="000000"/>
                </a:solidFill>
                <a:latin typeface="Comic Sans MS"/>
              </a:rPr>
              <a:t>5) What do you see? Moreover WHO do you see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mic Sans MS"/>
              </a:rPr>
              <a:t>This is another example of an amazing illusion!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51280" y="692280"/>
            <a:ext cx="5040360" cy="5040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910440"/>
            <a:ext cx="3780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Comic Sans MS"/>
              </a:rPr>
              <a:t>If your brain works normally this is neat. </a:t>
            </a:r>
            <a:br>
              <a:rPr sz="1800"/>
            </a:br>
            <a:r>
              <a:rPr b="1" lang="en-CA" sz="1800" spc="-1" strike="noStrike">
                <a:solidFill>
                  <a:srgbClr val="000000"/>
                </a:solidFill>
                <a:latin typeface="Comic Sans MS"/>
              </a:rPr>
              <a:t>If your eyes follow the movement of the rotating pink dot, the dots will remain only one color, </a:t>
            </a:r>
            <a:r>
              <a:rPr b="1" lang="en-CA" sz="1800" spc="-1" strike="noStrike">
                <a:solidFill>
                  <a:srgbClr val="ff00ff"/>
                </a:solidFill>
                <a:latin typeface="Comic Sans MS"/>
              </a:rPr>
              <a:t>pink.</a:t>
            </a:r>
            <a:br>
              <a:rPr sz="1800"/>
            </a:br>
            <a:r>
              <a:rPr b="0" lang="en-C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ff"/>
                </a:solidFill>
                <a:latin typeface="Comic Sans MS"/>
              </a:rPr>
              <a:t>If you concentrate on the cross in the middle, after a while you will notice that this moving pink dot will turn </a:t>
            </a:r>
            <a:r>
              <a:rPr b="1" lang="de-DE" sz="1800" spc="-1" strike="noStrike">
                <a:solidFill>
                  <a:srgbClr val="009900"/>
                </a:solidFill>
                <a:latin typeface="Comic Sans MS"/>
              </a:rPr>
              <a:t>green!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de-DE" sz="1800" spc="-1" strike="noStrike">
                <a:solidFill>
                  <a:srgbClr val="009900"/>
                </a:solidFill>
                <a:latin typeface="Comic Sans MS"/>
              </a:rPr>
              <a:t>Keep looking at the cross a bit longer and you‘ll notice that all dots except the green one will disappear</a:t>
            </a:r>
            <a:br>
              <a:rPr sz="1800"/>
            </a:br>
            <a:br>
              <a:rPr sz="1800"/>
            </a:br>
            <a:r>
              <a:rPr b="1" i="1" lang="en-CA" sz="1800" spc="-1" strike="noStrike">
                <a:solidFill>
                  <a:srgbClr val="000000"/>
                </a:solidFill>
                <a:latin typeface="Comic Sans MS"/>
              </a:rPr>
              <a:t>It's amazing how our brain works – There really is no </a:t>
            </a:r>
            <a:r>
              <a:rPr b="1" i="1" lang="en-CA" sz="1800" spc="-1" strike="noStrike">
                <a:solidFill>
                  <a:srgbClr val="009900"/>
                </a:solidFill>
                <a:latin typeface="Comic Sans MS"/>
              </a:rPr>
              <a:t>green </a:t>
            </a:r>
            <a:r>
              <a:rPr b="1" i="1" lang="en-CA" sz="1800" spc="-1" strike="noStrike">
                <a:solidFill>
                  <a:srgbClr val="000000"/>
                </a:solidFill>
                <a:latin typeface="Comic Sans MS"/>
              </a:rPr>
              <a:t>dot, and the </a:t>
            </a:r>
            <a:r>
              <a:rPr b="1" i="1" lang="en-CA" sz="1800" spc="-1" strike="noStrike">
                <a:solidFill>
                  <a:srgbClr val="ff00ff"/>
                </a:solidFill>
                <a:latin typeface="Comic Sans MS"/>
              </a:rPr>
              <a:t>pink </a:t>
            </a:r>
            <a:r>
              <a:rPr b="1" i="1" lang="en-CA" sz="1800" spc="-1" strike="noStrike">
                <a:solidFill>
                  <a:srgbClr val="000000"/>
                </a:solidFill>
                <a:latin typeface="Comic Sans MS"/>
              </a:rPr>
              <a:t>ones really don't disappear.</a:t>
            </a:r>
            <a:r>
              <a:rPr b="0" lang="en-C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de-DE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51280" y="5933160"/>
            <a:ext cx="529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0000"/>
                </a:solidFill>
                <a:latin typeface="Comic Sans MS"/>
              </a:rPr>
              <a:t>This should be proof enough; we don't always see what we think we se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356000" y="189000"/>
            <a:ext cx="4608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9999"/>
                </a:solidFill>
                <a:latin typeface="Comic Sans MS"/>
              </a:rPr>
              <a:t>That’s all Folk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589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999"/>
                </a:solidFill>
                <a:latin typeface="Comic Sans MS"/>
              </a:rPr>
              <a:t>Have a blessed and wonderful day – Alway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419640" y="1484280"/>
            <a:ext cx="1636560" cy="31226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Take a look at the picture? What do you s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4676760" cy="6237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003640" y="549360"/>
            <a:ext cx="414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has shown that young children cannot identify the intimate couple because they do not have prior memory associated with such a scen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ildren see nine dolph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s is a test to determine if you already have a corrupted mind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f it is hard for you to find the dolphins within six seconds, your mind is indeed corrup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12000" y="3860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8388360" y="3068640"/>
            <a:ext cx="358920" cy="3589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mic Sans MS"/>
              </a:rPr>
              <a:t>Can you see a man's face and also a word?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4068720" cy="5832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788000" y="691560"/>
            <a:ext cx="40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mic Sans MS"/>
              </a:rPr>
              <a:t>Hint: Try tilting your head to the right, the word begins with 'L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mic Sans MS"/>
              </a:rPr>
              <a:t>Can you see 10 faces in the tree…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EC__x005F_x0000_i1025" descr=""/>
          <p:cNvPicPr/>
          <p:nvPr/>
        </p:nvPicPr>
        <p:blipFill>
          <a:blip r:embed="rId1"/>
          <a:stretch/>
        </p:blipFill>
        <p:spPr>
          <a:xfrm>
            <a:off x="1625760" y="692280"/>
            <a:ext cx="5724360" cy="58658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mic Sans MS"/>
              </a:rPr>
              <a:t>Can you see a face here?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EC__x005F_x0000_i1026" descr=""/>
          <p:cNvPicPr/>
          <p:nvPr/>
        </p:nvPicPr>
        <p:blipFill>
          <a:blip r:embed="rId1"/>
          <a:stretch/>
        </p:blipFill>
        <p:spPr>
          <a:xfrm>
            <a:off x="2195640" y="549360"/>
            <a:ext cx="4657680" cy="59673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mic Sans MS"/>
              </a:rPr>
              <a:t>Can you see the outline of the ‘Unborn baby’?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EC__x005F_x0000_i1027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8064720" cy="57229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mic Sans MS"/>
              </a:rPr>
              <a:t>Can you see the ‘Kissing Couple’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EC__x005F_x0000_i1028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4908600" cy="6381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80000" y="565560"/>
            <a:ext cx="356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Comic Sans MS"/>
              </a:rPr>
              <a:t>Or the dangling legs? </a:t>
            </a:r>
            <a:br>
              <a:rPr sz="1800"/>
            </a:br>
            <a:r>
              <a:rPr b="1" lang="en-CA" sz="1800" spc="-1" strike="noStrike">
                <a:solidFill>
                  <a:srgbClr val="000000"/>
                </a:solidFill>
                <a:latin typeface="Comic Sans MS"/>
              </a:rPr>
              <a:t>How about the stockings?</a:t>
            </a:r>
            <a:br>
              <a:rPr sz="1800"/>
            </a:b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mic Sans MS"/>
              </a:rPr>
              <a:t>Can you see three women?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EC__x005F_x0000_i1029" descr=""/>
          <p:cNvPicPr/>
          <p:nvPr/>
        </p:nvPicPr>
        <p:blipFill>
          <a:blip r:embed="rId1"/>
          <a:stretch/>
        </p:blipFill>
        <p:spPr>
          <a:xfrm>
            <a:off x="2195640" y="620640"/>
            <a:ext cx="5148000" cy="57675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0T17:55:10Z</dcterms:created>
  <dc:creator>JeganathanAy</dc:creator>
  <dc:description/>
  <dc:language>en-US</dc:language>
  <cp:lastModifiedBy>JeganathanAy</cp:lastModifiedBy>
  <dcterms:modified xsi:type="dcterms:W3CDTF">2009-08-20T18:11:00Z</dcterms:modified>
  <cp:revision>22</cp:revision>
  <dc:subject/>
  <dc:title>Slide 1</dc:title>
</cp:coreProperties>
</file>