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2.gif" ContentType="image/gif"/>
  <Override PartName="/ppt/media/image15.png" ContentType="image/png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4.gif" ContentType="image/gif"/>
  <Override PartName="/ppt/media/image22.jpeg" ContentType="image/jpeg"/>
  <Override PartName="/ppt/media/image27.gif" ContentType="image/gif"/>
  <Override PartName="/ppt/media/image26.gif" ContentType="image/gif"/>
  <Override PartName="/ppt/media/image20.jpeg" ContentType="image/jpeg"/>
  <Override PartName="/ppt/media/image25.png" ContentType="image/png"/>
  <Override PartName="/ppt/media/image23.jpeg" ContentType="image/jpeg"/>
  <Override PartName="/ppt/media/image21.jpeg" ContentType="image/jpeg"/>
  <Override PartName="/ppt/media/image19.jpeg" ContentType="image/jpeg"/>
  <Override PartName="/ppt/media/image24.gif" ContentType="image/gif"/>
  <Override PartName="/ppt/media/image1.gif" ContentType="image/gif"/>
  <Override PartName="/ppt/media/image18.gif" ContentType="image/gif"/>
  <Override PartName="/ppt/media/image14.jpeg" ContentType="image/jpeg"/>
  <Override PartName="/ppt/media/image7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A4BC-B22F-4B38-9100-2F49189E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56B8-AE24-4AE6-AC70-3E304133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48CB-AE74-47AA-8876-96E3F541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2C41-001A-40A8-9797-E3C16F2C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F886-C175-4F45-89E5-3A7E569C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E0FA-8D77-4481-89B4-56A52AEC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C66F-03CE-4AE8-A509-B9F79F0A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86F5-18F8-4D7F-BF4C-BA495888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05C1-22D4-4134-9173-1B3EEA25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2436-18D4-47B6-936A-139FD0F0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FB06-2275-4946-9729-06FBB3C9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C996-AB2F-4777-8E8E-600F555F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DF13-C45D-4A15-B71C-5A46E342941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9999"/>
                </a:solidFill>
                <a:latin typeface="Comic Sans MS"/>
              </a:rPr>
              <a:t>The capabilities of the human brai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40000" y="3789360"/>
            <a:ext cx="59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00360" y="3573360"/>
            <a:ext cx="64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9999"/>
                </a:solidFill>
                <a:latin typeface="Comic Sans MS"/>
              </a:rPr>
              <a:t>Hope you find it inter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708360" y="1484280"/>
            <a:ext cx="1076400" cy="1846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00000" y="4941720"/>
            <a:ext cx="685800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Can you tell the difference between a horse and a fro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EC__x005F_x0000_i1031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6048360" cy="5784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227640" y="77148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Watch closely..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381636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Weird Walking Cow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EC__x005F_x0000_i1030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6481800" cy="5837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284720" y="-144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Comic Sans MS"/>
              </a:rPr>
              <a:t>Warning: Do not view this while drinking</a:t>
            </a:r>
            <a:r>
              <a:rPr b="0" lang="en-CA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99cc00"/>
                </a:solidFill>
                <a:latin typeface="Comic Sans MS"/>
              </a:rPr>
              <a:t>More optical Illusions…</a:t>
            </a:r>
            <a:r>
              <a:rPr b="0" lang="en-CA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Comic Sans MS"/>
              </a:rPr>
              <a:t>is anything rotating?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561960"/>
            <a:ext cx="8424720" cy="6296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omic Sans MS"/>
              </a:rPr>
              <a:t>are these moving?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378080"/>
            <a:ext cx="9144000" cy="4565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cc00"/>
                </a:solidFill>
                <a:latin typeface="Comic Sans MS"/>
              </a:rPr>
              <a:t>how about thes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604360" cy="5906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cc00"/>
                </a:solidFill>
                <a:latin typeface="Comic Sans MS"/>
              </a:rPr>
              <a:t>actually none of these move!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244000" cy="5949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Ja, tun sie!"/>
          <p:cNvPicPr/>
          <p:nvPr/>
        </p:nvPicPr>
        <p:blipFill>
          <a:blip r:embed="rId2"/>
          <a:stretch/>
        </p:blipFill>
        <p:spPr>
          <a:xfrm>
            <a:off x="395280" y="6521400"/>
            <a:ext cx="8209080" cy="336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Comic Sans MS"/>
              </a:rPr>
              <a:t>are all the hozontal lines parallel?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136000" cy="6119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are the purple lines straight or bent?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09080" cy="4978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3300"/>
                </a:solidFill>
                <a:latin typeface="Comic Sans MS"/>
              </a:rPr>
              <a:t>are the concentric lines, circles or a spir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03280" y="522360"/>
            <a:ext cx="637236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cus on the dot in the centre and move your head  backwards and forwards...Weird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63640" y="981000"/>
            <a:ext cx="5688000" cy="56563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henomenal power of the human mind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cdnuolt blveiee taht I cluod aulaclty uesdnatnrd waht I was rdanie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haonmneal pweor of the hmuan mnid! Aoccdrnig to a rscheearch at Cmabrigde Uinervtisy, it deosn't mttaer inwaht oredr the ltteers in a wrod are, the olny iprmoatnt tihng is taht the frist and lsat ltteer be in the rghit pclae. The rset can be a taotl mses and you can sitll raed it wouthit a porbelm. Tihs is bcuseae the huamn mnid deos not raed ervey lteter by istlef, but the wrod as a wlohe. Amzanig huh? Yaeh, and I awlyas thought slpeling was ipmorantt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E: I read this somewhere and I just had to pass it around. I do not know the origins of the text</a:t>
            </a:r>
            <a:br>
              <a:rPr sz="1800"/>
            </a:b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Do you see gray areas in between the squares? Now where did they come from?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502320" cy="4551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219280" y="0"/>
            <a:ext cx="392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is is quite amaz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you see this lady turning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clockwise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you are supposed to be using your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ight brain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you see it turning the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other way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th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dy turning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counter-clockwis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you are supposed to be  using your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left brain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 people can make the lady turn both ways, but most people see it turning only one way (It is said that only about 15% of the US population can see her (make her) move both w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BOTH DIRECTIONS CAN BE DONE!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See if you can make her go one way and then the other by shifting the brain's curre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is is without a doubt one of the coolest PC illusions I have seen so f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348000" y="1197000"/>
            <a:ext cx="5203800" cy="4640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1125360"/>
            <a:ext cx="309708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Comic Sans MS"/>
              </a:rPr>
              <a:t>Follow the instruction below.</a:t>
            </a:r>
            <a:br>
              <a:rPr sz="1700"/>
            </a:br>
            <a:r>
              <a:rPr b="1" lang="de-DE" sz="1700" spc="-1" strike="noStrike">
                <a:solidFill>
                  <a:srgbClr val="000000"/>
                </a:solidFill>
                <a:latin typeface="Comic Sans MS"/>
              </a:rPr>
              <a:t>  </a:t>
            </a:r>
            <a:br>
              <a:rPr sz="1700"/>
            </a:br>
            <a:r>
              <a:rPr b="1" lang="ar-SA" sz="17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de-DE" sz="1700" spc="-1" strike="noStrike">
                <a:solidFill>
                  <a:srgbClr val="000000"/>
                </a:solidFill>
                <a:latin typeface="Comic Sans MS"/>
              </a:rPr>
              <a:t>) Relax and stare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at the 4 little dots on the middle of the picture for 30 seconds </a:t>
            </a:r>
            <a:br>
              <a:rPr sz="1700"/>
            </a:br>
            <a:br>
              <a:rPr sz="1700"/>
            </a:br>
            <a:r>
              <a:rPr b="1" lang="de-DE" sz="1700" spc="-1" strike="noStrike">
                <a:solidFill>
                  <a:srgbClr val="000000"/>
                </a:solidFill>
                <a:latin typeface="Comic Sans MS"/>
              </a:rPr>
              <a:t>2) then look at a </a:t>
            </a:r>
            <a:r>
              <a:rPr b="1" lang="en-CA" sz="1700" spc="-1" strike="noStrike">
                <a:solidFill>
                  <a:srgbClr val="000000"/>
                </a:solidFill>
                <a:latin typeface="Comic Sans MS"/>
              </a:rPr>
              <a:t>blank</a:t>
            </a:r>
            <a:r>
              <a:rPr b="0" lang="en-CA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700" spc="-1" strike="noStrike">
                <a:solidFill>
                  <a:srgbClr val="000000"/>
                </a:solidFill>
                <a:latin typeface="Comic Sans MS"/>
              </a:rPr>
              <a:t>wall near you (any smooth, single coloured surface)</a:t>
            </a:r>
            <a:br>
              <a:rPr sz="1700"/>
            </a:br>
            <a:br>
              <a:rPr sz="1700"/>
            </a:br>
            <a:r>
              <a:rPr b="1" lang="ar-SA" sz="17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de-DE" sz="1700" spc="-1" strike="noStrike">
                <a:solidFill>
                  <a:srgbClr val="000000"/>
                </a:solidFill>
                <a:latin typeface="Comic Sans MS"/>
              </a:rPr>
              <a:t>) a bright spot will appear</a:t>
            </a:r>
            <a:br>
              <a:rPr sz="1700"/>
            </a:br>
            <a:r>
              <a:rPr b="1" lang="de-DE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700"/>
            </a:br>
            <a:r>
              <a:rPr b="1" lang="ar-SA" sz="17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de-DE" sz="17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CA" sz="1700" spc="-1" strike="noStrike">
                <a:solidFill>
                  <a:srgbClr val="000000"/>
                </a:solidFill>
                <a:latin typeface="Comic Sans MS"/>
              </a:rPr>
              <a:t>Blink your eyes</a:t>
            </a:r>
            <a:r>
              <a:rPr b="1" lang="de-DE" sz="1700" spc="-1" strike="noStrike">
                <a:solidFill>
                  <a:srgbClr val="000000"/>
                </a:solidFill>
                <a:latin typeface="Comic Sans MS"/>
              </a:rPr>
              <a:t> a few times and you will see a figure emerging</a:t>
            </a:r>
            <a:br>
              <a:rPr sz="1700"/>
            </a:br>
            <a:r>
              <a:rPr b="1" lang="de-DE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700"/>
            </a:br>
            <a:r>
              <a:rPr b="1" lang="de-DE" sz="1700" spc="-1" strike="noStrike">
                <a:solidFill>
                  <a:srgbClr val="000000"/>
                </a:solidFill>
                <a:latin typeface="Comic Sans MS"/>
              </a:rPr>
              <a:t>5) What do you see? Moreover WHO do you se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This is another example of an amazing illusion!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51280" y="69228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910440"/>
            <a:ext cx="378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Comic Sans MS"/>
              </a:rPr>
              <a:t>If your brain works normally this is neat. </a:t>
            </a:r>
            <a:br>
              <a:rPr sz="1800"/>
            </a:br>
            <a:r>
              <a:rPr b="1" lang="en-CA" sz="1800" spc="-1" strike="noStrike">
                <a:solidFill>
                  <a:srgbClr val="000000"/>
                </a:solidFill>
                <a:latin typeface="Comic Sans MS"/>
              </a:rPr>
              <a:t>If your eyes follow the movement of the rotating pink dot, the dots will remain only one color, </a:t>
            </a:r>
            <a:r>
              <a:rPr b="1" lang="en-CA" sz="1800" spc="-1" strike="noStrike">
                <a:solidFill>
                  <a:srgbClr val="ff00ff"/>
                </a:solidFill>
                <a:latin typeface="Comic Sans MS"/>
              </a:rPr>
              <a:t>pink.</a:t>
            </a:r>
            <a:br>
              <a:rPr sz="1800"/>
            </a:br>
            <a:r>
              <a:rPr b="0" lang="en-C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ff"/>
                </a:solidFill>
                <a:latin typeface="Comic Sans MS"/>
              </a:rPr>
              <a:t>If you concentrate on the cross in the middle, after a while you will notice that this moving pink dot will turn </a:t>
            </a:r>
            <a:r>
              <a:rPr b="1" lang="de-DE" sz="1800" spc="-1" strike="noStrike">
                <a:solidFill>
                  <a:srgbClr val="009900"/>
                </a:solidFill>
                <a:latin typeface="Comic Sans MS"/>
              </a:rPr>
              <a:t>green!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9900"/>
                </a:solidFill>
                <a:latin typeface="Comic Sans MS"/>
              </a:rPr>
              <a:t>Keep looking at the cross a bit longer and you‘ll notice that all dots except the green one will disappear</a:t>
            </a:r>
            <a:br>
              <a:rPr sz="1800"/>
            </a:br>
            <a:br>
              <a:rPr sz="1800"/>
            </a:br>
            <a:r>
              <a:rPr b="1" i="1" lang="en-CA" sz="1800" spc="-1" strike="noStrike">
                <a:solidFill>
                  <a:srgbClr val="000000"/>
                </a:solidFill>
                <a:latin typeface="Comic Sans MS"/>
              </a:rPr>
              <a:t>It's amazing how our brain works – There really is no </a:t>
            </a:r>
            <a:r>
              <a:rPr b="1" i="1" lang="en-CA" sz="1800" spc="-1" strike="noStrike">
                <a:solidFill>
                  <a:srgbClr val="009900"/>
                </a:solidFill>
                <a:latin typeface="Comic Sans MS"/>
              </a:rPr>
              <a:t>green </a:t>
            </a:r>
            <a:r>
              <a:rPr b="1" i="1" lang="en-CA" sz="1800" spc="-1" strike="noStrike">
                <a:solidFill>
                  <a:srgbClr val="000000"/>
                </a:solidFill>
                <a:latin typeface="Comic Sans MS"/>
              </a:rPr>
              <a:t>dot, and the </a:t>
            </a:r>
            <a:r>
              <a:rPr b="1" i="1" lang="en-CA" sz="1800" spc="-1" strike="noStrike">
                <a:solidFill>
                  <a:srgbClr val="ff00ff"/>
                </a:solidFill>
                <a:latin typeface="Comic Sans MS"/>
              </a:rPr>
              <a:t>pink </a:t>
            </a:r>
            <a:r>
              <a:rPr b="1" i="1" lang="en-CA" sz="1800" spc="-1" strike="noStrike">
                <a:solidFill>
                  <a:srgbClr val="000000"/>
                </a:solidFill>
                <a:latin typeface="Comic Sans MS"/>
              </a:rPr>
              <a:t>ones really don't disappear.</a:t>
            </a:r>
            <a:r>
              <a:rPr b="0" lang="en-C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51280" y="5933160"/>
            <a:ext cx="52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0000"/>
                </a:solidFill>
                <a:latin typeface="Comic Sans MS"/>
              </a:rPr>
              <a:t>This should be proof enough; we don't always see what we think we se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356000" y="189000"/>
            <a:ext cx="4608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9999"/>
                </a:solidFill>
                <a:latin typeface="Comic Sans MS"/>
              </a:rPr>
              <a:t>That’s all Folk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589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999"/>
                </a:solidFill>
                <a:latin typeface="Comic Sans MS"/>
              </a:rPr>
              <a:t>Have a blessed and wonderful day – Alway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1636560" cy="3122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Take a look at the picture? What do you s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676760" cy="6237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03640" y="549360"/>
            <a:ext cx="414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has shown that young children cannot identify the intimate couple because they do not have prior memory associated with such a scen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ildren see nine dolph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is a test to determine if you already have a corrupted mind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it is hard for you to find the dolphins within six seconds, your mind is indeed corrup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3860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388360" y="3068640"/>
            <a:ext cx="358920" cy="358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Can you see a man's face and also a word?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4068720" cy="5832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88000" y="691560"/>
            <a:ext cx="40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mic Sans MS"/>
              </a:rPr>
              <a:t>Hint: Try tilting your head to the right, the word begins with 'L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Can you see 10 faces in the tree…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EC__x005F_x0000_i1025" descr=""/>
          <p:cNvPicPr/>
          <p:nvPr/>
        </p:nvPicPr>
        <p:blipFill>
          <a:blip r:embed="rId1"/>
          <a:stretch/>
        </p:blipFill>
        <p:spPr>
          <a:xfrm>
            <a:off x="1625760" y="692280"/>
            <a:ext cx="5724360" cy="58658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Can you see a face here?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EC__x005F_x0000_i1026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4657680" cy="5967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Can you see the outline of the ‘Unborn baby’?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EC__x005F_x0000_i1027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064720" cy="5722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Can you see the ‘Kissing Couple’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EC__x005F_x0000_i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4908600" cy="6381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80000" y="565560"/>
            <a:ext cx="356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Comic Sans MS"/>
              </a:rPr>
              <a:t>Or the dangling legs? </a:t>
            </a:r>
            <a:br>
              <a:rPr sz="1800"/>
            </a:br>
            <a:r>
              <a:rPr b="1" lang="en-CA" sz="1800" spc="-1" strike="noStrike">
                <a:solidFill>
                  <a:srgbClr val="000000"/>
                </a:solidFill>
                <a:latin typeface="Comic Sans MS"/>
              </a:rPr>
              <a:t>How about the stockings?</a:t>
            </a:r>
            <a:br>
              <a:rPr sz="18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Can you see three women?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EC__x005F_x0000_i1029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5148000" cy="5767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7:55:10Z</dcterms:created>
  <dc:creator>JeganathanAy</dc:creator>
  <dc:description/>
  <dc:language>en-US</dc:language>
  <cp:lastModifiedBy>JeganathanAy</cp:lastModifiedBy>
  <dcterms:modified xsi:type="dcterms:W3CDTF">2009-08-20T18:11:00Z</dcterms:modified>
  <cp:revision>22</cp:revision>
  <dc:subject/>
  <dc:title>Slide 1</dc:title>
</cp:coreProperties>
</file>