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Battle%20Hymn%20of%20the%20Republic%20-%20US%20Marines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3536__luffy__record_scratch2.wav" ContentType="audio/x-wav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5E67-3422-4C94-AF0D-D3994E7E9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D236-DAF3-4874-BAFC-644462E83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A9C4-CE21-49D7-BB80-554B671AC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307E-6D31-4BC8-9FFA-0BFA0E313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B232-468A-432F-B913-37126A090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8CCE-73BA-43BA-9AE8-DF08EF9D8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6EEF-22DD-4ACF-B585-C2A5273B2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B594-4D0F-495B-90CB-38107A7D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EF06-B536-49B6-8CBB-B4EE2746F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A71-3D2B-457A-BA29-FCB73514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EDF-83AC-4C11-B265-67EDF18E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16B-A351-4CBF-BDC2-045D29BE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327-D269-4077-8960-6D6D8C11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93A-C286-4CB8-B23D-E29C9B4B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BDC-57EB-4500-B324-A0597E22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F6B-CC3E-40CC-9EAC-EC630B59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091-F77B-40A2-B04E-5C2FA5AA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ABD-863B-4E2B-A35C-EA528BE5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937-501B-43BB-B313-A0714155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43B-E3F0-4E2B-9559-F683E3C4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5A1-392E-4ADF-A5C6-69EE55A8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9EBB-F4AA-4F62-AE01-0176FFDB5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attle%20Hymn%20of%20the%20Republic%20-%20US%20Marin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3536__luffy__record_scratch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228680" y="1971720"/>
            <a:ext cx="668664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3"/>
          <p:cNvSpPr/>
          <p:nvPr/>
        </p:nvSpPr>
        <p:spPr>
          <a:xfrm>
            <a:off x="1228680" y="1971720"/>
            <a:ext cx="668664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752480" y="685800"/>
            <a:ext cx="563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Washington, our nation's first president and leader of the American Revolu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ATT00001"/>
          <p:cNvPicPr/>
          <p:nvPr/>
        </p:nvPicPr>
        <p:blipFill>
          <a:blip r:embed="rId1"/>
          <a:stretch/>
        </p:blipFill>
        <p:spPr>
          <a:xfrm>
            <a:off x="1228680" y="1971720"/>
            <a:ext cx="6686640" cy="2914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ATT00002"/>
          <p:cNvPicPr/>
          <p:nvPr/>
        </p:nvPicPr>
        <p:blipFill>
          <a:blip r:embed="rId1"/>
          <a:stretch/>
        </p:blipFill>
        <p:spPr>
          <a:xfrm>
            <a:off x="1243080" y="2009880"/>
            <a:ext cx="6657840" cy="2838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752480" y="685800"/>
            <a:ext cx="563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e Lincoln, our most honorable leader whom pulled our nation through its darkest time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ATT00003"/>
          <p:cNvPicPr/>
          <p:nvPr/>
        </p:nvPicPr>
        <p:blipFill>
          <a:blip r:embed="rId1"/>
          <a:stretch/>
        </p:blipFill>
        <p:spPr>
          <a:xfrm>
            <a:off x="1119240" y="1990800"/>
            <a:ext cx="6905520" cy="2876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752480" y="685800"/>
            <a:ext cx="5639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exander Hamilton, founding father, first secretary of the treasury and leader of the constitutional convention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752480" y="685800"/>
            <a:ext cx="563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rew Jackson, "Old Hickory " fought the British in New Orleans 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ATT00004"/>
          <p:cNvPicPr/>
          <p:nvPr/>
        </p:nvPicPr>
        <p:blipFill>
          <a:blip r:embed="rId1"/>
          <a:stretch/>
        </p:blipFill>
        <p:spPr>
          <a:xfrm>
            <a:off x="1257480" y="2004840"/>
            <a:ext cx="6629400" cy="28483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752480" y="685800"/>
            <a:ext cx="563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lysses S. Grant, Union Army General, led the North through the Civil War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ATT00005"/>
          <p:cNvPicPr/>
          <p:nvPr/>
        </p:nvPicPr>
        <p:blipFill>
          <a:blip r:embed="rId1"/>
          <a:stretch/>
        </p:blipFill>
        <p:spPr>
          <a:xfrm>
            <a:off x="1262160" y="2081160"/>
            <a:ext cx="6619680" cy="26956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752480" y="685800"/>
            <a:ext cx="563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njamin Franklin, Genius inventor, political theorist and leading author of the constit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ATT00006"/>
          <p:cNvPicPr/>
          <p:nvPr/>
        </p:nvPicPr>
        <p:blipFill>
          <a:blip r:embed="rId1"/>
          <a:stretch/>
        </p:blipFill>
        <p:spPr>
          <a:xfrm>
            <a:off x="1238400" y="1990800"/>
            <a:ext cx="6667200" cy="28764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666880" y="685800"/>
            <a:ext cx="3810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esident  Barack Ob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371600" y="1600200"/>
            <a:ext cx="6400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ally, we have someone to put on the food stamp!!!!!!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ATT00007"/>
          <p:cNvPicPr/>
          <p:nvPr/>
        </p:nvPicPr>
        <p:blipFill>
          <a:blip r:embed="rId1"/>
          <a:stretch/>
        </p:blipFill>
        <p:spPr>
          <a:xfrm>
            <a:off x="1362240" y="2362320"/>
            <a:ext cx="6419520" cy="27525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3536__luffy__record_scra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20:21:49Z</dcterms:created>
  <dc:creator>Diane Fedele</dc:creator>
  <dc:description/>
  <dc:language>en-US</dc:language>
  <cp:lastModifiedBy>Steve</cp:lastModifiedBy>
  <dcterms:modified xsi:type="dcterms:W3CDTF">2009-04-29T04:11:47Z</dcterms:modified>
  <cp:revision>7</cp:revision>
  <dc:subject>Continuing a Tradition</dc:subject>
  <dc:title>PowerPoint Presentation</dc:title>
</cp:coreProperties>
</file>