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Battle%20Hymn%20of%20the%20Republic%20-%20US%20Marines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3536__luffy__record_scratch2.wav" ContentType="audio/x-wav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08E6-FEBA-4570-87F7-C27C0E676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4850-CA23-4811-8F19-0C379A5DE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88F0-D41F-4993-8FF3-F7ACB60FA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ED2C-5333-483B-874C-F65033741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D0C7-A98A-4856-8E0C-40D4E8DD7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0E8A-A576-4B59-B4D1-1E56D235C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A5F3-17BE-452A-A149-25D1D6E8B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57A6-6C23-4796-A0D1-53D9A6B97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6ADE-78F6-4E15-972A-CBC612785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F57-2CE0-466C-9C40-557F17BB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8F9-E497-44BA-A893-06A16196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3446-1DFA-4803-92A8-02B5491C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58E-88D4-430D-BBAE-3D0FBF7C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C32-2318-49B5-A016-A2A86AA8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FAB-8408-4594-BEDC-F58927F2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847-7FF9-4DA1-9A07-74C5B968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4AD-0AF9-463E-AA19-05EB72B7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FF8-E088-4DDD-BB3F-6364B465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32F-8215-436B-94FB-80B2FACD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51C-A173-4371-8241-78B51B8D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F0C-7719-4F57-8809-88E25D5C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FF15-D3DB-440E-97D5-150D4C0B1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attle%20Hymn%20of%20the%20Republic%20-%20US%20Marin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3536__luffy__record_scratch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228680" y="1971720"/>
            <a:ext cx="668664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3"/>
          <p:cNvSpPr/>
          <p:nvPr/>
        </p:nvSpPr>
        <p:spPr>
          <a:xfrm>
            <a:off x="1228680" y="1971720"/>
            <a:ext cx="668664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752480" y="685800"/>
            <a:ext cx="563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Washington, our nation's first president and leader of the American Revolu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ATT00001"/>
          <p:cNvPicPr/>
          <p:nvPr/>
        </p:nvPicPr>
        <p:blipFill>
          <a:blip r:embed="rId1"/>
          <a:stretch/>
        </p:blipFill>
        <p:spPr>
          <a:xfrm>
            <a:off x="1228680" y="1971720"/>
            <a:ext cx="6686640" cy="2914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ATT00002"/>
          <p:cNvPicPr/>
          <p:nvPr/>
        </p:nvPicPr>
        <p:blipFill>
          <a:blip r:embed="rId1"/>
          <a:stretch/>
        </p:blipFill>
        <p:spPr>
          <a:xfrm>
            <a:off x="1243080" y="2009880"/>
            <a:ext cx="6657840" cy="2838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752480" y="685800"/>
            <a:ext cx="563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e Lincoln, our most honorable leader whom pulled our nation through its darkest time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ATT00003"/>
          <p:cNvPicPr/>
          <p:nvPr/>
        </p:nvPicPr>
        <p:blipFill>
          <a:blip r:embed="rId1"/>
          <a:stretch/>
        </p:blipFill>
        <p:spPr>
          <a:xfrm>
            <a:off x="1119240" y="1990800"/>
            <a:ext cx="6905520" cy="2876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752480" y="685800"/>
            <a:ext cx="5639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exander Hamilton, founding father, first secretary of the treasury and leader of the constitutional convention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752480" y="685800"/>
            <a:ext cx="563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drew Jackson, "Old Hickory " fought the British in New Orleans 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ATT00004"/>
          <p:cNvPicPr/>
          <p:nvPr/>
        </p:nvPicPr>
        <p:blipFill>
          <a:blip r:embed="rId1"/>
          <a:stretch/>
        </p:blipFill>
        <p:spPr>
          <a:xfrm>
            <a:off x="1257480" y="2004840"/>
            <a:ext cx="6629400" cy="28483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752480" y="685800"/>
            <a:ext cx="563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lysses S. Grant, Union Army General, led the North through the Civil War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ATT00005"/>
          <p:cNvPicPr/>
          <p:nvPr/>
        </p:nvPicPr>
        <p:blipFill>
          <a:blip r:embed="rId1"/>
          <a:stretch/>
        </p:blipFill>
        <p:spPr>
          <a:xfrm>
            <a:off x="1262160" y="2081160"/>
            <a:ext cx="6619680" cy="26956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752480" y="685800"/>
            <a:ext cx="563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njamin Franklin, Genius inventor, political theorist and leading author of the constit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ATT00006"/>
          <p:cNvPicPr/>
          <p:nvPr/>
        </p:nvPicPr>
        <p:blipFill>
          <a:blip r:embed="rId1"/>
          <a:stretch/>
        </p:blipFill>
        <p:spPr>
          <a:xfrm>
            <a:off x="1238400" y="1990800"/>
            <a:ext cx="6667200" cy="28764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666880" y="685800"/>
            <a:ext cx="3810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esident  Barack Ob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371600" y="1600200"/>
            <a:ext cx="6400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ally, we have someone to put on the food stamp!!!!!!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ATT00007"/>
          <p:cNvPicPr/>
          <p:nvPr/>
        </p:nvPicPr>
        <p:blipFill>
          <a:blip r:embed="rId1"/>
          <a:stretch/>
        </p:blipFill>
        <p:spPr>
          <a:xfrm>
            <a:off x="1362240" y="2362320"/>
            <a:ext cx="6419520" cy="27525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3536__luffy__record_scra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20:21:49Z</dcterms:created>
  <dc:creator>Diane Fedele</dc:creator>
  <dc:description/>
  <dc:language>en-US</dc:language>
  <cp:lastModifiedBy>Steve</cp:lastModifiedBy>
  <dcterms:modified xsi:type="dcterms:W3CDTF">2009-04-29T04:11:47Z</dcterms:modified>
  <cp:revision>7</cp:revision>
  <dc:subject>Continuing a Tradition</dc:subject>
  <dc:title>PowerPoint Presentation</dc:title>
</cp:coreProperties>
</file>