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40.gif" ContentType="image/gif"/>
  <Override PartName="/ppt/media/image53.jpeg" ContentType="image/jpeg"/>
  <Override PartName="/ppt/media/image51.jpeg" ContentType="image/jpeg"/>
  <Override PartName="/ppt/media/image13.jpeg" ContentType="image/jpeg"/>
  <Override PartName="/ppt/media/image19.jpeg" ContentType="image/jpeg"/>
  <Override PartName="/ppt/media/image29.jpeg" ContentType="image/jpeg"/>
  <Override PartName="/ppt/media/image7.gif" ContentType="image/gif"/>
  <Override PartName="/ppt/media/image52.jpeg" ContentType="image/jpeg"/>
  <Override PartName="/ppt/media/image35.jpeg" ContentType="image/jpeg"/>
  <Override PartName="/ppt/media/image54.gif" ContentType="image/gif"/>
  <Override PartName="/ppt/media/image1.jpeg" ContentType="image/jpeg"/>
  <Override PartName="/ppt/media/image4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2.gif" ContentType="image/gif"/>
  <Override PartName="/ppt/media/image17.jpeg" ContentType="image/jpeg"/>
  <Override PartName="/ppt/media/image42.jpeg" ContentType="image/jpeg"/>
  <Override PartName="/ppt/media/image3.gif" ContentType="image/gif"/>
  <Override PartName="/ppt/media/image65.jpeg" ContentType="image/jpeg"/>
  <Override PartName="/ppt/media/image8.jpeg" ContentType="image/jpeg"/>
  <Override PartName="/ppt/media/image2.gif" ContentType="image/gif"/>
  <Override PartName="/ppt/media/image39.jpeg" ContentType="image/jpeg"/>
  <Override PartName="/ppt/media/image21.jpeg" ContentType="image/jpeg"/>
  <Override PartName="/ppt/media/image22.jpeg" ContentType="image/jpeg"/>
  <Override PartName="/ppt/media/image64.gif" ContentType="image/gif"/>
  <Override PartName="/ppt/media/image36.jpeg" ContentType="image/jpeg"/>
  <Override PartName="/ppt/media/image25.jpeg" ContentType="image/jpeg"/>
  <Override PartName="/ppt/media/image60.jpeg" ContentType="image/jpeg"/>
  <Override PartName="/ppt/media/image37.jpeg" ContentType="image/jpeg"/>
  <Override PartName="/ppt/media/image23.jpeg" ContentType="image/jpeg"/>
  <Override PartName="/ppt/media/image16.gif" ContentType="image/gif"/>
  <Override PartName="/ppt/media/image62.jpeg" ContentType="image/jpeg"/>
  <Override PartName="/ppt/media/image5.jpeg" ContentType="image/jpeg"/>
  <Override PartName="/ppt/media/image18.jpeg" ContentType="image/jpeg"/>
  <Override PartName="/ppt/media/image59.gif" ContentType="image/gif"/>
  <Override PartName="/ppt/media/image20.jpeg" ContentType="image/jpeg"/>
  <Override PartName="/ppt/media/image63.jpeg" ContentType="image/jpeg"/>
  <Override PartName="/ppt/media/image6.jpeg" ContentType="image/jpeg"/>
  <Override PartName="/ppt/media/image4.png" ContentType="image/png"/>
  <Override PartName="/ppt/media/image61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5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A02-50B2-4677-904E-9701038A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578-D608-4BD0-AB65-62FD6B1C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EBD-31EB-461E-8299-919C242E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48B2-9FB4-4D6E-A06F-CE2BC8AD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3F6-02F6-4C41-9CB8-55973EBF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F2E-A75B-46B7-BB33-ACAB96C1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7760-CEE8-4729-B74E-8C467EA0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8227-E6EA-4032-ADAB-0AF628B8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C155-8158-47AE-B3BA-BE8652DB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818-3D3B-4980-A646-E093E1BE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90D0-DD39-4C6B-A9FE-F5A4E0CE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9E7-72F1-44B9-857B-03245F19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0FE6-94DA-4101-B599-CD8635D2DFA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image" Target="../media/image40.gif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gi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6" descr="Site mégalithique de Knowt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Image 9" descr="muziek24.gif"/>
          <p:cNvPicPr/>
          <p:nvPr/>
        </p:nvPicPr>
        <p:blipFill>
          <a:blip r:embed="rId2"/>
          <a:stretch/>
        </p:blipFill>
        <p:spPr>
          <a:xfrm>
            <a:off x="8388360" y="609300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Image 10" descr="044.gif"/>
          <p:cNvPicPr/>
          <p:nvPr/>
        </p:nvPicPr>
        <p:blipFill>
          <a:blip r:embed="rId3"/>
          <a:stretch/>
        </p:blipFill>
        <p:spPr>
          <a:xfrm>
            <a:off x="6715080" y="1285920"/>
            <a:ext cx="1071720" cy="1177920"/>
          </a:xfrm>
          <a:prstGeom prst="rect">
            <a:avLst/>
          </a:prstGeom>
          <a:ln w="0">
            <a:noFill/>
          </a:ln>
        </p:spPr>
      </p:pic>
      <p:pic>
        <p:nvPicPr>
          <p:cNvPr id="44" name="Oasis de Kitaro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1255200">
            <a:off x="759960" y="-214200"/>
            <a:ext cx="2476440" cy="38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BattleLines"/>
              </a:rPr>
              <a:t>Interesting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BattleLines"/>
              <a:ea typeface="BattleLine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BattleLines"/>
              </a:rPr>
              <a:t>and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BattleLines"/>
              <a:ea typeface="BattleLine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BattleLines"/>
              </a:rPr>
              <a:t>Unusua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BattleLines"/>
              <a:ea typeface="BattleLine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1" descr="en laponie.jpg"/>
          <p:cNvPicPr/>
          <p:nvPr/>
        </p:nvPicPr>
        <p:blipFill>
          <a:blip r:embed="rId1"/>
          <a:stretch/>
        </p:blipFill>
        <p:spPr>
          <a:xfrm>
            <a:off x="1643040" y="0"/>
            <a:ext cx="59292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1895400" y="62373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7030a0"/>
                </a:solidFill>
                <a:latin typeface="Calibri"/>
              </a:rPr>
              <a:t>A pylon after a snowstorm at Lapland in Fi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 3" descr="avotresantee6.gif"/>
          <p:cNvPicPr/>
          <p:nvPr/>
        </p:nvPicPr>
        <p:blipFill>
          <a:blip r:embed="rId2"/>
          <a:stretch/>
        </p:blipFill>
        <p:spPr>
          <a:xfrm>
            <a:off x="214200" y="2857680"/>
            <a:ext cx="1309680" cy="1309680"/>
          </a:xfrm>
          <a:prstGeom prst="rect">
            <a:avLst/>
          </a:prstGeom>
          <a:ln w="0">
            <a:noFill/>
          </a:ln>
        </p:spPr>
      </p:pic>
      <p:pic>
        <p:nvPicPr>
          <p:cNvPr id="68" name="Image 4" descr="avotresantee6.gif"/>
          <p:cNvPicPr/>
          <p:nvPr/>
        </p:nvPicPr>
        <p:blipFill>
          <a:blip r:embed="rId3"/>
          <a:stretch/>
        </p:blipFill>
        <p:spPr>
          <a:xfrm flipH="1">
            <a:off x="7643880" y="2928960"/>
            <a:ext cx="130968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1" descr="Cité préhistorique de Biskup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285840" y="28584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7030a0"/>
                </a:solidFill>
                <a:latin typeface="Calibri"/>
              </a:rPr>
              <a:t>Prehistoric City at Biskupin in Po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oiseaux-soleil"/>
          <p:cNvPicPr/>
          <p:nvPr/>
        </p:nvPicPr>
        <p:blipFill>
          <a:blip r:embed="rId2"/>
          <a:stretch/>
        </p:blipFill>
        <p:spPr>
          <a:xfrm>
            <a:off x="5357880" y="785880"/>
            <a:ext cx="2520720" cy="5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Le colisée D'El Dje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585000" y="285840"/>
            <a:ext cx="36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Calibri"/>
              </a:rPr>
              <a:t>The Colosseo at D'El Djem in Tun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1" descr="perito-moreno De 15 km de long sur 5 km de large, il atteint 80 mètres au-dessus du niveau du la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357120" y="28584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alibri"/>
              </a:rPr>
              <a:t>Perito Moreno Iceberg in Argen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alibri"/>
              </a:rPr>
              <a:t>15 km long and 5 km 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 1" descr="Le Géant de Watte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682200" y="6093000"/>
            <a:ext cx="31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2060"/>
                </a:solidFill>
                <a:latin typeface="Calibri"/>
              </a:rPr>
              <a:t>The Giant of Wattens in A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oiseaux-soleil"/>
          <p:cNvPicPr/>
          <p:nvPr/>
        </p:nvPicPr>
        <p:blipFill>
          <a:blip r:embed="rId2"/>
          <a:stretch/>
        </p:blipFill>
        <p:spPr>
          <a:xfrm>
            <a:off x="1500120" y="500040"/>
            <a:ext cx="2521080" cy="5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 1" descr="Independence Monument at the intersection of Norodom Boulevard and Sihanouk Boulevard in Phnom Pen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214200" y="28584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ndependence Monument at Phnom Penh in Cambo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1" descr="Les cases obus a Marou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2050920" y="6286680"/>
            <a:ext cx="684540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Boxes Shells (box-shaped huts) at Maroua in Camer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oiseaux-soleil"/>
          <p:cNvPicPr/>
          <p:nvPr/>
        </p:nvPicPr>
        <p:blipFill>
          <a:blip r:embed="rId2"/>
          <a:stretch/>
        </p:blipFill>
        <p:spPr>
          <a:xfrm>
            <a:off x="5500800" y="1000080"/>
            <a:ext cx="2520720" cy="5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1" descr="1 Le saumon jaillissant ..jpg"/>
          <p:cNvPicPr/>
          <p:nvPr/>
        </p:nvPicPr>
        <p:blipFill>
          <a:blip r:embed="rId1"/>
          <a:srcRect l="0" t="0" r="0" b="4544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2"/>
          <p:cNvSpPr/>
          <p:nvPr/>
        </p:nvSpPr>
        <p:spPr>
          <a:xfrm>
            <a:off x="357120" y="214200"/>
            <a:ext cx="81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Calibri"/>
              </a:rPr>
              <a:t>Leaping Salmon at New Brunswick in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 1" descr="Daibuts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2"/>
          <p:cNvSpPr/>
          <p:nvPr/>
        </p:nvSpPr>
        <p:spPr>
          <a:xfrm>
            <a:off x="5937120" y="260280"/>
            <a:ext cx="32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Calibri"/>
              </a:rPr>
              <a:t>The Daibutsu in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1" descr="Monsanto rock strengt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428760" y="214200"/>
            <a:ext cx="65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2060"/>
                </a:solidFill>
                <a:latin typeface="Arial"/>
              </a:rPr>
              <a:t>Monsanto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1800" spc="-1" strike="noStrike">
                <a:solidFill>
                  <a:srgbClr val="002060"/>
                </a:solidFill>
                <a:latin typeface="Calibri"/>
              </a:rPr>
              <a:t>Village in Portugal (Built under roc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 1" descr="La face du diable a Tandap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"/>
          <p:cNvSpPr/>
          <p:nvPr/>
        </p:nvSpPr>
        <p:spPr>
          <a:xfrm>
            <a:off x="596880" y="28584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Calibri"/>
              </a:rPr>
              <a:t>The Devil’s Face at Tandapi in Ecu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1" descr="Giants sur l'Ile de Pâqu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4500720" y="6143760"/>
            <a:ext cx="43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Calibri"/>
              </a:rPr>
              <a:t>The Giants at Easter Island i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 1" descr="La baie de Disko est célébre pour ses gigantesques icebergs tabulair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428760" y="500040"/>
            <a:ext cx="81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isko Bay is famous for its gigantic tabular icebergs in Green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0" descr="avesbrancas"/>
          <p:cNvPicPr/>
          <p:nvPr/>
        </p:nvPicPr>
        <p:blipFill>
          <a:blip r:embed="rId2"/>
          <a:stretch/>
        </p:blipFill>
        <p:spPr>
          <a:xfrm>
            <a:off x="5105520" y="2071800"/>
            <a:ext cx="4038480" cy="12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 1" descr="Water Towers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3635280" y="26028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The famous Water Towers in Kuwai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(wa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storage containers)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 1" descr="Acapulco Plongeon de la mort  a Quebrad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187280" y="26028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iving Death at Quebrada Ravine at Acapulco in Mexico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 1" descr="Culture,pplz, Decorated truck, a Nasirab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5003640" y="630864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ecorated Truck in 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mage 1" descr="Colosse de Memn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428760" y="357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fr-CA" sz="1800" spc="-1" strike="noStrike">
                <a:solidFill>
                  <a:srgbClr val="4f6228"/>
                </a:solidFill>
                <a:latin typeface="Calibri"/>
              </a:rPr>
              <a:t>Memnon </a:t>
            </a:r>
            <a:r>
              <a:rPr b="1" lang="fr-CA" sz="1800" spc="-1" strike="noStrike">
                <a:solidFill>
                  <a:srgbClr val="4f6228"/>
                </a:solidFill>
                <a:latin typeface="Arial"/>
              </a:rPr>
              <a:t>Colossus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1800" spc="-1" strike="noStrike">
                <a:solidFill>
                  <a:srgbClr val="4f6228"/>
                </a:solidFill>
                <a:latin typeface="Calibri"/>
              </a:rPr>
              <a:t>in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1800" spc="-1" strike="noStrike">
                <a:solidFill>
                  <a:srgbClr val="4f6228"/>
                </a:solidFill>
                <a:latin typeface="Calibri"/>
              </a:rPr>
              <a:t>Eg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age 1" descr="american_cemetary a Mani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700200" y="35712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WW2 American Cemetery at Manila in The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mage 1" descr="La tour de pise londonnienn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810360" y="35712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64a2"/>
                </a:solidFill>
                <a:latin typeface="Calibri"/>
              </a:rPr>
              <a:t>Londonese Tower of Pisa at London in 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 1" descr="Arecibo Observatory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705240" y="621504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Observatory at Arecibo in Puerto 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mage 1" descr="516157062_81a99aa5fe_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285840" y="6286680"/>
            <a:ext cx="615780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333333"/>
                </a:solidFill>
                <a:latin typeface="Calibri"/>
              </a:rPr>
              <a:t>Hanging  Coffins at Sagada in The 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" descr="afara.jpg"/>
          <p:cNvPicPr/>
          <p:nvPr/>
        </p:nvPicPr>
        <p:blipFill>
          <a:blip r:embed="rId1"/>
          <a:stretch/>
        </p:blipFill>
        <p:spPr>
          <a:xfrm>
            <a:off x="-785880" y="-857160"/>
            <a:ext cx="10644120" cy="850104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4"/>
          <p:cNvSpPr/>
          <p:nvPr/>
        </p:nvSpPr>
        <p:spPr>
          <a:xfrm>
            <a:off x="285840" y="2858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Monuments at Afara in 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oiseaux-soleil"/>
          <p:cNvPicPr/>
          <p:nvPr/>
        </p:nvPicPr>
        <p:blipFill>
          <a:blip r:embed="rId2"/>
          <a:stretch/>
        </p:blipFill>
        <p:spPr>
          <a:xfrm>
            <a:off x="3929040" y="714240"/>
            <a:ext cx="2521080" cy="5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Image 1" descr="After a long trek one shall be greated with the entrance proper to The Ten Thousand Buddhas Monaste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428760" y="60721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Monastery of  10,000 Buddhas at Sha Tin in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 1" descr="tahiti-dinner-in_water.jpg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ZoneTexte 2"/>
          <p:cNvSpPr/>
          <p:nvPr/>
        </p:nvSpPr>
        <p:spPr>
          <a:xfrm>
            <a:off x="5715000" y="585792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3"/>
          <p:cNvSpPr/>
          <p:nvPr/>
        </p:nvSpPr>
        <p:spPr>
          <a:xfrm>
            <a:off x="539640" y="40464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Dining on Water at </a:t>
            </a: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Tah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Image 1" descr="le 101 Taipe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923040" y="6488280"/>
            <a:ext cx="31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The 101 Taipei Tower in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feuart13"/>
          <p:cNvPicPr/>
          <p:nvPr/>
        </p:nvPicPr>
        <p:blipFill>
          <a:blip r:embed="rId2"/>
          <a:stretch/>
        </p:blipFill>
        <p:spPr>
          <a:xfrm>
            <a:off x="6143760" y="1000080"/>
            <a:ext cx="871560" cy="803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feuart13"/>
          <p:cNvPicPr/>
          <p:nvPr/>
        </p:nvPicPr>
        <p:blipFill>
          <a:blip r:embed="rId3"/>
          <a:stretch/>
        </p:blipFill>
        <p:spPr>
          <a:xfrm>
            <a:off x="6357960" y="1857240"/>
            <a:ext cx="871560" cy="803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feuart13"/>
          <p:cNvPicPr/>
          <p:nvPr/>
        </p:nvPicPr>
        <p:blipFill>
          <a:blip r:embed="rId4"/>
          <a:stretch/>
        </p:blipFill>
        <p:spPr>
          <a:xfrm>
            <a:off x="4429080" y="857160"/>
            <a:ext cx="871560" cy="8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age 1" descr="Vienna Schwechat Autriche.jpg"/>
          <p:cNvPicPr/>
          <p:nvPr/>
        </p:nvPicPr>
        <p:blipFill>
          <a:blip r:embed="rId1"/>
          <a:stretch/>
        </p:blipFill>
        <p:spPr>
          <a:xfrm>
            <a:off x="4929120" y="0"/>
            <a:ext cx="42148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ZoneTexte 2"/>
          <p:cNvSpPr/>
          <p:nvPr/>
        </p:nvSpPr>
        <p:spPr>
          <a:xfrm>
            <a:off x="4929120" y="6488280"/>
            <a:ext cx="4214880" cy="35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700" spc="-1" strike="noStrike">
                <a:solidFill>
                  <a:srgbClr val="ffffff"/>
                </a:solidFill>
                <a:latin typeface="Calibri"/>
              </a:rPr>
              <a:t>Schwechat Airport at Vienna in Autr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Image 3" descr="London Heathrow.jpg"/>
          <p:cNvPicPr/>
          <p:nvPr/>
        </p:nvPicPr>
        <p:blipFill>
          <a:blip r:embed="rId2"/>
          <a:stretch/>
        </p:blipFill>
        <p:spPr>
          <a:xfrm>
            <a:off x="0" y="0"/>
            <a:ext cx="485784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ZoneTexte 4"/>
          <p:cNvSpPr/>
          <p:nvPr/>
        </p:nvSpPr>
        <p:spPr>
          <a:xfrm>
            <a:off x="0" y="6488280"/>
            <a:ext cx="4857840" cy="35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700" spc="-1" strike="noStrike">
                <a:solidFill>
                  <a:srgbClr val="ffffff"/>
                </a:solidFill>
                <a:latin typeface="Calibri"/>
              </a:rPr>
              <a:t>Heathrow Airport at London in Engla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 1" descr="Aquedud romain de Segov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"/>
          <p:cNvSpPr/>
          <p:nvPr/>
        </p:nvSpPr>
        <p:spPr>
          <a:xfrm>
            <a:off x="214200" y="285840"/>
            <a:ext cx="47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Roman Aqueducts at Segovia in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age 3" descr="slide0007_image018.jpg"/>
          <p:cNvPicPr/>
          <p:nvPr/>
        </p:nvPicPr>
        <p:blipFill>
          <a:blip r:embed="rId1"/>
          <a:stretch/>
        </p:blipFill>
        <p:spPr>
          <a:xfrm>
            <a:off x="-214200" y="-165240"/>
            <a:ext cx="9644040" cy="7237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-181080" y="189000"/>
            <a:ext cx="66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00"/>
                </a:solidFill>
                <a:latin typeface="Calibri"/>
              </a:rPr>
              <a:t>The Blue Hole at Belize in Central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e 1" descr="Lehman Caves, Great Basin, Nevad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646920" y="6286680"/>
            <a:ext cx="44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Lehman Caves at Great Basin, Nevada in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 1" descr="big_mount_of_dust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ZoneTexte 2"/>
          <p:cNvSpPr/>
          <p:nvPr/>
        </p:nvSpPr>
        <p:spPr>
          <a:xfrm>
            <a:off x="285840" y="214200"/>
            <a:ext cx="34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7030a0"/>
                </a:solidFill>
                <a:latin typeface="Calibri"/>
              </a:rPr>
              <a:t>Sandstorm in Ir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mage 1" descr="Toonworld in the Universal Studio in Osaka, Japan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75640" y="6021360"/>
            <a:ext cx="54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oonworld at Universal Stud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t Osaka in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age 1" descr="Mur des lamentations, Jerusale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9640" y="260280"/>
            <a:ext cx="43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The Wailing Wall at Jerusalem in Is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 1" descr="rizieres bal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2"/>
          <p:cNvSpPr/>
          <p:nvPr/>
        </p:nvSpPr>
        <p:spPr>
          <a:xfrm>
            <a:off x="3924360" y="260280"/>
            <a:ext cx="43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Rice Fields at Ubud in 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Image 2" descr="Buddhist temple of Borobudur, Eastern Java on the Kedu Pl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66200" y="189000"/>
            <a:ext cx="49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Arial"/>
              </a:rPr>
              <a:t>Buddhi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e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1800" spc="-1" strike="noStrike">
                <a:solidFill>
                  <a:srgbClr val="ff0000"/>
                </a:solidFill>
                <a:latin typeface="Arial"/>
              </a:rPr>
              <a:t>a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Borobudur in 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Documents and Settings\Michel Girouard\My Documents\Chine\Yangshuo\guillin_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4560" y="6021360"/>
            <a:ext cx="37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00"/>
                </a:solidFill>
                <a:latin typeface="Arial"/>
              </a:rPr>
              <a:t>Elephant – shaped Hills in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mage 1" descr="Salvador Dali museum - Salvador Dali museum at Figueras, near Barcelona, Sp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1640" y="333360"/>
            <a:ext cx="65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Salvador Dali Museum at Figueras near Barcelona in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mage 3" descr="slide0014_image0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24360" y="332640"/>
            <a:ext cx="51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Nest of the Swallow Cast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at Yalta in Ukrai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 1" descr="tour de controle Edinburgh Airport.jpg"/>
          <p:cNvPicPr/>
          <p:nvPr/>
        </p:nvPicPr>
        <p:blipFill>
          <a:blip r:embed="rId1"/>
          <a:stretch/>
        </p:blipFill>
        <p:spPr>
          <a:xfrm>
            <a:off x="1357200" y="0"/>
            <a:ext cx="650088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Image 3" descr="plane3.gif"/>
          <p:cNvPicPr/>
          <p:nvPr/>
        </p:nvPicPr>
        <p:blipFill>
          <a:blip r:embed="rId2"/>
          <a:stretch/>
        </p:blipFill>
        <p:spPr>
          <a:xfrm>
            <a:off x="6357960" y="642960"/>
            <a:ext cx="2384280" cy="1000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77480" y="26028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dinburgh Airport in Scot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mage 1" descr="lion_and_buddha a Zhanghu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5320" y="476280"/>
            <a:ext cx="55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The Lion and the Buddha at  Zhanghua in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Image 1" descr="Mt Pinatubo Eruption en 19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90240" y="476280"/>
            <a:ext cx="63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Arial"/>
              </a:rPr>
              <a:t>Eruption of Volcano Pinatubo in 1991 in The 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age 1" descr="q62mo_3.jpg"/>
          <p:cNvPicPr/>
          <p:nvPr/>
        </p:nvPicPr>
        <p:blipFill>
          <a:blip r:embed="rId1"/>
          <a:stretch/>
        </p:blipFill>
        <p:spPr>
          <a:xfrm>
            <a:off x="-214200" y="-142920"/>
            <a:ext cx="9572400" cy="7286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-360" y="260280"/>
            <a:ext cx="48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Ramses II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Temple at Abou Simbel in Eg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mage 1" descr="This tree contains several graves of babies. a Tana Toraja près de Rantepao.jpg"/>
          <p:cNvPicPr/>
          <p:nvPr/>
        </p:nvPicPr>
        <p:blipFill>
          <a:blip r:embed="rId1"/>
          <a:stretch/>
        </p:blipFill>
        <p:spPr>
          <a:xfrm>
            <a:off x="2987640" y="0"/>
            <a:ext cx="5715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Image 17" descr="doodskop2.gif"/>
          <p:cNvPicPr/>
          <p:nvPr/>
        </p:nvPicPr>
        <p:blipFill>
          <a:blip r:embed="rId2"/>
          <a:stretch/>
        </p:blipFill>
        <p:spPr>
          <a:xfrm>
            <a:off x="1000080" y="4143240"/>
            <a:ext cx="1166760" cy="1167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1700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s tree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ana Toraja in Indones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ta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bies’ to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Connecteur droit avec flèche 4"/>
          <p:cNvCxnSpPr/>
          <p:nvPr/>
        </p:nvCxnSpPr>
        <p:spPr>
          <a:xfrm>
            <a:off x="6286680" y="3857400"/>
            <a:ext cx="357840" cy="2149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58" name="Connecteur droit avec flèche 10"/>
          <p:cNvCxnSpPr/>
          <p:nvPr/>
        </p:nvCxnSpPr>
        <p:spPr>
          <a:xfrm flipH="1">
            <a:off x="7357680" y="3499920"/>
            <a:ext cx="357840" cy="358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59" name="Connecteur droit avec flèche 5"/>
          <p:cNvCxnSpPr/>
          <p:nvPr/>
        </p:nvCxnSpPr>
        <p:spPr>
          <a:xfrm>
            <a:off x="6000840" y="4643280"/>
            <a:ext cx="429120" cy="2865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60" name="Connecteur droit avec flèche 8"/>
          <p:cNvCxnSpPr/>
          <p:nvPr/>
        </p:nvCxnSpPr>
        <p:spPr>
          <a:xfrm>
            <a:off x="6143760" y="5643360"/>
            <a:ext cx="429120" cy="286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61" name="Connecteur droit avec flèche 13"/>
          <p:cNvCxnSpPr/>
          <p:nvPr/>
        </p:nvCxnSpPr>
        <p:spPr>
          <a:xfrm flipH="1">
            <a:off x="7214400" y="4499640"/>
            <a:ext cx="429480" cy="286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62" name="Connecteur droit avec flèche 16"/>
          <p:cNvCxnSpPr/>
          <p:nvPr/>
        </p:nvCxnSpPr>
        <p:spPr>
          <a:xfrm flipH="1">
            <a:off x="7000200" y="5142600"/>
            <a:ext cx="429480" cy="286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Image 1" descr="DSC023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1280" y="404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One can swim in Pink Lake in Seneg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One does not drown here because the salt water supports one’s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 1" descr="Lion de waterlo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876960" y="42876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Calibri"/>
              </a:rPr>
              <a:t>The Lion of Waterloo in  Belg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Image 1" descr="Derawar Fort a Cholist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6360" y="333360"/>
            <a:ext cx="42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2060"/>
                </a:solidFill>
                <a:latin typeface="Arial"/>
              </a:rPr>
              <a:t>Fort Derawar at Cholistan in 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Image 1" descr="Cathedrale de barcelone -barcelone-6867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789080" y="616572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Barcelona Cathedral in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9966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Image 1" descr="kobe_-_port_tower.jpg"/>
          <p:cNvPicPr/>
          <p:nvPr/>
        </p:nvPicPr>
        <p:blipFill>
          <a:blip r:embed="rId1"/>
          <a:stretch/>
        </p:blipFill>
        <p:spPr>
          <a:xfrm>
            <a:off x="2286000" y="0"/>
            <a:ext cx="621504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Image 3" descr="tonnerremagnifique.gif"/>
          <p:cNvPicPr/>
          <p:nvPr/>
        </p:nvPicPr>
        <p:blipFill>
          <a:blip r:embed="rId2"/>
          <a:stretch/>
        </p:blipFill>
        <p:spPr>
          <a:xfrm>
            <a:off x="119160" y="1143000"/>
            <a:ext cx="1963800" cy="2357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0920" y="6093000"/>
            <a:ext cx="62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Arial"/>
              </a:rPr>
              <a:t>The Tower at the port at  Kobe in 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Image 1" descr="Atlantis Paradise Hotel face à Nassa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94200" y="404640"/>
            <a:ext cx="83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Hotel Atlantis Paradise with the nuptial suite at $25,000 /a night in Bah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Connecteur droit avec flèche 7"/>
          <p:cNvCxnSpPr/>
          <p:nvPr/>
        </p:nvCxnSpPr>
        <p:spPr>
          <a:xfrm flipH="1">
            <a:off x="3785400" y="713880"/>
            <a:ext cx="1429560" cy="17154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1" descr="Tas de sel.jpg"/>
          <p:cNvPicPr/>
          <p:nvPr/>
        </p:nvPicPr>
        <p:blipFill>
          <a:blip r:embed="rId1">
            <a:lum contrast="6000"/>
          </a:blip>
          <a:srcRect l="1964" t="3482" r="1964" b="477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250920" y="40464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Calibri"/>
              </a:rPr>
              <a:t>Salar de Uyuni in Bolivia.  6000 square miles of sa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 1" descr="world's biggest flagpole 2.jpg"/>
          <p:cNvPicPr/>
          <p:nvPr/>
        </p:nvPicPr>
        <p:blipFill>
          <a:blip r:embed="rId1"/>
          <a:stretch/>
        </p:blipFill>
        <p:spPr>
          <a:xfrm>
            <a:off x="1214280" y="0"/>
            <a:ext cx="67867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1476360" y="333360"/>
            <a:ext cx="631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7030a0"/>
                </a:solidFill>
                <a:latin typeface="Calibri"/>
              </a:rPr>
              <a:t>The Highest Flag Mast in the World in North 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 3" descr="drapeau43.gif"/>
          <p:cNvPicPr/>
          <p:nvPr/>
        </p:nvPicPr>
        <p:blipFill>
          <a:blip r:embed="rId2"/>
          <a:stretch/>
        </p:blipFill>
        <p:spPr>
          <a:xfrm>
            <a:off x="301680" y="2928960"/>
            <a:ext cx="779400" cy="428760"/>
          </a:xfrm>
          <a:prstGeom prst="rect">
            <a:avLst/>
          </a:prstGeom>
          <a:ln w="0">
            <a:noFill/>
          </a:ln>
        </p:spPr>
      </p:pic>
      <p:pic>
        <p:nvPicPr>
          <p:cNvPr id="60" name="Image 4" descr="drapeau43.gif"/>
          <p:cNvPicPr/>
          <p:nvPr/>
        </p:nvPicPr>
        <p:blipFill>
          <a:blip r:embed="rId3"/>
          <a:stretch/>
        </p:blipFill>
        <p:spPr>
          <a:xfrm flipH="1">
            <a:off x="8143560" y="2928960"/>
            <a:ext cx="77940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 1" descr="Plitvicka jeze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214200" y="214200"/>
            <a:ext cx="52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Calibri"/>
              </a:rPr>
              <a:t>Cascades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Nationa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Calibri"/>
              </a:rPr>
              <a:t>Park at Krka in Croa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 1" descr="Roman Theater a amm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538200" y="142920"/>
            <a:ext cx="36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Calibri"/>
              </a:rPr>
              <a:t>Roman Theatre at Amman in Jor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9:16:03Z</dcterms:created>
  <dc:creator>Michel Girouard</dc:creator>
  <dc:description/>
  <dc:language>en-US</dc:language>
  <cp:lastModifiedBy>user</cp:lastModifiedBy>
  <dcterms:modified xsi:type="dcterms:W3CDTF">2009-07-25T11:41:43Z</dcterms:modified>
  <cp:revision>26</cp:revision>
  <dc:subject>085207</dc:subject>
  <dc:title>Curiosites 1</dc:title>
</cp:coreProperties>
</file>