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sound4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E7D-8827-497B-9CFA-A6FA8D20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3D4-2E97-4EE7-9764-73C162D1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1F1-C0F1-427E-B4D7-C503CE81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BAD-2CF2-499B-844E-4312FC1D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781-4D21-4203-86AD-A4BA880F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8FA-DBD5-4F1C-828F-6A01E5E1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B8E-62EC-46DF-B506-596ED34F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F0E-69A0-4000-A5A4-B062D9CA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93D-CF75-4B5B-8D60-D923590D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4CE-C133-4601-ACCB-9A13B813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67D-5143-446A-9317-3EB30C11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474-AFEF-41BD-BDEB-DE366714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44B3-A6B4-4553-BD82-8A0EC4753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60480" y="0"/>
            <a:ext cx="10669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187956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If you could fit the entire population of the world into a village consisting of 100 peopl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intaining the proportions of all the people living on Earth, that village would cons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57 A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sians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21 Eur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opeans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14 A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mericans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rth, Central and Sout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8 Afr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67960" y="48182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Tahoma"/>
              </a:rPr>
              <a:t>AND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71600" y="0"/>
            <a:ext cx="784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Work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like you don’t need the money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ov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 nobody has ever hurt yo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Danc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 nobody is watching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Sing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 nobody is listening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Liv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s if this was paradise on Eart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2666880"/>
            <a:ext cx="822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nd this message to your friend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ypass those who are determined to see the worst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rld no matter w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don’t send it, nothing will happe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do send it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omeone might smile while they are reading it, and that will be a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280" y="1001880"/>
            <a:ext cx="40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ND APART FROM THA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IMPLY HAVE A NIC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30492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re would b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: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52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me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48 m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3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aucasians 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70 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on-Caucasian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3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hristian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7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non-Christians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89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terosexuals an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mosexuals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8456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6 people would possess 59% of the wealth and they would all come from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8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live in poverty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 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7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be illiterat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50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suffer from hunger and malnutritio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be dying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be being born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own a computer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1 (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yes, only on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would have a university degre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480" y="-85680"/>
            <a:ext cx="79423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we looked at the world in this way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ccff"/>
                </a:solidFill>
                <a:latin typeface="Tahoma"/>
              </a:rPr>
              <a:t>the need for acceptance and understanding w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ccff"/>
                </a:solidFill>
                <a:latin typeface="Tahoma"/>
              </a:rPr>
              <a:t>be obvious</a:t>
            </a:r>
            <a:r>
              <a:rPr b="1" lang="pl-PL" sz="2400" spc="-1" strike="noStrike">
                <a:solidFill>
                  <a:srgbClr val="ccccff"/>
                </a:solidFill>
                <a:latin typeface="Tahoma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ut, consider again the following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2602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you woke up this morning in good health, you have more luck than one million people, who won’t live through the wee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232200" y="-12600"/>
            <a:ext cx="899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you have never experienced the horror of war, the soli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f priso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he pain of tortur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 were not close to death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arvation, then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you are better off than 500 million peopl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560" y="152280"/>
            <a:ext cx="841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can go to your place of worship without fear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omeone will assault or kill you, then you are lucki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billion (that’s right) peopl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f you have a full fridge, clothes on your back, a roof over your head and a place to sleep, you are wealthier than 75% of the world’s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you currently have money in the bank, in your wallet and a few coins in your purs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you are one of 8 of the privileged few amongst the 100 people in the worl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12320" y="76320"/>
            <a:ext cx="797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If your parents are still alive and still marri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you’re a rare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f someone sent you this message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you’re extremely lucky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ecause someone is thinking of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and because you don’t comprise one of those 2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ill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eople who can’t read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08:45:26Z</dcterms:created>
  <dc:creator>Hector Velsket</dc:creator>
  <dc:description/>
  <dc:language>en-US</dc:language>
  <cp:lastModifiedBy>A</cp:lastModifiedBy>
  <dcterms:modified xsi:type="dcterms:W3CDTF">2009-12-05T05:51:54Z</dcterms:modified>
  <cp:revision>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