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sound4.wav" ContentType="audio/x-wav"/>
  <Override PartName="/ppt/media/image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D67E-0F16-4FF0-B130-9C684A5BA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289D-1373-4C44-BA23-791D5C25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59B3-8162-40EB-A3C5-9ED1BB0D8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C4B6-ED49-4719-AA2B-323ACF11C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B3EB-91B5-4279-BEE8-54C7C32A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BA2D-088D-4E55-BCF1-DF306F8C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76E3-CE35-4F2F-BEC7-61EDE3C7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DAF2-DD4E-4098-A629-5DA402EE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4CA2-9769-4D86-ACC3-A053CAC2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31FE-F623-49D6-8690-E1A2387C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D86C-02F9-4102-B977-7E84EC15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A8D2-C079-40A0-8741-2470C289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D2A9-5FF2-4DD5-AEC4-B3B0F7E04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ound4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960480" y="0"/>
            <a:ext cx="106696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00200" y="1879560"/>
            <a:ext cx="7620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ahoma"/>
              </a:rPr>
              <a:t>If you could fit the entire population of the world into a village consisting of 100 people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maintaining the proportions of all the people living on Earth, that village would cons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57 A</a:t>
            </a:r>
            <a:r>
              <a:rPr b="1" lang="en-AU" sz="2400" spc="-1" strike="noStrike">
                <a:solidFill>
                  <a:srgbClr val="000000"/>
                </a:solidFill>
                <a:latin typeface="Tahoma"/>
              </a:rPr>
              <a:t>sians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21 Eur</a:t>
            </a:r>
            <a:r>
              <a:rPr b="1" lang="en-AU" sz="2400" spc="-1" strike="noStrike">
                <a:solidFill>
                  <a:srgbClr val="000000"/>
                </a:solidFill>
                <a:latin typeface="Tahoma"/>
              </a:rPr>
              <a:t>opeans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14 A</a:t>
            </a:r>
            <a:r>
              <a:rPr b="1" lang="en-AU" sz="2400" spc="-1" strike="noStrike">
                <a:solidFill>
                  <a:srgbClr val="000000"/>
                </a:solidFill>
                <a:latin typeface="Tahoma"/>
              </a:rPr>
              <a:t>mericans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rth, Central and South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8 Afr</a:t>
            </a:r>
            <a:r>
              <a:rPr b="1" lang="en-AU" sz="2400" spc="-1" strike="noStrike">
                <a:solidFill>
                  <a:srgbClr val="000000"/>
                </a:solidFill>
                <a:latin typeface="Tahoma"/>
              </a:rPr>
              <a:t>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67960" y="4818240"/>
            <a:ext cx="18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0000"/>
                </a:solidFill>
                <a:latin typeface="Tahoma"/>
              </a:rPr>
              <a:t>AND S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371600" y="0"/>
            <a:ext cx="7843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Work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like you don’t need the money.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Love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ke nobody has ever hurt you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. </a:t>
            </a:r>
            <a:br>
              <a:rPr sz="2400"/>
            </a:br>
            <a:r>
              <a:rPr b="1" lang="en-AU" sz="2400" spc="-1" strike="noStrike">
                <a:solidFill>
                  <a:srgbClr val="000000"/>
                </a:solidFill>
                <a:latin typeface="Tahoma"/>
              </a:rPr>
              <a:t>Dance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ke nobody is watching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. </a:t>
            </a:r>
            <a:br>
              <a:rPr sz="2400"/>
            </a:br>
            <a:r>
              <a:rPr b="1" lang="en-AU" sz="2400" spc="-1" strike="noStrike">
                <a:solidFill>
                  <a:srgbClr val="000000"/>
                </a:solidFill>
                <a:latin typeface="Tahoma"/>
              </a:rPr>
              <a:t>Sing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ke nobody is listening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. </a:t>
            </a:r>
            <a:br>
              <a:rPr sz="2400"/>
            </a:br>
            <a:r>
              <a:rPr b="1" lang="en-AU" sz="2400" spc="-1" strike="noStrike">
                <a:solidFill>
                  <a:srgbClr val="000000"/>
                </a:solidFill>
                <a:latin typeface="Tahoma"/>
              </a:rPr>
              <a:t>Live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s if this was paradise on Earth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4920" y="2666880"/>
            <a:ext cx="8223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Send this message to your friends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Bypass those who are determined to see the worst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world no matter w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f you don’t send it, nothing will happen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.</a:t>
            </a:r>
            <a:br>
              <a:rPr sz="2400"/>
            </a:b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f you do send it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someone might smile while they are reading it, and that will be a posi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71280" y="1001880"/>
            <a:ext cx="400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AND APART FROM THA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SIMPLY HAVE A NICE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43200" y="304920"/>
            <a:ext cx="609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here would be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: 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52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women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nd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48 m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en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 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30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aucasians and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70 n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on-Caucasians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30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hristians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nd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70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non-Christians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89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heterosexuals and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11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homosexuals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84560" y="4537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228600"/>
            <a:ext cx="853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ahoma"/>
              </a:rPr>
              <a:t>6 people would possess 59% of the wealth and they would all come from the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80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would live in poverty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  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70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would be illiterate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50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would suffer from hunger and malnutrition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would be dying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would be being born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 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would own a computer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1 (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yes, only one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would have a university degree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3480" y="-85680"/>
            <a:ext cx="79423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f we looked at the world in this way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ccccff"/>
                </a:solidFill>
                <a:latin typeface="Tahoma"/>
              </a:rPr>
              <a:t>the need for acceptance and understanding wou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ccccff"/>
                </a:solidFill>
                <a:latin typeface="Tahoma"/>
              </a:rPr>
              <a:t>be obvious</a:t>
            </a:r>
            <a:r>
              <a:rPr b="1" lang="pl-PL" sz="2400" spc="-1" strike="noStrike">
                <a:solidFill>
                  <a:srgbClr val="ccccff"/>
                </a:solidFill>
                <a:latin typeface="Tahoma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But, consider again the following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4920" y="26028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you woke up this morning in good health, you have more luck than one million people, who won’t live through the week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-232200" y="-12600"/>
            <a:ext cx="899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you have never experienced the horror of war, the solitu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f prison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he pain of tortur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, were not close to death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tarvation, then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you are better off than 500 million peopl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2560" y="152280"/>
            <a:ext cx="8411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f you can go to your place of worship without fear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Someone will assault or kill you, then you are luckier t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3 billion (that’s right) people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fr-FR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29528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If you have a full fridge, clothes on your back, a roof over your head and a place to sleep, you are wealthier than 75% of the world’s pop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8600" y="3049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f you currently have money in the bank, in your wallet and a few coins in your purse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you are one of 8 of the privileged few amongst the 100 people in the world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-112320" y="76320"/>
            <a:ext cx="797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ahoma"/>
              </a:rPr>
              <a:t>If your parents are still alive and still marrie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ahoma"/>
              </a:rPr>
              <a:t>you’re a rare individ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f someone sent you this message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you’re extremely lucky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Because someone is thinking of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and because you don’t comprise one of those 2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bill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eople who can’t read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2T08:45:26Z</dcterms:created>
  <dc:creator>Hector Velsket</dc:creator>
  <dc:description/>
  <dc:language>en-US</dc:language>
  <cp:lastModifiedBy>A</cp:lastModifiedBy>
  <dcterms:modified xsi:type="dcterms:W3CDTF">2009-12-05T05:51:54Z</dcterms:modified>
  <cp:revision>1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