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Jim%20Stafford%20-%20Guitar%20Boogie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A22-A4DD-4D98-8391-824E6919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A4A-7F47-49EC-BF07-47B816C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668-675C-476C-A25C-4F0335E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D70-944A-4AC5-AF92-5E8BF55C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8E1-CCD7-4535-B847-2C79CFF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3AD-E9EA-4D69-80FE-F5244C4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A54-6BAF-4B57-AA13-64B203E4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120-6CCA-4F29-8CD0-72896501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32F-9E7C-4C0F-823A-1D1B8DC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FAB-4CE2-41F2-8365-360847F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2C1-B416-45EE-A3CA-9C05498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C1F-304C-439B-A087-9E13EAD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21AB-910D-465F-9FED-0B96603B7B9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im%20Stafford%20-%20Guitar%20Boogi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9640" y="67464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0253f"/>
                </a:solidFill>
                <a:latin typeface="Lucida Handwriting"/>
              </a:rPr>
              <a:t>Old pictures of cars on transport trucks. How cool are these transporters?  And the cars ... wonderful.  What a photographic time warp. Looks like these shots were from 48' to 56'. The F-1 Ford trucks are interesting.  What I've read, in the past the 1/2 tons shipped with hub caps and the 3/4 ton were an option ... How times have change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im%20Stafford%20-%20Guitar%20Boogi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09.jpg"/>
          <p:cNvPicPr/>
          <p:nvPr/>
        </p:nvPicPr>
        <p:blipFill>
          <a:blip r:embed="rId1">
            <a:lum contrast="10000"/>
          </a:blip>
          <a:srcRect l="0" t="0" r="860" b="0"/>
          <a:stretch/>
        </p:blipFill>
        <p:spPr>
          <a:xfrm>
            <a:off x="795240" y="765000"/>
            <a:ext cx="755352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0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836640"/>
            <a:ext cx="7619760" cy="518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07920"/>
            <a:ext cx="7619760" cy="504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2.jpg"/>
          <p:cNvPicPr/>
          <p:nvPr/>
        </p:nvPicPr>
        <p:blipFill>
          <a:blip r:embed="rId1"/>
          <a:srcRect l="0" t="0" r="860" b="0"/>
          <a:stretch/>
        </p:blipFill>
        <p:spPr>
          <a:xfrm>
            <a:off x="795240" y="765000"/>
            <a:ext cx="755352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4.jpg"/>
          <p:cNvPicPr/>
          <p:nvPr/>
        </p:nvPicPr>
        <p:blipFill>
          <a:blip r:embed="rId1"/>
          <a:stretch/>
        </p:blipFill>
        <p:spPr>
          <a:xfrm>
            <a:off x="762120" y="1125360"/>
            <a:ext cx="7619760" cy="46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84320"/>
            <a:ext cx="7619760" cy="468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6.jpg"/>
          <p:cNvPicPr/>
          <p:nvPr/>
        </p:nvPicPr>
        <p:blipFill>
          <a:blip r:embed="rId1"/>
          <a:stretch/>
        </p:blipFill>
        <p:spPr>
          <a:xfrm>
            <a:off x="762120" y="1160640"/>
            <a:ext cx="7619760" cy="45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95240" y="1125360"/>
            <a:ext cx="7553520" cy="460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95240" y="944640"/>
            <a:ext cx="7553520" cy="49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235160"/>
            <a:ext cx="7619760" cy="43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719280" y="1308240"/>
            <a:ext cx="770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10253f"/>
                </a:solidFill>
                <a:latin typeface="Lucida Handwriting"/>
              </a:rPr>
              <a:t>What Wonderful Photos Of The Past ... Hope You Enjoye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15920"/>
            <a:ext cx="7619760" cy="482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81000"/>
            <a:ext cx="761976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0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52640"/>
            <a:ext cx="761976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6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907920"/>
            <a:ext cx="7619760" cy="504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808280" y="976320"/>
            <a:ext cx="5527440" cy="490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8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762120" y="1015920"/>
            <a:ext cx="7619760" cy="482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6:55:17Z</dcterms:created>
  <dc:creator>Dewey</dc:creator>
  <dc:description/>
  <dc:language>en-US</dc:language>
  <cp:lastModifiedBy>Dewey</cp:lastModifiedBy>
  <dcterms:modified xsi:type="dcterms:W3CDTF">2010-07-04T17:32:58Z</dcterms:modified>
  <cp:revision>6</cp:revision>
  <dc:subject/>
  <dc:title>Slide 1</dc:title>
</cp:coreProperties>
</file>