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Cort%C3%A1zar%20-%20Autumn%20rose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4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rt&#225;zar%20-%20Autumn%20ro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2652840"/>
            <a:ext cx="914400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003536"/>
                </a:solidFill>
                <a:latin typeface="Mistral"/>
              </a:rPr>
              <a:t>Jorge Luis Borges</a:t>
            </a:r>
            <a:endParaRPr b="0" lang="en-US" sz="125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3071880"/>
            <a:ext cx="9144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Book Antiqua"/>
              </a:rPr>
              <a:t>Poema aos Amigos</a:t>
            </a:r>
            <a:endParaRPr b="0" lang="en-US" sz="36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578628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Book Antiqua"/>
              </a:rPr>
              <a:t>Clique para avançar</a:t>
            </a:r>
            <a:endParaRPr b="0" lang="en-US" sz="14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  <p:sndAc>
      <p:stSnd>
        <p:snd r:embed="rId1" name="Cort%C3%A1zar%20-%20Autumn%20r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ajarosdos"/>
          <p:cNvPicPr/>
          <p:nvPr/>
        </p:nvPicPr>
        <p:blipFill>
          <a:blip r:embed="rId1"/>
          <a:srcRect l="0" t="0" r="806" b="0"/>
          <a:stretch/>
        </p:blipFill>
        <p:spPr>
          <a:xfrm>
            <a:off x="284040" y="785880"/>
            <a:ext cx="8572680" cy="5327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000160" y="1173240"/>
            <a:ext cx="43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   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stes dias pensei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   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os meus amigos e amigas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   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ão estavas em cima,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   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em abaixo nem no meio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6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407rupertbchele"/>
          <p:cNvPicPr/>
          <p:nvPr/>
        </p:nvPicPr>
        <p:blipFill>
          <a:blip r:embed="rId1"/>
          <a:stretch/>
        </p:blipFill>
        <p:spPr>
          <a:xfrm>
            <a:off x="284040" y="214200"/>
            <a:ext cx="8572680" cy="6429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738360" y="3927600"/>
            <a:ext cx="261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ão encabeçava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em concluias a lista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ão eras o número um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em o número final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rcRect l="3283" t="2992" r="2968" b="2554"/>
          <a:stretch/>
        </p:blipFill>
        <p:spPr>
          <a:xfrm>
            <a:off x="428760" y="264960"/>
            <a:ext cx="4857480" cy="6289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5357880" y="1285920"/>
            <a:ext cx="3643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Dormir  feliz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manar vibrações de amor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Saber que estamos aqui  de passagem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Melhorar as relações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6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golondrinas"/>
          <p:cNvPicPr/>
          <p:nvPr/>
        </p:nvPicPr>
        <p:blipFill>
          <a:blip r:embed="rId1"/>
          <a:stretch/>
        </p:blipFill>
        <p:spPr>
          <a:xfrm>
            <a:off x="357120" y="357120"/>
            <a:ext cx="5950080" cy="6120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6357960" y="265572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Aproveitar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as oportunidades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scutar o coração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Acreditar na vida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6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0" descr="C:\Mis documentos\Mis imágenes\Picaflor.jpg"/>
          <p:cNvPicPr/>
          <p:nvPr/>
        </p:nvPicPr>
        <p:blipFill>
          <a:blip r:embed="rId1"/>
          <a:stretch/>
        </p:blipFill>
        <p:spPr>
          <a:xfrm>
            <a:off x="3357720" y="157320"/>
            <a:ext cx="5475240" cy="6486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1"/>
          <p:cNvSpPr/>
          <p:nvPr/>
        </p:nvSpPr>
        <p:spPr>
          <a:xfrm>
            <a:off x="743040" y="2928960"/>
            <a:ext cx="2471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 tão-pouco tenh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a pretensão  de ser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o primeiro,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o segundo,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ou o terceir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da tua lista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309"/>
          <p:cNvPicPr/>
          <p:nvPr/>
        </p:nvPicPr>
        <p:blipFill>
          <a:blip r:embed="rId1"/>
          <a:srcRect l="0" t="0" r="539" b="5071"/>
          <a:stretch/>
        </p:blipFill>
        <p:spPr>
          <a:xfrm>
            <a:off x="284040" y="365040"/>
            <a:ext cx="8572680" cy="6135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5600" y="1144080"/>
            <a:ext cx="37573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Book Antiqua"/>
              </a:rPr>
              <a:t>Basta que me queiras como amigo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Book Antiqua"/>
              </a:rPr>
              <a:t>Obrigado por o s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6386400" y="5430960"/>
            <a:ext cx="21146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Mistral"/>
              </a:rPr>
              <a:t>J. L. Borges</a:t>
            </a:r>
            <a:endParaRPr b="0" lang="en-US" sz="2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4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309"/>
          <p:cNvPicPr/>
          <p:nvPr/>
        </p:nvPicPr>
        <p:blipFill>
          <a:blip r:embed="rId1"/>
          <a:srcRect l="0" t="0" r="539" b="5071"/>
          <a:stretch/>
        </p:blipFill>
        <p:spPr>
          <a:xfrm>
            <a:off x="284040" y="365040"/>
            <a:ext cx="8572680" cy="6135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5581800"/>
            <a:ext cx="9144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400" spc="-1" strike="noStrike">
                <a:solidFill>
                  <a:srgbClr val="ffcccc"/>
                </a:solidFill>
                <a:latin typeface="Book Antiqua"/>
              </a:rPr>
              <a:t>Música: </a:t>
            </a:r>
            <a:r>
              <a:rPr b="0" i="1" lang="es-ES_tradnl" sz="1400" spc="-1" strike="noStrike">
                <a:solidFill>
                  <a:srgbClr val="ffcccc"/>
                </a:solidFill>
                <a:latin typeface="Book Antiqua"/>
              </a:rPr>
              <a:t>Autumn Rose</a:t>
            </a:r>
            <a:r>
              <a:rPr b="0" lang="es-ES_tradnl" sz="1400" spc="-1" strike="noStrike">
                <a:solidFill>
                  <a:srgbClr val="ffcccc"/>
                </a:solidFill>
                <a:latin typeface="Book Antiqua"/>
              </a:rPr>
              <a:t>, Ernesto Cortá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321480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5867280"/>
            <a:ext cx="9144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000" spc="-1" strike="noStrike">
                <a:solidFill>
                  <a:srgbClr val="37676d"/>
                </a:solidFill>
                <a:latin typeface="Book Antiqua"/>
              </a:rPr>
              <a:t>Concepção e criação original de autor anónimo</a:t>
            </a:r>
            <a:endParaRPr b="0" lang="en-US" sz="1000" spc="-1" strike="noStrike">
              <a:solidFill>
                <a:srgbClr val="000000"/>
              </a:solidFill>
              <a:latin typeface="CG Times (W1)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000" spc="-1" strike="noStrike">
                <a:solidFill>
                  <a:srgbClr val="37676d"/>
                </a:solidFill>
                <a:latin typeface="Book Antiqua"/>
              </a:rPr>
              <a:t>Reedição de formato cortesia de Carlos Rangel</a:t>
            </a:r>
            <a:endParaRPr b="0" lang="en-US" sz="1000" spc="-1" strike="noStrike">
              <a:solidFill>
                <a:srgbClr val="000000"/>
              </a:solidFill>
              <a:latin typeface="CG Times (W1)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000" spc="-1" strike="noStrike">
                <a:solidFill>
                  <a:srgbClr val="37676d"/>
                </a:solidFill>
                <a:latin typeface="Book Antiqua"/>
              </a:rPr>
              <a:t>Santiago de Querétaro, Mex. Abr.2008</a:t>
            </a:r>
            <a:endParaRPr b="0" lang="en-US" sz="1000" spc="-1" strike="noStrike">
              <a:solidFill>
                <a:srgbClr val="000000"/>
              </a:solidFill>
              <a:latin typeface="CG Times (W1)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000" spc="-1" strike="noStrike">
                <a:solidFill>
                  <a:srgbClr val="37676d"/>
                </a:solidFill>
                <a:latin typeface="Book Antiqua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 advTm="15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85840" y="468360"/>
            <a:ext cx="8572320" cy="6032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28760" y="571680"/>
            <a:ext cx="46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ão posso dar-te soluçõe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para todos os problemas da vida,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em tenho resposta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para as tuas dúvidas ou temores,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mas posso escutar-te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 repartir contigo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ájaros_juntos"/>
          <p:cNvPicPr/>
          <p:nvPr/>
        </p:nvPicPr>
        <p:blipFill>
          <a:blip r:embed="rId1"/>
          <a:stretch/>
        </p:blipFill>
        <p:spPr>
          <a:xfrm>
            <a:off x="284040" y="878040"/>
            <a:ext cx="8572680" cy="5194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500040" y="1071720"/>
            <a:ext cx="288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ão posso mudar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o teu passsado nem o teu futuro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Mas quando necessitares de mim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starei junto a ti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84040" y="857160"/>
            <a:ext cx="8572680" cy="5135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880920" y="985680"/>
            <a:ext cx="448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ão posso evitar que tropeces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Somente posso oferecer-te a minha mã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para que te apoies e não caias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84040" y="214200"/>
            <a:ext cx="8572680" cy="6429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500040" y="1357200"/>
            <a:ext cx="3252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As tuas alegrias,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os teus triunfos e os teus êxito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ão são meus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Mas me regozijo, sinceramente,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quando te vejo feliz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4040" y="214200"/>
            <a:ext cx="8572680" cy="642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286240" y="369720"/>
            <a:ext cx="3214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ão julgo as decisõe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que tomas na vida. 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Limito-me a apoiar-te,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a estimular-te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 a ajudar-te se me pedes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284040" y="642960"/>
            <a:ext cx="8572680" cy="5700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153040" y="128592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Book Antiqua"/>
              </a:rPr>
              <a:t>Não posso traçar-te limites</a:t>
            </a:r>
            <a:endParaRPr b="0" lang="en-US" sz="16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Book Antiqua"/>
              </a:rPr>
              <a:t>dentro dos quais deves atuar,</a:t>
            </a:r>
            <a:endParaRPr b="0" lang="en-US" sz="16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Book Antiqua"/>
              </a:rPr>
              <a:t>Mas te ofereço esse espaço</a:t>
            </a:r>
            <a:endParaRPr b="0" lang="en-US" sz="1600" spc="-1" strike="noStrike">
              <a:solidFill>
                <a:srgbClr val="000000"/>
              </a:solidFill>
              <a:latin typeface="CG Times (W1)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Book Antiqua"/>
              </a:rPr>
              <a:t>necessário para cresceres.</a:t>
            </a:r>
            <a:endParaRPr b="0" lang="en-US" sz="16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284040" y="600120"/>
            <a:ext cx="8572680" cy="5710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Times (W1)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00040" y="3500280"/>
            <a:ext cx="3643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ão posso evitar o teu sofriment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quando alguma pena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te parte o coração,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mas posso chorar contig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e recolher os pedaço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ara armá-lo de novo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6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84040" y="476280"/>
            <a:ext cx="8572680" cy="5881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557280" y="500040"/>
            <a:ext cx="32288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ão posso dizer-te quem é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nem quem deverias ser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Somente posso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amar-te como és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Book Antiqua"/>
              </a:rPr>
              <a:t>e ser teu amigo.</a:t>
            </a:r>
            <a:endParaRPr b="0" lang="en-US" sz="1800" spc="-1" strike="noStrike">
              <a:solidFill>
                <a:srgbClr val="000000"/>
              </a:solidFill>
              <a:latin typeface="CG Times (W1)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1:05:07Z</dcterms:created>
  <dc:creator>operacao</dc:creator>
  <dc:description/>
  <dc:language>en-US</dc:language>
  <cp:lastModifiedBy>Severino</cp:lastModifiedBy>
  <dcterms:modified xsi:type="dcterms:W3CDTF">2009-07-23T01:27:30Z</dcterms:modified>
  <cp:revision>3</cp:revision>
  <dc:subject/>
  <dc:title>Diapositivo 1</dc:title>
</cp:coreProperties>
</file>