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89B-22AB-46C7-A55E-C31BBCEFFEA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A355-44E4-4DDF-B7DB-A0EC7D16FCB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C1F-3740-4C11-8F2A-0F4065CA29E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F48E-5DF1-45DB-A0F0-0D87719D116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F25E-5D56-4149-AA1F-A9A57A815AD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D281-7C6A-473B-948A-D30F3673837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9DC6-F253-4AEE-95DD-21C3475C0A4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4BA-4119-4C5A-98D4-83935933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563-A9DD-4A7E-A6F0-6F57441A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11E-DEC1-499E-ADA8-A74DBBFA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825-E477-4A5E-B92B-DA7B6AF2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569-8ED6-447D-9316-91672C0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87F-C4ED-454A-98A8-A916273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2D2-29B3-4B46-BEFC-A13F057F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FC2-89F9-4C1A-8126-DB86BAE5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DCD-18B8-4589-80B3-55C08FF6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9AE-FBF9-4FE8-A536-1D398A9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CAF-8368-48A4-B054-D2143CB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300-1950-48F5-8390-97118DAE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3603-8EF1-4152-A109-A76830B20A42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Calibri"/>
              </a:rPr>
              <a:t>FRASES DE ANTOINE DE SAINT-EXUPÉ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ESCRITOR E AVIADOR FRANCÊS (*1900  +1944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UTOR DO LIVRO “O PEQUENO PRÍNCIP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Imagem 7" descr="peqprinci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9"/>
          <p:cNvSpPr/>
          <p:nvPr/>
        </p:nvSpPr>
        <p:spPr>
          <a:xfrm>
            <a:off x="0" y="285840"/>
            <a:ext cx="678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Mas se tu me cativas,nós teremos necessidade um do outro. Serás para mim único no mundo, e eu serei para ti única no mundo(...) Mas se tu me cativas, minha vida será como que cheia de sol(...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aixaDeTexto 10"/>
          <p:cNvSpPr/>
          <p:nvPr/>
        </p:nvSpPr>
        <p:spPr>
          <a:xfrm>
            <a:off x="0" y="2214720"/>
            <a:ext cx="72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O futuro não é um lugar onde estamos indo, mas um lugar que estamos criando. O caminho para ele não é encontrado, mas construído e o ato de fazê-lo muda tanto o realizador quando o destino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aixaDeTexto 11"/>
          <p:cNvSpPr/>
          <p:nvPr/>
        </p:nvSpPr>
        <p:spPr>
          <a:xfrm>
            <a:off x="0" y="450072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O Amor é a única coisa que cresce à medida que se reparte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Espaço Reservado para Conteúdo 3" descr="pequeno-principe1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7" name="CaixaDeTexto 3"/>
          <p:cNvSpPr/>
          <p:nvPr/>
        </p:nvSpPr>
        <p:spPr>
          <a:xfrm>
            <a:off x="357120" y="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"Aqueles que passam por nós, não vão sós, não nos deixam sós.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Deixam um pouco de si, levam um pouco de nós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aixaDeTexto 4"/>
          <p:cNvSpPr/>
          <p:nvPr/>
        </p:nvSpPr>
        <p:spPr>
          <a:xfrm>
            <a:off x="785880" y="19288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"Só se vê bem com o coraçã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essencial é invisível aos olho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aixaDeTexto 5"/>
          <p:cNvSpPr/>
          <p:nvPr/>
        </p:nvSpPr>
        <p:spPr>
          <a:xfrm>
            <a:off x="3286080" y="3714840"/>
            <a:ext cx="607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"Há vitórias que exaltam, outras que corrompem; derrotas que matam, outras que despertam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aixaDeTexto 6"/>
          <p:cNvSpPr/>
          <p:nvPr/>
        </p:nvSpPr>
        <p:spPr>
          <a:xfrm>
            <a:off x="1000080" y="5929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"O fracasso fortifica aos forte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Espaço Reservado para Conteúdo 3" descr="pequeno-principe-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3"/>
          <p:cNvSpPr/>
          <p:nvPr/>
        </p:nvSpPr>
        <p:spPr>
          <a:xfrm>
            <a:off x="285840" y="214200"/>
            <a:ext cx="7429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"As pessoas podem ser dividas em três grupos: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- Os que fazem as coisas acontecerem;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- Os que olham as coisas acontecend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- Os que ficam se perguntando o que foi que aconteceu;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sso caráter é aquilo que fazemos quando achamos que ninguém está olhando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unca deixe de ter dúvidas, quando elas 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 existir é porque você parou em sua caminhada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aixaDeTexto 4"/>
          <p:cNvSpPr/>
          <p:nvPr/>
        </p:nvSpPr>
        <p:spPr>
          <a:xfrm>
            <a:off x="142920" y="392904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"Se tu choras por ter perdido o sol,      as lágrimas te impedirão de ver as   estrelas."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Espaço Reservado para Conteúdo 3" descr="Pequeno_Princi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3"/>
          <p:cNvSpPr/>
          <p:nvPr/>
        </p:nvSpPr>
        <p:spPr>
          <a:xfrm>
            <a:off x="2786040" y="27147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Arial"/>
              </a:rPr>
              <a:t>"O homem se descobre quando se mede com um obstácul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aixaDeTexto 4"/>
          <p:cNvSpPr/>
          <p:nvPr/>
        </p:nvSpPr>
        <p:spPr>
          <a:xfrm>
            <a:off x="2143080" y="435780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Arial"/>
              </a:rPr>
              <a:t>"Liberdade é voar por espaços sem limites, que vão ao encontro dos nossos sonho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CaixaDeTexto 5"/>
          <p:cNvSpPr/>
          <p:nvPr/>
        </p:nvSpPr>
        <p:spPr>
          <a:xfrm>
            <a:off x="3643200" y="5500800"/>
            <a:ext cx="19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1e1c11"/>
                </a:solidFill>
                <a:latin typeface="Arial"/>
              </a:rPr>
              <a:t>FI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0040" y="100008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eba duas mensagens semanais, uma na segunda-feira e outra na sext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ão precisa escrever nada no e-mail, nem no campo assunto é só enviar o e-mail e daí a pouco você recebe uma mensagem de confirmação, a qual deve novamente somente clicar em responder sem escrever nada no e-mail, clique em Enviar e já estará inscrito(a) para receber as mensagens. 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37:33Z</dcterms:created>
  <dc:creator>Tchuca</dc:creator>
  <dc:description/>
  <dc:language>en-US</dc:language>
  <cp:lastModifiedBy>Sérgio</cp:lastModifiedBy>
  <dcterms:modified xsi:type="dcterms:W3CDTF">2009-12-04T12:48:18Z</dcterms:modified>
  <cp:revision>16</cp:revision>
  <dc:subject/>
  <dc:title>Slide 1</dc:title>
</cp:coreProperties>
</file>