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520-E96F-457A-8824-90E356E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7E6-3860-4BB2-B0A3-47148B9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F0D-48FF-409A-94E9-E6177328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8A5-DCE5-4455-98EF-931ABE5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EE-EB70-4BD8-A654-C87DBC5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43B-C6D7-4E3A-B34E-F090B10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898-A485-4523-88A0-25EDE7D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022-FF91-4065-B577-92E88E82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8ED-CCAB-4A76-BA4E-79E46908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0A4-1E60-4A63-AD2B-5CCEB47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056-09B9-4E01-8E4C-A4B5062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762-BCFB-428A-B00A-7DB4E8F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F21-4D73-4C63-A884-E68A3D7A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-3924360" y="1501200"/>
            <a:ext cx="1681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Banco Bradesco S/A seleciona Operadores de Mercado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vaga efetiva) para atuar no Departamento de Tesouraria - Osasco 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é-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estudante a partir do 3º ano ou formado em Econom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ministração de Empresas, Ciências Contábeis e Engenh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lidos conhecimentos em Matemática Financ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iniciativa e agressividade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nibilidade para trabalhar período integral (8 h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bre a V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r na Mesa Varejo com negociações e taxas especiai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s ativos, passivos e deriv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120" y="104292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STA EM SEU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539280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o se in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nteressados deverão encaminhar os currículos par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interbancário@uol.com.br; interbancario2@terra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urriculo@bancovagas.com.br / Assunto: Tesouraria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5:10:49Z</dcterms:created>
  <dc:creator>F039863</dc:creator>
  <dc:description/>
  <dc:language>en-US</dc:language>
  <cp:lastModifiedBy>F039863</cp:lastModifiedBy>
  <dcterms:modified xsi:type="dcterms:W3CDTF">2010-12-30T21:58:20Z</dcterms:modified>
  <cp:revision>6</cp:revision>
  <dc:subject/>
  <dc:title>Slide 1</dc:title>
</cp:coreProperties>
</file>