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80D-FAA9-4EEE-B3A5-A57676C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04D-94EC-4F1A-9756-1B4E7F9D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F0E-C57F-4E3A-89B4-40E4EA0B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12B-608D-42A5-BCCA-626597E3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368-D90E-4432-A056-36D93F5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C00-B3C6-4AB8-8AC1-4ACD9F0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CA7-46D1-4FB1-87D1-C4A65A59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02D-7C10-410D-9A0B-664B387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D9A-2B08-4013-9DEA-11E526A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018-780E-4EC9-8EDF-FA4A96F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769-0849-4581-9975-0F52910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6FA-4B47-43F6-B347-1D42A80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5754-67A8-4F5D-9A85-B9DEC246A1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4071960" y="6637320"/>
            <a:ext cx="2714760" cy="1720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IA_MIOLO"/>
          <p:cNvPicPr/>
          <p:nvPr/>
        </p:nvPicPr>
        <p:blipFill>
          <a:blip r:embed="rId2"/>
          <a:stretch/>
        </p:blipFill>
        <p:spPr>
          <a:xfrm>
            <a:off x="0" y="8326440"/>
            <a:ext cx="6858000" cy="460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82548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285840" y="1428840"/>
            <a:ext cx="81576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5"/>
          <a:stretch/>
        </p:blipFill>
        <p:spPr>
          <a:xfrm>
            <a:off x="285840" y="3714840"/>
            <a:ext cx="80172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6"/>
          <a:stretch/>
        </p:blipFill>
        <p:spPr>
          <a:xfrm>
            <a:off x="285840" y="2500200"/>
            <a:ext cx="847800" cy="9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g_logo_drk_blu_300_2"/>
          <p:cNvPicPr/>
          <p:nvPr/>
        </p:nvPicPr>
        <p:blipFill>
          <a:blip r:embed="rId7"/>
          <a:stretch/>
        </p:blipFill>
        <p:spPr>
          <a:xfrm>
            <a:off x="5072040" y="214200"/>
            <a:ext cx="1428840" cy="65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8"/>
          <a:stretch/>
        </p:blipFill>
        <p:spPr>
          <a:xfrm>
            <a:off x="285840" y="4857840"/>
            <a:ext cx="842760" cy="82368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17"/>
          <p:cNvSpPr/>
          <p:nvPr/>
        </p:nvSpPr>
        <p:spPr>
          <a:xfrm>
            <a:off x="214200" y="1071720"/>
            <a:ext cx="650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300" spc="-1" strike="noStrike">
                <a:solidFill>
                  <a:srgbClr val="376092"/>
                </a:solidFill>
                <a:latin typeface="Verdana"/>
                <a:ea typeface="Verdana"/>
              </a:rPr>
              <a:t>Jovens Profissionais – Supervisor de Finanças São Paulo- SP e Louveira-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10"/>
          <p:cNvSpPr/>
          <p:nvPr/>
        </p:nvSpPr>
        <p:spPr>
          <a:xfrm>
            <a:off x="1214280" y="1428840"/>
            <a:ext cx="5214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A  </a:t>
            </a:r>
            <a:r>
              <a:rPr b="0" i="1" lang="pt-BR" sz="1200" spc="-1" strike="noStrike">
                <a:solidFill>
                  <a:srgbClr val="376092"/>
                </a:solidFill>
                <a:latin typeface="Verdana"/>
                <a:ea typeface="Verdana"/>
              </a:rPr>
              <a:t>Procter &amp; Gamble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é a maior empresa de bens de consumo do mundo. Está presente em mais de 140 países e comercializa mais de 300 marcas nos segmentos de cuidados com o lar, com o bebê, saúde, beleza, além de proteção feminina e aliment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Presente no Brasil desde 1988 tem entre seu portfólio de produtos as marcas: ACE, Ariel, Always, Duracell, Gillette, Hipoglós, Oral-B, Pantene, Pampers, Tampax, Vick, Wella, entre ou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3"/>
          <p:cNvSpPr/>
          <p:nvPr/>
        </p:nvSpPr>
        <p:spPr>
          <a:xfrm>
            <a:off x="1143000" y="3357720"/>
            <a:ext cx="464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376092"/>
                </a:solidFill>
                <a:uFillTx/>
                <a:latin typeface="Verdana"/>
                <a:ea typeface="Verdana"/>
              </a:rPr>
              <a:t>Pré-requisi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Formação superior comple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Nível fluente de inglê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Habilidades de liderança, e excelência na comunicaçã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Residir em São Pa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Temos vagas para São Paulo –SP e Louveira-S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8"/>
          <p:cNvSpPr/>
          <p:nvPr/>
        </p:nvSpPr>
        <p:spPr>
          <a:xfrm>
            <a:off x="1214280" y="4762440"/>
            <a:ext cx="478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376092"/>
                </a:solidFill>
                <a:uFillTx/>
                <a:latin typeface="Verdana"/>
                <a:ea typeface="Verdana"/>
              </a:rPr>
              <a:t>Para particip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Acesse o site: www.ciadetalentos.com.br/pgs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Clique em “Ver vagas e se candidat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Verdana"/>
              </a:rPr>
              <a:t>Desça a barra de rolagem e inscreva-se para a vaga “ FIN – Jovens Profissionais – Supervisor de Finanças ou FIN – Jovens Profissionais – Supervisor de Finanças – Louveira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9"/>
          <a:stretch/>
        </p:blipFill>
        <p:spPr>
          <a:xfrm>
            <a:off x="349200" y="7929720"/>
            <a:ext cx="3365640" cy="29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Home"/>
          <p:cNvPicPr/>
          <p:nvPr/>
        </p:nvPicPr>
        <p:blipFill>
          <a:blip r:embed="rId10"/>
          <a:stretch/>
        </p:blipFill>
        <p:spPr>
          <a:xfrm>
            <a:off x="500040" y="6929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http://www.pg.com/pt_BR/images/bola_mocamocoeloira.gif"/>
          <p:cNvPicPr/>
          <p:nvPr/>
        </p:nvPicPr>
        <p:blipFill>
          <a:blip r:embed="rId11"/>
          <a:stretch/>
        </p:blipFill>
        <p:spPr>
          <a:xfrm>
            <a:off x="1571760" y="6929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A Empresa"/>
          <p:cNvPicPr/>
          <p:nvPr/>
        </p:nvPicPr>
        <p:blipFill>
          <a:blip r:embed="rId12"/>
          <a:stretch/>
        </p:blipFill>
        <p:spPr>
          <a:xfrm>
            <a:off x="2714760" y="6929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19:45Z</dcterms:created>
  <dc:creator>Alesandro</dc:creator>
  <dc:description/>
  <dc:language>en-US</dc:language>
  <cp:lastModifiedBy>tatiane.correa</cp:lastModifiedBy>
  <dcterms:modified xsi:type="dcterms:W3CDTF">2010-06-14T12:28:22Z</dcterms:modified>
  <cp:revision>17</cp:revision>
  <dc:subject/>
  <dc:title>Slide 1</dc:title>
</cp:coreProperties>
</file>