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19DF-B420-4E8A-8F29-808E36F4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EE3-1BD6-408C-B951-D18B7648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627A-CFF7-433A-AC73-804D1F42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19A-413F-4EEE-A722-AE4F2097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3F4-CBFE-476C-B352-7B17D2C1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D119-1836-4003-B0C2-0906D015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7353-F6BA-4760-8D9E-DDB46CFA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D7A-7373-46C8-B1BA-72740C5E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D44-9DE3-4BA4-ADE2-28527EDF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8F3-F8E4-42F8-93B3-8AE1719A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A4EC-D4A2-4606-8BA4-7B3B7A41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751-6CF4-4E7B-A184-820B9CC9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2BF-7BC4-473E-94B1-90C58DE0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D504-F37B-4C61-B216-8BA790CE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7F40-004F-4CE5-92DB-47D42FF1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DA58-19F2-4F9B-B5DC-D9CC376E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911F-BF33-4CE4-8C87-47F3C151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AA4F-34C3-49F9-A2B1-C6CEDD3D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50BC-F0BA-4017-BDC5-4AE881B9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5DE-94B0-4825-A6F8-E4227ED1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0E2-691F-4547-AA9E-81D2D703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270160"/>
            <a:ext cx="457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5"/>
          <p:cNvSpPr/>
          <p:nvPr/>
        </p:nvSpPr>
        <p:spPr>
          <a:xfrm>
            <a:off x="3429000" y="2362320"/>
            <a:ext cx="5410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rojecting Cash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nd Earning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5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7-</a:t>
            </a:r>
            <a:fld id="{3AC2C786-4460-4C2B-A04C-028B8A8C8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7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Income State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505320" y="3533760"/>
          <a:ext cx="1218960" cy="103680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09480" y="3530520"/>
          <a:ext cx="2819520" cy="1036800"/>
        </p:xfrm>
        <a:graphic>
          <a:graphicData uri="http://schemas.openxmlformats.org/drawingml/2006/table">
            <a:tbl>
              <a:tblPr/>
              <a:tblGrid>
                <a:gridCol w="175284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ned Ea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9480" y="1698480"/>
          <a:ext cx="2819520" cy="2011680"/>
        </p:xfrm>
        <a:graphic>
          <a:graphicData uri="http://schemas.openxmlformats.org/drawingml/2006/table">
            <a:tbl>
              <a:tblPr/>
              <a:tblGrid>
                <a:gridCol w="175284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able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x (4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80" name="TextBox 6"/>
          <p:cNvSpPr/>
          <p:nvPr/>
        </p:nvSpPr>
        <p:spPr>
          <a:xfrm>
            <a:off x="581400" y="4749840"/>
            <a:ext cx="2959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DPR = 720 / 1,200 =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RR = 1 – 60% =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05320" y="1698480"/>
          <a:ext cx="1218960" cy="201168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3537000"/>
          <a:ext cx="990720" cy="10364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1701720"/>
          <a:ext cx="990720" cy="20113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84" name="TextBox 10"/>
          <p:cNvSpPr/>
          <p:nvPr/>
        </p:nvSpPr>
        <p:spPr>
          <a:xfrm>
            <a:off x="5867280" y="16765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What is the net income in Y2 if sales is projected to grow by 20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095880" y="26668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Arial"/>
              </a:rPr>
              <a:t>Assume: all items are spontaneous and DPR doesn’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4943160" y="20383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4943160" y="23875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Arial"/>
              </a:rPr>
              <a:t>3,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4943160" y="27068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Arial"/>
              </a:rPr>
              <a:t>2,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5113440" y="3025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Arial"/>
              </a:rPr>
              <a:t>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4946040" y="33670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80808"/>
                </a:solidFill>
                <a:latin typeface="Arial"/>
              </a:rPr>
              <a:t>1,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550040" y="4749840"/>
            <a:ext cx="1380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DPR =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RR =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5113440" y="391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80808"/>
                </a:solidFill>
                <a:latin typeface="Arial"/>
              </a:rPr>
              <a:t>8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5123520" y="4246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80808"/>
                </a:solidFill>
                <a:latin typeface="Arial"/>
              </a:rPr>
              <a:t>5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5867280" y="388620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M = 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Net Income in Y2 = 24% x 6,000 =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1,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5867280" y="502920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R =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etained Earn in Y2 = 40% x 1,440 =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Balance She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3520" y="1830240"/>
          <a:ext cx="2971800" cy="4108680"/>
        </p:xfrm>
        <a:graphic>
          <a:graphicData uri="http://schemas.openxmlformats.org/drawingml/2006/table">
            <a:tbl>
              <a:tblPr/>
              <a:tblGrid>
                <a:gridCol w="175248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t. Receiv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t. Pay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Pay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-de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mulated 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 + 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657600" y="1830240"/>
          <a:ext cx="1447920" cy="410868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99" name="TextBox 4"/>
          <p:cNvSpPr/>
          <p:nvPr/>
        </p:nvSpPr>
        <p:spPr>
          <a:xfrm>
            <a:off x="2209680" y="15098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Sales = 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288040" y="1830240"/>
          <a:ext cx="1218960" cy="410868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6"/>
          <p:cNvSpPr/>
          <p:nvPr/>
        </p:nvSpPr>
        <p:spPr>
          <a:xfrm>
            <a:off x="5226120" y="1509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Sales = 6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750640" y="2211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604480" y="24969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5596560" y="2817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3,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5596560" y="31068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4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5493600" y="34275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1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5595120" y="39639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1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5586840" y="4265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70c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5588640" y="45864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70c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5586840" y="50436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70c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5586840" y="53481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2,5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487480" y="56530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10,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8"/>
          <p:cNvGrpSpPr/>
          <p:nvPr/>
        </p:nvGrpSpPr>
        <p:grpSpPr>
          <a:xfrm>
            <a:off x="3505320" y="1473120"/>
            <a:ext cx="1721160" cy="307080"/>
            <a:chOff x="3505320" y="1473120"/>
            <a:chExt cx="1721160" cy="307080"/>
          </a:xfrm>
        </p:grpSpPr>
        <p:cxnSp>
          <p:nvCxnSpPr>
            <p:cNvPr id="214" name="Straight Arrow Connector 19"/>
            <p:cNvCxnSpPr/>
            <p:nvPr/>
          </p:nvCxnSpPr>
          <p:spPr>
            <a:xfrm>
              <a:off x="3505320" y="1650600"/>
              <a:ext cx="17215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5" name="TextBox 20"/>
            <p:cNvSpPr/>
            <p:nvPr/>
          </p:nvSpPr>
          <p:spPr>
            <a:xfrm>
              <a:off x="3948480" y="1473120"/>
              <a:ext cx="84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Arial"/>
                </a:rPr>
                <a:t>g =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ounded Rectangle 21"/>
          <p:cNvSpPr/>
          <p:nvPr/>
        </p:nvSpPr>
        <p:spPr>
          <a:xfrm>
            <a:off x="5410080" y="3340080"/>
            <a:ext cx="838440" cy="45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22"/>
          <p:cNvSpPr/>
          <p:nvPr/>
        </p:nvSpPr>
        <p:spPr>
          <a:xfrm>
            <a:off x="5410080" y="5565600"/>
            <a:ext cx="838440" cy="45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23"/>
          <p:cNvCxnSpPr>
            <a:stCxn id="216" idx="3"/>
            <a:endCxn id="217" idx="3"/>
          </p:cNvCxnSpPr>
          <p:nvPr/>
        </p:nvCxnSpPr>
        <p:spPr>
          <a:xfrm>
            <a:off x="6248160" y="3568680"/>
            <a:ext cx="13320" cy="2224800"/>
          </a:xfrm>
          <a:prstGeom prst="bentConnector3">
            <a:avLst>
              <a:gd name="adj1" fmla="val 3358333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19" name="TextBox 24"/>
          <p:cNvSpPr/>
          <p:nvPr/>
        </p:nvSpPr>
        <p:spPr>
          <a:xfrm>
            <a:off x="6781680" y="351000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We need additional $1,124 to finance sales growth of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5"/>
          <p:cNvSpPr/>
          <p:nvPr/>
        </p:nvSpPr>
        <p:spPr>
          <a:xfrm>
            <a:off x="6781680" y="492912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$1,124 is called EFN (External Financing Ne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ontent Placeholder 2"/>
          <p:cNvSpPr/>
          <p:nvPr/>
        </p:nvSpPr>
        <p:spPr>
          <a:xfrm>
            <a:off x="457200" y="1379520"/>
            <a:ext cx="83818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2b2c0e"/>
                </a:solidFill>
                <a:latin typeface="Arial"/>
              </a:rPr>
              <a:t>Percentage of Sales Approach assumes that FA is operated at full capacity (100% capac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2b2c0e"/>
                </a:solidFill>
                <a:latin typeface="Arial"/>
              </a:rPr>
              <a:t>What happens if FA is not operated at full capa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2b2c0e"/>
                </a:solidFill>
                <a:latin typeface="Arial"/>
              </a:rPr>
              <a:t>From previos example (Y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2b2c0e"/>
                </a:solidFill>
                <a:latin typeface="Arial"/>
              </a:rPr>
              <a:t>Sales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2b2c0e"/>
                </a:solidFill>
                <a:latin typeface="Arial"/>
              </a:rPr>
              <a:t>Fixed asset = $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2b2c0e"/>
                </a:solidFill>
                <a:latin typeface="Arial"/>
              </a:rPr>
              <a:t>Suppose FA is operated at 80%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Arial"/>
              </a:rPr>
              <a:t>Sales at full capacity of FA = 5,000 / 80% = $6,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Arial"/>
              </a:rPr>
              <a:t>Sales projection in Y2 = $6,000 (growth =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Arial"/>
              </a:rPr>
              <a:t>It is still below FA’s full capacity </a:t>
            </a:r>
            <a:r>
              <a:rPr b="0" lang="id-ID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ff0000"/>
                </a:solidFill>
                <a:latin typeface="Arial"/>
              </a:rPr>
              <a:t> firm doesn’t need to buy new fixed asset (FA is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Arial"/>
              </a:rPr>
              <a:t>Use of FA at sales of $6,000 = 6,000 / 6,250 = 96%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xed Asset Iss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ontent Placeholder 2"/>
          <p:cNvSpPr/>
          <p:nvPr/>
        </p:nvSpPr>
        <p:spPr>
          <a:xfrm>
            <a:off x="457200" y="1371600"/>
            <a:ext cx="83059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2b2c0e"/>
                </a:solidFill>
                <a:latin typeface="Arial"/>
              </a:rPr>
              <a:t>What if FA is assumed at 90% capacity in Y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Sales in Y1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= $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FA in Y1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= $4,000 (operated at 9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Sales at full capacity 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= $5,000 / 90% = $5,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CIR of FA = 4,000 / 5,556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= 72% or 0.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d-ID" sz="2200" spc="-1" strike="noStrike">
                <a:solidFill>
                  <a:srgbClr val="ff0000"/>
                </a:solidFill>
                <a:latin typeface="Arial"/>
              </a:rPr>
              <a:t>To create $1 in sales, it needs $0.72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d-ID" sz="2200" spc="-1" strike="noStrike">
                <a:solidFill>
                  <a:srgbClr val="ff0000"/>
                </a:solidFill>
                <a:latin typeface="Arial"/>
              </a:rPr>
              <a:t>It is also known as Ratio of FA to full-capacity sa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Thus, to achieve sales level of $6,500, it needs fixed assets = $6,500 x 0.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72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 = $4,6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8</a:t>
            </a:r>
            <a:r>
              <a:rPr b="0" lang="id-ID" sz="22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2b2c0e"/>
                </a:solidFill>
                <a:latin typeface="Arial"/>
              </a:rPr>
              <a:t>If FA is operated at 90% capacity, then FA projection in Y2 should be adjus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xed Asset Iss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Content Placeholder 2"/>
          <p:cNvSpPr/>
          <p:nvPr/>
        </p:nvSpPr>
        <p:spPr>
          <a:xfrm>
            <a:off x="457200" y="129528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2b2c0e"/>
                </a:solidFill>
                <a:latin typeface="Arial"/>
              </a:rPr>
              <a:t>If FA is assumed to operated at 90% capac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2287440"/>
          <a:ext cx="2971800" cy="4108680"/>
        </p:xfrm>
        <a:graphic>
          <a:graphicData uri="http://schemas.openxmlformats.org/drawingml/2006/table">
            <a:tbl>
              <a:tblPr/>
              <a:tblGrid>
                <a:gridCol w="1752840"/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t. Receiv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t. Pay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Pay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-de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mulated 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 + 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733920" y="2287440"/>
          <a:ext cx="1447560" cy="410868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4"/>
          <p:cNvSpPr/>
          <p:nvPr/>
        </p:nvSpPr>
        <p:spPr>
          <a:xfrm>
            <a:off x="2286000" y="1967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Sales = 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64000" y="2287440"/>
          <a:ext cx="1219320" cy="410868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6"/>
          <p:cNvSpPr/>
          <p:nvPr/>
        </p:nvSpPr>
        <p:spPr>
          <a:xfrm>
            <a:off x="5302080" y="19670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Sales = 6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3657240" y="1935000"/>
            <a:ext cx="1646640" cy="307080"/>
            <a:chOff x="3657240" y="1935000"/>
            <a:chExt cx="1646640" cy="307080"/>
          </a:xfrm>
        </p:grpSpPr>
        <p:cxnSp>
          <p:nvCxnSpPr>
            <p:cNvPr id="232" name="Straight Arrow Connector 8"/>
            <p:cNvCxnSpPr/>
            <p:nvPr/>
          </p:nvCxnSpPr>
          <p:spPr>
            <a:xfrm>
              <a:off x="3657240" y="2133360"/>
              <a:ext cx="1647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3" name="TextBox 9"/>
            <p:cNvSpPr/>
            <p:nvPr/>
          </p:nvSpPr>
          <p:spPr>
            <a:xfrm>
              <a:off x="4024800" y="1935000"/>
              <a:ext cx="84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Arial"/>
                </a:rPr>
                <a:t>g =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0"/>
          <p:cNvGrpSpPr/>
          <p:nvPr/>
        </p:nvGrpSpPr>
        <p:grpSpPr>
          <a:xfrm>
            <a:off x="5486400" y="2668680"/>
            <a:ext cx="1273320" cy="3809880"/>
            <a:chOff x="5486400" y="2668680"/>
            <a:chExt cx="1273320" cy="3809880"/>
          </a:xfrm>
        </p:grpSpPr>
        <p:sp>
          <p:nvSpPr>
            <p:cNvPr id="235" name="TextBox 11"/>
            <p:cNvSpPr/>
            <p:nvPr/>
          </p:nvSpPr>
          <p:spPr>
            <a:xfrm>
              <a:off x="5826600" y="26686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2"/>
            <p:cNvSpPr/>
            <p:nvPr/>
          </p:nvSpPr>
          <p:spPr>
            <a:xfrm>
              <a:off x="5680440" y="29556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3"/>
            <p:cNvSpPr/>
            <p:nvPr/>
          </p:nvSpPr>
          <p:spPr>
            <a:xfrm>
              <a:off x="5673600" y="327564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3,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"/>
            <p:cNvSpPr/>
            <p:nvPr/>
          </p:nvSpPr>
          <p:spPr>
            <a:xfrm>
              <a:off x="5673600" y="356508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4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5"/>
            <p:cNvSpPr/>
            <p:nvPr/>
          </p:nvSpPr>
          <p:spPr>
            <a:xfrm>
              <a:off x="5575680" y="388512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Arial"/>
                </a:rPr>
                <a:t>11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id-ID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6"/>
            <p:cNvSpPr/>
            <p:nvPr/>
          </p:nvSpPr>
          <p:spPr>
            <a:xfrm>
              <a:off x="5670720" y="44211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1,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7"/>
            <p:cNvSpPr/>
            <p:nvPr/>
          </p:nvSpPr>
          <p:spPr>
            <a:xfrm>
              <a:off x="5663160" y="47232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70c0"/>
                  </a:solidFill>
                  <a:latin typeface="Arial"/>
                </a:rPr>
                <a:t>2,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8"/>
            <p:cNvSpPr/>
            <p:nvPr/>
          </p:nvSpPr>
          <p:spPr>
            <a:xfrm>
              <a:off x="5665680" y="504324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70c0"/>
                  </a:solidFill>
                  <a:latin typeface="Arial"/>
                </a:rPr>
                <a:t>2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9"/>
            <p:cNvSpPr/>
            <p:nvPr/>
          </p:nvSpPr>
          <p:spPr>
            <a:xfrm>
              <a:off x="5663160" y="550044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70c0"/>
                  </a:solidFill>
                  <a:latin typeface="Arial"/>
                </a:rPr>
                <a:t>2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0"/>
            <p:cNvSpPr/>
            <p:nvPr/>
          </p:nvSpPr>
          <p:spPr>
            <a:xfrm>
              <a:off x="5663160" y="58053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Arial"/>
                </a:rPr>
                <a:t>2,57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1"/>
            <p:cNvSpPr/>
            <p:nvPr/>
          </p:nvSpPr>
          <p:spPr>
            <a:xfrm>
              <a:off x="5563800" y="6109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Arial"/>
                </a:rPr>
                <a:t>10,87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ounded Rectangle 22"/>
            <p:cNvSpPr/>
            <p:nvPr/>
          </p:nvSpPr>
          <p:spPr>
            <a:xfrm>
              <a:off x="5486400" y="3798720"/>
              <a:ext cx="838440" cy="455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ounded Rectangle 23"/>
            <p:cNvSpPr/>
            <p:nvPr/>
          </p:nvSpPr>
          <p:spPr>
            <a:xfrm>
              <a:off x="5486400" y="6023160"/>
              <a:ext cx="838440" cy="455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Elbow Connector 24"/>
            <p:cNvCxnSpPr>
              <a:stCxn id="246" idx="3"/>
              <a:endCxn id="247" idx="3"/>
            </p:cNvCxnSpPr>
            <p:nvPr/>
          </p:nvCxnSpPr>
          <p:spPr>
            <a:xfrm>
              <a:off x="6324480" y="4025880"/>
              <a:ext cx="13320" cy="2224800"/>
            </a:xfrm>
            <a:prstGeom prst="bentConnector3">
              <a:avLst>
                <a:gd name="adj1" fmla="val 3358333"/>
              </a:avLst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49" name="TextBox 25"/>
          <p:cNvSpPr/>
          <p:nvPr/>
        </p:nvSpPr>
        <p:spPr>
          <a:xfrm>
            <a:off x="685800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FN = 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4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eft Arrow 26"/>
          <p:cNvSpPr/>
          <p:nvPr/>
        </p:nvSpPr>
        <p:spPr>
          <a:xfrm rot="20624400">
            <a:off x="6291000" y="3462120"/>
            <a:ext cx="457200" cy="3682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7"/>
          <p:cNvSpPr/>
          <p:nvPr/>
        </p:nvSpPr>
        <p:spPr>
          <a:xfrm>
            <a:off x="6858000" y="5481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Arial"/>
              </a:rPr>
              <a:t>(Not $1,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xed Asset Adjust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29"/>
          <p:cNvSpPr/>
          <p:nvPr/>
        </p:nvSpPr>
        <p:spPr>
          <a:xfrm>
            <a:off x="5537160" y="4737240"/>
            <a:ext cx="838080" cy="10666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066680"/>
              <a:gd name="textAreaBottom" fmla="*/ 1026000 h 1066680"/>
            </a:gdLst>
            <a:ahLst/>
            <a:rect l="textAreaLeft" t="textAreaTop" r="textAreaRight" b="textAreaBottom"/>
            <a:pathLst>
              <a:path w="21600" h="27489">
                <a:moveTo>
                  <a:pt x="3600" y="0"/>
                </a:moveTo>
                <a:arcTo wR="3600" hR="3600" stAng="16200000" swAng="-5400000"/>
                <a:lnTo>
                  <a:pt x="0" y="23889"/>
                </a:lnTo>
                <a:arcTo wR="3600" hR="3600" stAng="10800000" swAng="-5400000"/>
                <a:lnTo>
                  <a:pt x="18000" y="27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066680" y="26668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Stock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ojected Profitability and Price Ratio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org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3880" y="1293840"/>
          <a:ext cx="6096240" cy="4408560"/>
        </p:xfrm>
        <a:graphic>
          <a:graphicData uri="http://schemas.openxmlformats.org/drawingml/2006/table">
            <a:tbl>
              <a:tblPr/>
              <a:tblGrid>
                <a:gridCol w="3284640"/>
                <a:gridCol w="1378080"/>
                <a:gridCol w="1433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 2536 (act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Year 2537 (Forec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Gross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Operating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7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Assets (R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4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.09% (I) 4.74% (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Equity (RO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.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Book Value per share (BV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$21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Earnings per share (E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1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$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Cash Flow per share (CF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$4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47"/>
          <p:cNvSpPr/>
          <p:nvPr/>
        </p:nvSpPr>
        <p:spPr>
          <a:xfrm>
            <a:off x="914400" y="6024600"/>
            <a:ext cx="7238880" cy="36828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) Borg running at full capacity; (II) Borg running at 75%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ojected Stock Prices for Year 2537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org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925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e that the current stock price is $4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ich projected stock price is “right”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learly depends on which price ratio financial markets will use to price Borg shar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Your job as an analyst will be to assess the situation and make an investment recommendation (supported by facts, investigation, and analysis)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19320" y="1905120"/>
          <a:ext cx="7162560" cy="1857240"/>
        </p:xfrm>
        <a:graphic>
          <a:graphicData uri="http://schemas.openxmlformats.org/drawingml/2006/table">
            <a:tbl>
              <a:tblPr/>
              <a:tblGrid>
                <a:gridCol w="3313080"/>
                <a:gridCol w="2020680"/>
                <a:gridCol w="1828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 2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B times BV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.00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×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1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4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E times E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2.22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×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CF times P/C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2.12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×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4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1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se Study: Starbucks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urpose of studying the Borg Corporation was to help you gain an understanding of basic financial statements and how to make financial projecti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further illustrate these concepts, let’s perform an analysis using a real company—which provides a challenge!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use the 2009 financial statements for Starbucks Corpo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uppose revenue increases by either 11.5% or 1.3%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numbers that follow are in $thousands (except EPS)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arbucks Corporation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alance Sheet &amp; Income Statemen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507960" y="1041480"/>
            <a:ext cx="4064040" cy="5486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4648320" y="1035000"/>
            <a:ext cx="4190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elp yourself grow as a stock 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nalyst by knowing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obtain financial information about compani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read basic financial statement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use performance and price ratio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use the percentage of sales method in financial forecasting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 Forma Statements, Notes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pro forma income statements correspond to a 11.5% increase (highest)  and a 1.3% increase (lowest) in revenu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employ the percentage of sales approach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ssume that gross margin, operating margin, and interest income are the same percentage of sales for 2010 as they were in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ssume the tax rate remains consta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et effect: Profit margin remains constant at about 4.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ssume no dividends are paid.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Starbucks will not issue or repurchase shar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ll net income will flow to retained earning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umber of shares remains at 745.9 million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assumptions lead to EPS’s of $0.58 and $0.53, respectively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arbucks Corporation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2010 Pro Forma Income Statemen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arbucks Corporation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2010 Partial Pro Forma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1" name="Picture 5" descr="ch17_4"/>
          <p:cNvPicPr/>
          <p:nvPr/>
        </p:nvPicPr>
        <p:blipFill>
          <a:blip r:embed="rId1"/>
          <a:stretch/>
        </p:blipFill>
        <p:spPr>
          <a:xfrm>
            <a:off x="571680" y="106668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72" name="Rounded Rectangle 3"/>
          <p:cNvSpPr/>
          <p:nvPr/>
        </p:nvSpPr>
        <p:spPr>
          <a:xfrm>
            <a:off x="4813200" y="1041480"/>
            <a:ext cx="1067040" cy="528300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5283000"/>
              <a:gd name="textAreaBottom" fmla="*/ 5231160 h 5283000"/>
            </a:gdLst>
            <a:ahLst/>
            <a:rect l="textAreaLeft" t="textAreaTop" r="textAreaRight" b="textAreaBottom"/>
            <a:pathLst>
              <a:path w="21600" h="106915">
                <a:moveTo>
                  <a:pt x="3600" y="0"/>
                </a:moveTo>
                <a:arcTo wR="3600" hR="3600" stAng="16200000" swAng="-5400000"/>
                <a:lnTo>
                  <a:pt x="0" y="103315"/>
                </a:lnTo>
                <a:arcTo wR="3600" hR="3600" stAng="10800000" swAng="-5400000"/>
                <a:lnTo>
                  <a:pt x="18000" y="1069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4"/>
          <p:cNvSpPr/>
          <p:nvPr/>
        </p:nvSpPr>
        <p:spPr>
          <a:xfrm>
            <a:off x="6845400" y="1041480"/>
            <a:ext cx="1066680" cy="5283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5283000"/>
              <a:gd name="textAreaBottom" fmla="*/ 5231160 h 5283000"/>
            </a:gdLst>
            <a:ahLst/>
            <a:rect l="textAreaLeft" t="textAreaTop" r="textAreaRight" b="textAreaBottom"/>
            <a:pathLst>
              <a:path w="21600" h="106951">
                <a:moveTo>
                  <a:pt x="3600" y="0"/>
                </a:moveTo>
                <a:arcTo wR="3600" hR="3600" stAng="16200000" swAng="-5400000"/>
                <a:lnTo>
                  <a:pt x="0" y="103351"/>
                </a:lnTo>
                <a:arcTo wR="3600" hR="3600" stAng="10800000" swAng="-5400000"/>
                <a:lnTo>
                  <a:pt x="18000" y="1069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2095560" y="29844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6837120" y="6451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4870800" y="64515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 Forma Statements, Notes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high sales estimate, EFN is about $26.3 mill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low sales estimate, EFN is a negative $342.7 mill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rrent assets grow about $372 million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les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n net incom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rrent liabilities increase by about $13 mill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Quite the “cash cow”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is $342.7 million of “excess” cash. What can management do with it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y other compani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ook for new ways to expand the company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y back shar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clare a cash dividend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isting profit margin enjoyed by Starbucks is such that considerable growth can be financed out of sal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arbucks Corporation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2010 Pro Forma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80" name="Picture 5" descr="ch17_5"/>
          <p:cNvPicPr/>
          <p:nvPr/>
        </p:nvPicPr>
        <p:blipFill>
          <a:blip r:embed="rId1"/>
          <a:stretch/>
        </p:blipFill>
        <p:spPr>
          <a:xfrm>
            <a:off x="609480" y="114300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281" name="Right Arrow 3"/>
          <p:cNvSpPr/>
          <p:nvPr/>
        </p:nvSpPr>
        <p:spPr>
          <a:xfrm>
            <a:off x="4254480" y="4267080"/>
            <a:ext cx="774720" cy="5335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ight Arrow 5"/>
          <p:cNvSpPr/>
          <p:nvPr/>
        </p:nvSpPr>
        <p:spPr>
          <a:xfrm flipH="1" rot="19302000">
            <a:off x="7555680" y="957240"/>
            <a:ext cx="774720" cy="5335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ojected Profitability and Price Ratio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arbucks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1143000"/>
          <a:ext cx="7620120" cy="4578480"/>
        </p:xfrm>
        <a:graphic>
          <a:graphicData uri="http://schemas.openxmlformats.org/drawingml/2006/table">
            <a:tbl>
              <a:tblPr/>
              <a:tblGrid>
                <a:gridCol w="3657600"/>
                <a:gridCol w="1251000"/>
                <a:gridCol w="1319040"/>
                <a:gridCol w="139248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(High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Forec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(Low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Forec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Gross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55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55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55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Operating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Assets (R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Equity (RO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Earnings per share (E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Book Value per share (BV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4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4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Fiscal Year End Stock Price $19.83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E Ratio: 38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E </a:t>
                      </a: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× EP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2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B Ratio:   4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P/B </a:t>
                      </a: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Arial"/>
                        </a:rPr>
                        <a:t>× EP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22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126"/>
          <p:cNvSpPr/>
          <p:nvPr/>
        </p:nvSpPr>
        <p:spPr>
          <a:xfrm>
            <a:off x="914400" y="5867280"/>
            <a:ext cx="7620120" cy="64260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W, the mean and median 2010 price estimates for SBUX by (highly paid) Wall Street analysts were $22.60 and $24.00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066680" y="26668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1 – Risk and Retu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llar return and percentage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apital gain and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nualize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verage historical return: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rithmetic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geometric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lume’s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llar-weighted average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Risk (return vari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requency distribution and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mall caps and Large caps sto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istorical Returns, Standard Deviations, and Frequency Distributions: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90" name="Picture 5" descr="jor30719_0109"/>
          <p:cNvPicPr/>
          <p:nvPr/>
        </p:nvPicPr>
        <p:blipFill>
          <a:blip r:embed="rId1"/>
          <a:stretch/>
        </p:blipFill>
        <p:spPr>
          <a:xfrm>
            <a:off x="1219320" y="1241280"/>
            <a:ext cx="6705360" cy="515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requency Distribution of Returns on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ommon Stock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92" name="Picture 5" descr="jor30719_0108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066680" y="26668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Statement and Financial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Normal Distribution a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arge Company Stock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94" name="Picture 5" descr="jor30719_0110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5029200" y="1905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robability the return will ends up within 1 standard deviation is 6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5029200" y="309888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robability the return will ends up within 2 standard deviation is 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2 – Risk and Retu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estment Policy Statement (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he investment policy statement (IPS) identifies the objectives (risk and return) of an investor, as well as the constraints the investor faces in achieving thes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he IPS provides an investing “roadmap” and will influence the strategies, type of account, and holdings an investo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rokerag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Margin accounts, initial and maintenance ma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oncept of shor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ombining short sales and margin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3 – Security Typ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as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nterest bearing (money market instruments, bond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quity (common stock and preferred st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Derivatives (future and o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uture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asic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he use of 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Qu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otential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utures Contracts: Online Price Quo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jor30719_0304"/>
          <p:cNvPicPr/>
          <p:nvPr/>
        </p:nvPicPr>
        <p:blipFill>
          <a:blip r:embed="rId2"/>
          <a:stretch/>
        </p:blipFill>
        <p:spPr>
          <a:xfrm>
            <a:off x="609480" y="1916280"/>
            <a:ext cx="815364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7 – Efficient Marke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Market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is efficien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fficient market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conomic forces that lead to efficien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orms of efficien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ew information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mplication on Investment Policy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nformed and insider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Market Anoma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Januar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urn-on-the year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ubble and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11 – Portfolio The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Return and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istorical vs. expected return and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xpected return and risk of single as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xpected return and risk of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is well diversified portfol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ow diversification wor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fficient fro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12 – CAPM and SM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xpected and Unexpecte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ystematic and unsystematic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ystematic risk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Measuring Systematic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asic concepts of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ortfolio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eta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wo method to calculate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CAPM and S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Reward-to-risk rat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dentifying under- and overvalued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ama-French three factor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06 – Common Stock Valu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Dividend Discou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onstant perpetual, two-stage DDM, H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alculating growth (historical and sustainable growth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Residual Incom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ree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ree 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CFF vs. FC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sset Beta and Equity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Relative 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/S ratio, P/E ratio, P/BV ratio, P/CF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scounted Cash Fl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1758600" y="2743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1760400" y="3015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1"/>
          <p:cNvSpPr/>
          <p:nvPr/>
        </p:nvSpPr>
        <p:spPr>
          <a:xfrm>
            <a:off x="1760400" y="32770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2"/>
          <p:cNvSpPr/>
          <p:nvPr/>
        </p:nvSpPr>
        <p:spPr>
          <a:xfrm>
            <a:off x="1761120" y="3548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hape 24"/>
          <p:cNvCxnSpPr>
            <a:endCxn id="313" idx="3"/>
          </p:cNvCxnSpPr>
          <p:nvPr/>
        </p:nvCxnSpPr>
        <p:spPr>
          <a:xfrm rot="5400000">
            <a:off x="2361600" y="2528640"/>
            <a:ext cx="213480" cy="55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TextBox 25"/>
          <p:cNvSpPr/>
          <p:nvPr/>
        </p:nvSpPr>
        <p:spPr>
          <a:xfrm>
            <a:off x="1755360" y="3810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hape 27"/>
          <p:cNvCxnSpPr>
            <a:endCxn id="314" idx="3"/>
          </p:cNvCxnSpPr>
          <p:nvPr/>
        </p:nvCxnSpPr>
        <p:spPr>
          <a:xfrm rot="5400000">
            <a:off x="2608200" y="2283840"/>
            <a:ext cx="483120" cy="131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Shape 30"/>
          <p:cNvCxnSpPr>
            <a:endCxn id="315" idx="3"/>
          </p:cNvCxnSpPr>
          <p:nvPr/>
        </p:nvCxnSpPr>
        <p:spPr>
          <a:xfrm rot="5400000">
            <a:off x="2851200" y="2040480"/>
            <a:ext cx="747000" cy="206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Shape 34"/>
          <p:cNvCxnSpPr>
            <a:endCxn id="316" idx="3"/>
          </p:cNvCxnSpPr>
          <p:nvPr/>
        </p:nvCxnSpPr>
        <p:spPr>
          <a:xfrm rot="5400000">
            <a:off x="3097440" y="1794600"/>
            <a:ext cx="1016640" cy="282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Shape 37"/>
          <p:cNvCxnSpPr>
            <a:endCxn id="318" idx="3"/>
          </p:cNvCxnSpPr>
          <p:nvPr/>
        </p:nvCxnSpPr>
        <p:spPr>
          <a:xfrm rot="5400000">
            <a:off x="3350520" y="1536840"/>
            <a:ext cx="1280160" cy="360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Rounded Rectangle 40"/>
          <p:cNvSpPr/>
          <p:nvPr/>
        </p:nvSpPr>
        <p:spPr>
          <a:xfrm>
            <a:off x="1727280" y="2666880"/>
            <a:ext cx="558720" cy="1600200"/>
          </a:xfrm>
          <a:custGeom>
            <a:avLst/>
            <a:gdLst>
              <a:gd name="textAreaLeft" fmla="*/ 27000 w 558720"/>
              <a:gd name="textAreaRight" fmla="*/ 531720 w 558720"/>
              <a:gd name="textAreaTop" fmla="*/ 27000 h 1600200"/>
              <a:gd name="textAreaBottom" fmla="*/ 1573200 h 1600200"/>
            </a:gdLst>
            <a:ahLst/>
            <a:rect l="textAreaLeft" t="textAreaTop" r="textAreaRight" b="textAreaBottom"/>
            <a:pathLst>
              <a:path w="21600" h="61837">
                <a:moveTo>
                  <a:pt x="3600" y="0"/>
                </a:moveTo>
                <a:arcTo wR="3600" hR="3600" stAng="16200000" swAng="-5400000"/>
                <a:lnTo>
                  <a:pt x="0" y="58237"/>
                </a:lnTo>
                <a:arcTo wR="3600" hR="3600" stAng="10800000" swAng="-5400000"/>
                <a:lnTo>
                  <a:pt x="18000" y="61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1"/>
          <p:cNvSpPr/>
          <p:nvPr/>
        </p:nvSpPr>
        <p:spPr>
          <a:xfrm>
            <a:off x="1006920" y="2963880"/>
            <a:ext cx="6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5"/>
          <p:cNvGrpSpPr/>
          <p:nvPr/>
        </p:nvGrpSpPr>
        <p:grpSpPr>
          <a:xfrm>
            <a:off x="1676520" y="1295280"/>
            <a:ext cx="5486760" cy="1404360"/>
            <a:chOff x="1676520" y="1295280"/>
            <a:chExt cx="5486760" cy="1404360"/>
          </a:xfrm>
        </p:grpSpPr>
        <p:grpSp>
          <p:nvGrpSpPr>
            <p:cNvPr id="326" name="Group 42"/>
            <p:cNvGrpSpPr/>
            <p:nvPr/>
          </p:nvGrpSpPr>
          <p:grpSpPr>
            <a:xfrm>
              <a:off x="1676520" y="1629720"/>
              <a:ext cx="5486760" cy="1069920"/>
              <a:chOff x="1676520" y="1629720"/>
              <a:chExt cx="5486760" cy="1069920"/>
            </a:xfrm>
          </p:grpSpPr>
          <p:cxnSp>
            <p:nvCxnSpPr>
              <p:cNvPr id="327" name="Straight Arrow Connector 3"/>
              <p:cNvCxnSpPr/>
              <p:nvPr/>
            </p:nvCxnSpPr>
            <p:spPr>
              <a:xfrm>
                <a:off x="1676520" y="2362320"/>
                <a:ext cx="548712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28" name="Straight Arrow Connector 5"/>
              <p:cNvCxnSpPr/>
              <p:nvPr/>
            </p:nvCxnSpPr>
            <p:spPr>
              <a:xfrm flipV="1">
                <a:off x="2741760" y="1982520"/>
                <a:ext cx="3600" cy="367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9" name="Straight Arrow Connector 6"/>
              <p:cNvCxnSpPr/>
              <p:nvPr/>
            </p:nvCxnSpPr>
            <p:spPr>
              <a:xfrm flipV="1">
                <a:off x="3503520" y="1812600"/>
                <a:ext cx="2160" cy="550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0" name="Straight Arrow Connector 7"/>
              <p:cNvCxnSpPr/>
              <p:nvPr/>
            </p:nvCxnSpPr>
            <p:spPr>
              <a:xfrm flipV="1">
                <a:off x="4265640" y="1629720"/>
                <a:ext cx="2160" cy="732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1" name="Straight Arrow Connector 8"/>
              <p:cNvCxnSpPr/>
              <p:nvPr/>
            </p:nvCxnSpPr>
            <p:spPr>
              <a:xfrm flipV="1">
                <a:off x="5027760" y="1751760"/>
                <a:ext cx="2160" cy="640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2" name="Straight Arrow Connector 9"/>
              <p:cNvCxnSpPr/>
              <p:nvPr/>
            </p:nvCxnSpPr>
            <p:spPr>
              <a:xfrm flipV="1">
                <a:off x="5789880" y="1802520"/>
                <a:ext cx="2160" cy="548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3" name="TextBox 11"/>
              <p:cNvSpPr/>
              <p:nvPr/>
            </p:nvSpPr>
            <p:spPr>
              <a:xfrm>
                <a:off x="259956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2"/>
              <p:cNvSpPr/>
              <p:nvPr/>
            </p:nvSpPr>
            <p:spPr>
              <a:xfrm>
                <a:off x="336168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13"/>
              <p:cNvSpPr/>
              <p:nvPr/>
            </p:nvSpPr>
            <p:spPr>
              <a:xfrm>
                <a:off x="411120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Box 14"/>
              <p:cNvSpPr/>
              <p:nvPr/>
            </p:nvSpPr>
            <p:spPr>
              <a:xfrm>
                <a:off x="487296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5"/>
              <p:cNvSpPr/>
              <p:nvPr/>
            </p:nvSpPr>
            <p:spPr>
              <a:xfrm>
                <a:off x="564804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17"/>
              <p:cNvSpPr/>
              <p:nvPr/>
            </p:nvSpPr>
            <p:spPr>
              <a:xfrm>
                <a:off x="6328080" y="19051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18"/>
              <p:cNvSpPr/>
              <p:nvPr/>
            </p:nvSpPr>
            <p:spPr>
              <a:xfrm>
                <a:off x="1831320" y="2362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Box 43"/>
            <p:cNvSpPr/>
            <p:nvPr/>
          </p:nvSpPr>
          <p:spPr>
            <a:xfrm>
              <a:off x="2454840" y="1617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44"/>
            <p:cNvSpPr/>
            <p:nvPr/>
          </p:nvSpPr>
          <p:spPr>
            <a:xfrm>
              <a:off x="3229560" y="144756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45"/>
            <p:cNvSpPr/>
            <p:nvPr/>
          </p:nvSpPr>
          <p:spPr>
            <a:xfrm>
              <a:off x="3979080" y="129528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46"/>
            <p:cNvSpPr/>
            <p:nvPr/>
          </p:nvSpPr>
          <p:spPr>
            <a:xfrm>
              <a:off x="4771440" y="143496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47"/>
            <p:cNvSpPr/>
            <p:nvPr/>
          </p:nvSpPr>
          <p:spPr>
            <a:xfrm>
              <a:off x="5533560" y="144756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48"/>
          <p:cNvSpPr/>
          <p:nvPr/>
        </p:nvSpPr>
        <p:spPr>
          <a:xfrm>
            <a:off x="997200" y="45673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9"/>
          <p:cNvSpPr/>
          <p:nvPr/>
        </p:nvSpPr>
        <p:spPr>
          <a:xfrm>
            <a:off x="2172240" y="457200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 =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0"/>
          <p:cNvSpPr/>
          <p:nvPr/>
        </p:nvSpPr>
        <p:spPr>
          <a:xfrm>
            <a:off x="995040" y="5095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1"/>
          <p:cNvSpPr/>
          <p:nvPr/>
        </p:nvSpPr>
        <p:spPr>
          <a:xfrm>
            <a:off x="2177280" y="51004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 = residu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2"/>
          <p:cNvSpPr/>
          <p:nvPr/>
        </p:nvSpPr>
        <p:spPr>
          <a:xfrm>
            <a:off x="995760" y="5629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3"/>
          <p:cNvSpPr/>
          <p:nvPr/>
        </p:nvSpPr>
        <p:spPr>
          <a:xfrm>
            <a:off x="2173320" y="563400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 = FCFF or FC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4"/>
          <p:cNvSpPr/>
          <p:nvPr/>
        </p:nvSpPr>
        <p:spPr>
          <a:xfrm>
            <a:off x="6095880" y="26668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iscounted C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value of an asset is the sum of all future cash flows that can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6"/>
          <p:cNvSpPr/>
          <p:nvPr/>
        </p:nvSpPr>
        <p:spPr>
          <a:xfrm>
            <a:off x="6095880" y="4540320"/>
            <a:ext cx="274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What is Residual Inco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difference between actual earnings and required ear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ka  economic value added (E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lative Valu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53352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lative valuation method assumes that the price ratio will be constant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xample: P/E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990720" y="2743200"/>
                <a:ext cx="371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esterda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esterda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da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da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t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tur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5105520" y="2743200"/>
                <a:ext cx="2171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189400" y="3670200"/>
                <a:ext cx="19735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/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5181480" y="4676760"/>
                <a:ext cx="2357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/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EP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TextBox 8"/>
          <p:cNvSpPr/>
          <p:nvPr/>
        </p:nvSpPr>
        <p:spPr>
          <a:xfrm>
            <a:off x="1003680" y="4086360"/>
            <a:ext cx="32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= expecte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= curren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PS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= expected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PS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= current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1001880" y="569268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P/E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can be selected from histo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ree Important Financial Stateme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Balance Shee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ovides a snapshot view of a company’s assets and liabil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Balance Sheet is as of a particular dat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Income Statem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ovides a summary of a firm’s revenues and expens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Income Statement is over a specific accounting period, usually a quarter or a year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Cash Flow Statem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s an analysis of the sources and uses of cash by the firm over an accounting period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ummarizes operating, investing, and financing cash flow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ofitability Ratio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0" name="Picture 7" descr="jor82353_tb1703"/>
          <p:cNvPicPr/>
          <p:nvPr/>
        </p:nvPicPr>
        <p:blipFill>
          <a:blip r:embed="rId1"/>
          <a:srcRect l="25290" t="10023" r="51983" b="0"/>
          <a:stretch/>
        </p:blipFill>
        <p:spPr>
          <a:xfrm>
            <a:off x="609480" y="1170000"/>
            <a:ext cx="1625760" cy="2706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jor82353_tb1703"/>
          <p:cNvPicPr/>
          <p:nvPr/>
        </p:nvPicPr>
        <p:blipFill>
          <a:blip r:embed="rId2"/>
          <a:srcRect l="88509" t="10023" r="0" b="0"/>
          <a:stretch/>
        </p:blipFill>
        <p:spPr>
          <a:xfrm>
            <a:off x="2303640" y="1176480"/>
            <a:ext cx="820440" cy="270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3289320" y="2827440"/>
                <a:ext cx="2116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oss Margi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oss Profi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t S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3306600" y="3540240"/>
                <a:ext cx="28292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Margi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erating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t S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3276720" y="4343400"/>
                <a:ext cx="2971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turn on Asset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Net Income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sse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3276720" y="5181480"/>
                <a:ext cx="3416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turn on Equity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Stockholder Equit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Picture 7" descr="jor82353_tb1702"/>
          <p:cNvPicPr/>
          <p:nvPr/>
        </p:nvPicPr>
        <p:blipFill>
          <a:blip r:embed="rId3"/>
          <a:srcRect l="25290" t="0" r="0" b="0"/>
          <a:stretch/>
        </p:blipFill>
        <p:spPr>
          <a:xfrm>
            <a:off x="3276720" y="1143000"/>
            <a:ext cx="5340240" cy="13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5486400" y="2819520"/>
                <a:ext cx="1565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,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,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6400800" y="3532320"/>
                <a:ext cx="1459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,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6372360" y="4348080"/>
                <a:ext cx="1476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3,600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8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6781680" y="5191200"/>
                <a:ext cx="1389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 Ratio Input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2" name="Picture 7" descr="jor82353_tb1703"/>
          <p:cNvPicPr/>
          <p:nvPr/>
        </p:nvPicPr>
        <p:blipFill>
          <a:blip r:embed="rId1"/>
          <a:srcRect l="25290" t="10023" r="51983" b="0"/>
          <a:stretch/>
        </p:blipFill>
        <p:spPr>
          <a:xfrm>
            <a:off x="609480" y="1170000"/>
            <a:ext cx="1752840" cy="3173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jor82353_tb1703"/>
          <p:cNvPicPr/>
          <p:nvPr/>
        </p:nvPicPr>
        <p:blipFill>
          <a:blip r:embed="rId2"/>
          <a:srcRect l="88509" t="10023" r="0" b="0"/>
          <a:stretch/>
        </p:blipFill>
        <p:spPr>
          <a:xfrm>
            <a:off x="2400480" y="1176480"/>
            <a:ext cx="973080" cy="316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jor82353_tb1702"/>
          <p:cNvPicPr/>
          <p:nvPr/>
        </p:nvPicPr>
        <p:blipFill>
          <a:blip r:embed="rId3"/>
          <a:srcRect l="25290" t="0" r="0" b="0"/>
          <a:stretch/>
        </p:blipFill>
        <p:spPr>
          <a:xfrm>
            <a:off x="3473280" y="1143000"/>
            <a:ext cx="53406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jor82353_tb1704"/>
          <p:cNvPicPr/>
          <p:nvPr/>
        </p:nvPicPr>
        <p:blipFill>
          <a:blip r:embed="rId4"/>
          <a:srcRect l="25290" t="0" r="0" b="0"/>
          <a:stretch/>
        </p:blipFill>
        <p:spPr>
          <a:xfrm>
            <a:off x="3452760" y="2590920"/>
            <a:ext cx="5354640" cy="17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685800" y="5181480"/>
                <a:ext cx="3648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nings per Shar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P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hares Outstandin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1"/>
              <p:cNvSpPr txBox="1"/>
              <p:nvPr/>
            </p:nvSpPr>
            <p:spPr>
              <a:xfrm>
                <a:off x="698400" y="4587840"/>
                <a:ext cx="4025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ok Value per Shar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VP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ockholder Equit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hares Outstandin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685800" y="5934240"/>
                <a:ext cx="404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h Flow per Shar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P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erating Cash F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hares Outstandin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4"/>
              <p:cNvSpPr txBox="1"/>
              <p:nvPr/>
            </p:nvSpPr>
            <p:spPr>
              <a:xfrm>
                <a:off x="4906800" y="4594320"/>
                <a:ext cx="1494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,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943520" y="5191200"/>
                <a:ext cx="130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4944960" y="5940360"/>
                <a:ext cx="1303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,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 Ratio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Picture 7" descr="jor82353_tb1703"/>
          <p:cNvPicPr/>
          <p:nvPr/>
        </p:nvPicPr>
        <p:blipFill>
          <a:blip r:embed="rId1"/>
          <a:srcRect l="25290" t="10023" r="51983" b="0"/>
          <a:stretch/>
        </p:blipFill>
        <p:spPr>
          <a:xfrm>
            <a:off x="609480" y="1170000"/>
            <a:ext cx="1752840" cy="317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jor82353_tb1703"/>
          <p:cNvPicPr/>
          <p:nvPr/>
        </p:nvPicPr>
        <p:blipFill>
          <a:blip r:embed="rId2"/>
          <a:srcRect l="88509" t="10023" r="0" b="0"/>
          <a:stretch/>
        </p:blipFill>
        <p:spPr>
          <a:xfrm>
            <a:off x="2400480" y="1176480"/>
            <a:ext cx="973080" cy="31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jor82353_tb1702"/>
          <p:cNvPicPr/>
          <p:nvPr/>
        </p:nvPicPr>
        <p:blipFill>
          <a:blip r:embed="rId3"/>
          <a:srcRect l="25290" t="0" r="0" b="0"/>
          <a:stretch/>
        </p:blipFill>
        <p:spPr>
          <a:xfrm>
            <a:off x="3473280" y="1143000"/>
            <a:ext cx="5340600" cy="1380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jor82353_tb1704"/>
          <p:cNvPicPr/>
          <p:nvPr/>
        </p:nvPicPr>
        <p:blipFill>
          <a:blip r:embed="rId4"/>
          <a:srcRect l="25290" t="0" r="0" b="0"/>
          <a:stretch/>
        </p:blipFill>
        <p:spPr>
          <a:xfrm>
            <a:off x="3452760" y="2590920"/>
            <a:ext cx="5354640" cy="17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662040" y="4495680"/>
                <a:ext cx="2004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,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696960" y="5181480"/>
                <a:ext cx="1665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685800" y="5943600"/>
                <a:ext cx="1774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F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,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3505320" y="5913360"/>
                <a:ext cx="380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 to Cash Flow Rat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/C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ock Pri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FP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3519360" y="4495680"/>
                <a:ext cx="326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 to Book Rat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/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ock Pri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VP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3517920" y="5178600"/>
                <a:ext cx="3343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 Earnings Rat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/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ock Pri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066680" y="26668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Pro Forma Financial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 Forma Financial State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33520" y="1295280"/>
            <a:ext cx="8305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atement prepared using certain assumptions about future income, cash flow, and other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ercentage of sale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financial planning method in which some accounts vary directly (spontaneous) with predicted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accounts do not vary directly with sales, e.g.: fixed assets, short- and long-term liabilities, shareholder equity, depreciation, interest expense, retained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Jimmy</cp:lastModifiedBy>
  <dcterms:modified xsi:type="dcterms:W3CDTF">2013-10-15T17:07:57Z</dcterms:modified>
  <cp:revision>224</cp:revision>
  <dc:subject/>
  <dc:title>Slide 1</dc:title>
</cp:coreProperties>
</file>