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2184-B45B-42FD-BC7D-F2F0377F9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229F-4C58-4DD9-9F77-5C354448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DBB-B06A-40DF-842E-14E8C3CC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B9F9-B196-4416-9ECD-D2626FAF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30E1-6B79-4C6B-9D65-2D5673B3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D6E-65D0-4AF6-B625-08351AC09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95D5-4A37-4146-9500-E9D6B237D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07A5-D57A-4E1F-8E61-6DB4529D8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18D-774D-4B2E-849B-D93FEB07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0F2B-6F2A-416E-8EA9-96556F2A2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95DC-9B36-47F2-AFB9-814F9CE9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67D-FEF5-4A52-959C-23A8C825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7DB4-49EF-43F4-9D5C-573ED791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743-4FC4-4D5D-AAC1-A9AE64DF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5D5-3124-4996-A55D-4AEC71E7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EE5A-B3FE-4CAA-A018-ABF154F2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0C1A-4EAD-41D2-87E0-9E1ABB8D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DDAA-E813-475F-8540-D755241F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0AC-27AC-420D-8611-4490B5D0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31FE-2BA8-4EEB-BFC6-7B5240BE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A70-4876-4329-B1CB-B36AACE7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B5F9-49CD-404A-A97E-EBBD1B351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0094-A447-45FA-A87C-35DCBDE4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908-5436-46FE-A47F-207B54D0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D67-CDFB-4045-87BE-38D04DBC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DCC1-3CD3-47B3-A819-5D7447FC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82C8-21B6-4786-BF02-4B02851E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E31-CD50-4DCA-BB26-018996F1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9D9B-E78B-40F7-BA65-91C53890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B1D-E088-42F5-8AEC-1E0F5D0E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ECD7-FE43-445C-BCA1-2B0952BB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13B-C83C-45F2-91EB-8D166021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5410-D9E4-4E4B-88CD-3E7B1109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90AB-AB68-441B-B489-B456607E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A94E-10B2-4456-B47D-EE8F5430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00E-EC3B-42D4-98D3-EDAE96F2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A4F3-DA7F-473A-822E-51E56F09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E3F3-E60C-42E1-91EB-1AF567EB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B93-B319-4494-A723-DCCBD6CB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7FB-E1EE-4DB4-837B-83ABD46C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8A1-93E2-4481-97D2-A1C671F6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DADA-77C2-45E5-8265-1A287D1E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42244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prstGeom prst="pie">
            <a:avLst/>
          </a:pr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prstGeom prst="pie">
            <a:avLst/>
          </a:pr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prstGeom prst="pie">
            <a:avLst/>
          </a:pr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prstGeom prst="pie">
            <a:avLst/>
          </a:pr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prstGeom prst="pie">
            <a:avLst/>
          </a:pr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-</a:t>
            </a:r>
            <a:fld id="{F6937995-EC55-4EE3-8D23-DD7C29818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0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ond Characteristics, I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s bond is maturing, the market price is going to its face valu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Picture 7" descr="jor82353_f1001"/>
          <p:cNvPicPr/>
          <p:nvPr/>
        </p:nvPicPr>
        <p:blipFill>
          <a:blip r:embed="rId1"/>
          <a:stretch/>
        </p:blipFill>
        <p:spPr>
          <a:xfrm>
            <a:off x="985680" y="2451240"/>
            <a:ext cx="72439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ond Characteristics, II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en bond is sol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t face value (par bond)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YTM = coupon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bove face value (premium bond)</a:t>
            </a:r>
            <a:r>
              <a:rPr b="0" lang="en-US" sz="22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YTM &lt; coupon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below face value (discount bond) </a:t>
            </a:r>
            <a:r>
              <a:rPr b="0" lang="en-US" sz="22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YTM &gt; coupon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lationship among yield measures: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For par value bon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coupon rate = current yield = YTM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or premium bon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 coupon rate &gt; current yield &gt; YTM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For discount bon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 coupon rate &lt; current yield &lt; YTM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Bond Pric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1" name="Picture 5" descr="jor30719_cut10a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YTM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3" name="Picture 5" descr="jor30719_cut10d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uying Bond Between Coupon D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we buy a bond between coupon dates, you will receive the next coupon paymen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owever, you must compensate the seller for any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ccrued interest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standard convention </a:t>
            </a:r>
            <a:r>
              <a:rPr b="0" lang="en-US" sz="24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ond price is quoted to ignore accrued interest 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his results in what is commonly called a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lean price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(i.e., a quoted price net of accrued interest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ometimes, this price is also known as a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flat pric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ctually the buyer pay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dirty pric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his is because accrued interest is added to the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lean pric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ote:  The price the buyer actually pays is sometimes known as the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full price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nvoice price.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ean and Dirty Pric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1752480" y="1523880"/>
            <a:ext cx="6019920" cy="1437840"/>
            <a:chOff x="1752480" y="1523880"/>
            <a:chExt cx="6019920" cy="1437840"/>
          </a:xfrm>
        </p:grpSpPr>
        <p:grpSp>
          <p:nvGrpSpPr>
            <p:cNvPr id="178" name="Group 12"/>
            <p:cNvGrpSpPr/>
            <p:nvPr/>
          </p:nvGrpSpPr>
          <p:grpSpPr>
            <a:xfrm>
              <a:off x="1752480" y="1523880"/>
              <a:ext cx="6019920" cy="1437840"/>
              <a:chOff x="1752480" y="1523880"/>
              <a:chExt cx="6019920" cy="1437840"/>
            </a:xfrm>
          </p:grpSpPr>
          <p:cxnSp>
            <p:nvCxnSpPr>
              <p:cNvPr id="179" name="Straight Arrow Connector 4"/>
              <p:cNvCxnSpPr/>
              <p:nvPr/>
            </p:nvCxnSpPr>
            <p:spPr>
              <a:xfrm>
                <a:off x="1828080" y="2286000"/>
                <a:ext cx="594468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80" name="Straight Connector 6"/>
              <p:cNvSpPr/>
              <p:nvPr/>
            </p:nvSpPr>
            <p:spPr>
              <a:xfrm>
                <a:off x="2285640" y="21333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Straight Connector 7"/>
              <p:cNvSpPr/>
              <p:nvPr/>
            </p:nvSpPr>
            <p:spPr>
              <a:xfrm>
                <a:off x="6858000" y="21463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"/>
              <p:cNvSpPr/>
              <p:nvPr/>
            </p:nvSpPr>
            <p:spPr>
              <a:xfrm>
                <a:off x="1752480" y="15238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upon date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9"/>
              <p:cNvSpPr/>
              <p:nvPr/>
            </p:nvSpPr>
            <p:spPr>
              <a:xfrm>
                <a:off x="6324840" y="15238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upon date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Box 10"/>
              <p:cNvSpPr/>
              <p:nvPr/>
            </p:nvSpPr>
            <p:spPr>
              <a:xfrm>
                <a:off x="1948320" y="250200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11"/>
              <p:cNvSpPr/>
              <p:nvPr/>
            </p:nvSpPr>
            <p:spPr>
              <a:xfrm>
                <a:off x="6519960" y="250200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Straight Arrow Connector 15"/>
            <p:cNvCxnSpPr>
              <a:stCxn id="182" idx="3"/>
              <a:endCxn id="183" idx="1"/>
            </p:cNvCxnSpPr>
            <p:nvPr/>
          </p:nvCxnSpPr>
          <p:spPr>
            <a:xfrm>
              <a:off x="2818800" y="1847520"/>
              <a:ext cx="350604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87" name="TextBox 16"/>
            <p:cNvSpPr/>
            <p:nvPr/>
          </p:nvSpPr>
          <p:spPr>
            <a:xfrm>
              <a:off x="4038480" y="1650600"/>
              <a:ext cx="114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Straight Connector 18"/>
          <p:cNvSpPr/>
          <p:nvPr/>
        </p:nvSpPr>
        <p:spPr>
          <a:xfrm>
            <a:off x="4000680" y="2116080"/>
            <a:ext cx="0" cy="109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3733920" y="3240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buy at thi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2286000" y="2895480"/>
            <a:ext cx="1737000" cy="337320"/>
            <a:chOff x="2286000" y="2895480"/>
            <a:chExt cx="1737000" cy="337320"/>
          </a:xfrm>
        </p:grpSpPr>
        <p:cxnSp>
          <p:nvCxnSpPr>
            <p:cNvPr id="191" name="Straight Arrow Connector 20"/>
            <p:cNvCxnSpPr/>
            <p:nvPr/>
          </p:nvCxnSpPr>
          <p:spPr>
            <a:xfrm>
              <a:off x="2286000" y="3071880"/>
              <a:ext cx="173736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TextBox 21"/>
            <p:cNvSpPr/>
            <p:nvPr/>
          </p:nvSpPr>
          <p:spPr>
            <a:xfrm>
              <a:off x="2590560" y="2895480"/>
              <a:ext cx="1142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 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3"/>
          <p:cNvSpPr/>
          <p:nvPr/>
        </p:nvSpPr>
        <p:spPr>
          <a:xfrm>
            <a:off x="533520" y="4114800"/>
            <a:ext cx="8305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en we want to buy, the bond price quotation is $1,040 (this is a clean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ctually we have to pay a dirty price 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219320" y="5486400"/>
                <a:ext cx="46227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rty Pric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1,04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1,0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1250280" y="2590920"/>
            <a:ext cx="593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and Interest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price is influenced by interest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en interest rate fall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ond is a more valuable investment than time deposit or saving from bond holders perspective </a:t>
            </a:r>
            <a:r>
              <a:rPr b="0" lang="en-US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bond holders will buy bonds </a:t>
            </a:r>
            <a:r>
              <a:rPr b="0" lang="en-US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bond price increas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ome bond holders sell the bond to gain retur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rom bond issuer perspective, however, bond creates more cost of debt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t motivates bond issuer to call its bond from the market (and might replace with another with lower coupon rate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influences both bond holders and bond issuers’ behavior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lable Bon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us far, we have calculated bond prices assuming that the actual bond maturity is the original stated maturit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most bonds ar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lable bonds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lable bon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ives the issuer the option to buy back the bond at a specified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call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ytim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initial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call protection period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callable bonds, YTM may not be useful. Instead, we concern more on YTC (yield-to-call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ield to Cal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Yield to call (YTC)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a yield measure that assumes a bond will be called at its earliest possible call d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to price a callable bond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 = th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nnua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upon (in $), CP = the call price of the bond, T = the time (in years) to the earliest possible call date, and YTC = the yield to call, with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 with straight bonds, we can solve for the YTC, if we know the price of a callable bo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76520" y="2971800"/>
                <a:ext cx="57909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llable Bond Pric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C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T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YTC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hapter, you will learn:</a:t>
            </a:r>
            <a:br>
              <a:rPr sz="2800"/>
            </a:b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863640" indent="-380880">
              <a:spcBef>
                <a:spcPts val="601"/>
              </a:spcBef>
              <a:buClr>
                <a:srgbClr val="2b2c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 to calculate bond prices and yiel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863640" indent="-380880">
              <a:spcBef>
                <a:spcPts val="601"/>
              </a:spcBef>
              <a:buClr>
                <a:srgbClr val="2b2c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importance of yield to maturity (YTM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863640" indent="-380880">
              <a:spcBef>
                <a:spcPts val="601"/>
              </a:spcBef>
              <a:buClr>
                <a:srgbClr val="2b2c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risk and Malkiel’s theorem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863640" indent="-380880">
              <a:spcBef>
                <a:spcPts val="601"/>
              </a:spcBef>
              <a:buClr>
                <a:srgbClr val="2b2c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 to measure the impact of interest rate changes on bond pric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8.5% coupon bond maturing in 15 years is callable at 105 in 5 years. If the price is 100, which is bigger, the YTM or YTC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ond is sold at par </a:t>
            </a:r>
            <a:r>
              <a:rPr b="0" lang="en-US" sz="24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TM = coupon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allable price at premium price </a:t>
            </a:r>
            <a:r>
              <a:rPr b="0" lang="en-US" sz="24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TC &gt; coupon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TC &gt; YTM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 rate ris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possibility that changes in interest rates will result in losses in the bond’s valu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holders fac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 rat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yield actually earned or “realized” on a bond is called th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realized yiel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alized yield is almost never exactly equal to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yield to maturity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romised yield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us, bond holders want to know how sensitive is bond price to interest rate chang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ond price vs. maturity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alkiel’s Theorems (maturity, coupon, YTM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 and Matur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8" name="Picture 7" descr="jor82353_f1002"/>
          <p:cNvPicPr/>
          <p:nvPr/>
        </p:nvPicPr>
        <p:blipFill>
          <a:blip r:embed="rId1"/>
          <a:stretch/>
        </p:blipFill>
        <p:spPr>
          <a:xfrm>
            <a:off x="905040" y="2438280"/>
            <a:ext cx="778176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4648320" y="335268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 bond maturity, the more sensitive bond price to interest r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295280"/>
            <a:ext cx="83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onds are more sensitive to interest rate changes tha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4648320" y="25909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bonds have same coupons but have different mat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0"/>
          <p:cNvGrpSpPr/>
          <p:nvPr/>
        </p:nvGrpSpPr>
        <p:grpSpPr>
          <a:xfrm>
            <a:off x="609480" y="1177920"/>
            <a:ext cx="6220080" cy="1717560"/>
            <a:chOff x="609480" y="1177920"/>
            <a:chExt cx="6220080" cy="1717560"/>
          </a:xfrm>
        </p:grpSpPr>
        <p:pic>
          <p:nvPicPr>
            <p:cNvPr id="213" name="Picture 12" descr="jor82353_tb1001"/>
            <p:cNvPicPr/>
            <p:nvPr/>
          </p:nvPicPr>
          <p:blipFill>
            <a:blip r:embed="rId1"/>
            <a:srcRect l="25290" t="0" r="0" b="41206"/>
            <a:stretch/>
          </p:blipFill>
          <p:spPr>
            <a:xfrm>
              <a:off x="609480" y="1177920"/>
              <a:ext cx="62200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7"/>
            <p:cNvSpPr/>
            <p:nvPr/>
          </p:nvSpPr>
          <p:spPr>
            <a:xfrm>
              <a:off x="1083960" y="181296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YT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lkiel’s Theorem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3352680"/>
            <a:ext cx="8305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kiel’s Theor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rices and bond yields move in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hange in YTM, the longer bond maturity, the greater the bond’s pric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hange in YTM, the longer bond maturity, the size of the change in the bond’s price increases at a diminish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5"/>
          <p:cNvSpPr/>
          <p:nvPr/>
        </p:nvSpPr>
        <p:spPr>
          <a:xfrm>
            <a:off x="609480" y="2044800"/>
            <a:ext cx="276876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6"/>
          <p:cNvSpPr/>
          <p:nvPr/>
        </p:nvSpPr>
        <p:spPr>
          <a:xfrm>
            <a:off x="2540160" y="2616120"/>
            <a:ext cx="4317840" cy="27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2885040" y="2624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4591800" y="2616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6344280" y="2629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8"/>
          <p:cNvGrpSpPr/>
          <p:nvPr/>
        </p:nvGrpSpPr>
        <p:grpSpPr>
          <a:xfrm>
            <a:off x="3045240" y="2869920"/>
            <a:ext cx="1653120" cy="432000"/>
            <a:chOff x="3045240" y="2869920"/>
            <a:chExt cx="1653120" cy="432000"/>
          </a:xfrm>
        </p:grpSpPr>
        <p:cxnSp>
          <p:nvCxnSpPr>
            <p:cNvPr id="223" name="Curved Connector 12"/>
            <p:cNvCxnSpPr>
              <a:stCxn id="219" idx="2"/>
              <a:endCxn id="218" idx="2"/>
            </p:cNvCxnSpPr>
            <p:nvPr/>
          </p:nvCxnSpPr>
          <p:spPr>
            <a:xfrm flipH="1" rot="16200000">
              <a:off x="3861720" y="2053440"/>
              <a:ext cx="20880" cy="1653480"/>
            </a:xfrm>
            <a:prstGeom prst="curvedConnector5">
              <a:avLst>
                <a:gd name="adj1" fmla="val 1245614"/>
                <a:gd name="adj2" fmla="val 50000"/>
                <a:gd name="adj3" fmla="val 124561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TextBox 13"/>
            <p:cNvSpPr/>
            <p:nvPr/>
          </p:nvSpPr>
          <p:spPr>
            <a:xfrm>
              <a:off x="3548160" y="2933640"/>
              <a:ext cx="63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9"/>
          <p:cNvGrpSpPr/>
          <p:nvPr/>
        </p:nvGrpSpPr>
        <p:grpSpPr>
          <a:xfrm>
            <a:off x="4699080" y="2874600"/>
            <a:ext cx="1805400" cy="414360"/>
            <a:chOff x="4699080" y="2874600"/>
            <a:chExt cx="1805400" cy="414360"/>
          </a:xfrm>
        </p:grpSpPr>
        <p:cxnSp>
          <p:nvCxnSpPr>
            <p:cNvPr id="226" name="Curved Connector 14"/>
            <p:cNvCxnSpPr>
              <a:stCxn id="218" idx="2"/>
              <a:endCxn id="221" idx="2"/>
            </p:cNvCxnSpPr>
            <p:nvPr/>
          </p:nvCxnSpPr>
          <p:spPr>
            <a:xfrm flipH="1" flipV="1" rot="5400000">
              <a:off x="5593320" y="1980000"/>
              <a:ext cx="16560" cy="1805760"/>
            </a:xfrm>
            <a:prstGeom prst="curvedConnector5">
              <a:avLst>
                <a:gd name="adj1" fmla="val -1484444"/>
                <a:gd name="adj2" fmla="val 49990"/>
                <a:gd name="adj3" fmla="val -148444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7" name="TextBox 17"/>
            <p:cNvSpPr/>
            <p:nvPr/>
          </p:nvSpPr>
          <p:spPr>
            <a:xfrm>
              <a:off x="5365440" y="2920680"/>
              <a:ext cx="63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lkiel’s Theorem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09480" y="3505320"/>
            <a:ext cx="8305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kiel’s Theorem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hange in YTM, the higher bond coupon rate, the smaller percentage changes in bond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absolute change YTM, the magnitude of the price increase caused by a decrease in YTM is greater than the price decrease caused by an increase in Y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jor82353_tb1002"/>
          <p:cNvPicPr/>
          <p:nvPr/>
        </p:nvPicPr>
        <p:blipFill>
          <a:blip r:embed="rId1"/>
          <a:srcRect l="25290" t="0" r="0" b="0"/>
          <a:stretch/>
        </p:blipFill>
        <p:spPr>
          <a:xfrm>
            <a:off x="685800" y="1219320"/>
            <a:ext cx="6477120" cy="19810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8"/>
          <p:cNvSpPr/>
          <p:nvPr/>
        </p:nvSpPr>
        <p:spPr>
          <a:xfrm>
            <a:off x="6760080" y="254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6747480" y="28623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Curved Connector 21"/>
          <p:cNvCxnSpPr>
            <a:stCxn id="231" idx="3"/>
            <a:endCxn id="232" idx="3"/>
          </p:cNvCxnSpPr>
          <p:nvPr/>
        </p:nvCxnSpPr>
        <p:spPr>
          <a:xfrm flipH="1">
            <a:off x="7100280" y="2719440"/>
            <a:ext cx="13320" cy="311760"/>
          </a:xfrm>
          <a:prstGeom prst="curvedConnector5">
            <a:avLst>
              <a:gd name="adj1" fmla="val -1800000"/>
              <a:gd name="adj2" fmla="val 49942"/>
              <a:gd name="adj3" fmla="val -18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4" name="TextBox 22"/>
          <p:cNvSpPr/>
          <p:nvPr/>
        </p:nvSpPr>
        <p:spPr>
          <a:xfrm>
            <a:off x="7321320" y="2666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6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4777920" y="25527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4765320" y="2865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Curved Connector 25"/>
          <p:cNvCxnSpPr>
            <a:stCxn id="235" idx="3"/>
            <a:endCxn id="236" idx="3"/>
          </p:cNvCxnSpPr>
          <p:nvPr/>
        </p:nvCxnSpPr>
        <p:spPr>
          <a:xfrm flipH="1">
            <a:off x="5119200" y="2722680"/>
            <a:ext cx="13680" cy="311760"/>
          </a:xfrm>
          <a:prstGeom prst="curvedConnector5">
            <a:avLst>
              <a:gd name="adj1" fmla="val -1800000"/>
              <a:gd name="adj2" fmla="val 49942"/>
              <a:gd name="adj3" fmla="val -18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8" name="TextBox 26"/>
          <p:cNvSpPr/>
          <p:nvPr/>
        </p:nvSpPr>
        <p:spPr>
          <a:xfrm>
            <a:off x="5338800" y="267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7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28"/>
          <p:cNvCxnSpPr/>
          <p:nvPr/>
        </p:nvCxnSpPr>
        <p:spPr>
          <a:xfrm flipV="1">
            <a:off x="1292760" y="2325240"/>
            <a:ext cx="3960" cy="365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Straight Arrow Connector 29"/>
          <p:cNvCxnSpPr/>
          <p:nvPr/>
        </p:nvCxnSpPr>
        <p:spPr>
          <a:xfrm>
            <a:off x="1294200" y="2771280"/>
            <a:ext cx="252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TextBox 30"/>
          <p:cNvSpPr/>
          <p:nvPr/>
        </p:nvSpPr>
        <p:spPr>
          <a:xfrm>
            <a:off x="1319040" y="2297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31"/>
          <p:cNvCxnSpPr/>
          <p:nvPr/>
        </p:nvCxnSpPr>
        <p:spPr>
          <a:xfrm flipV="1">
            <a:off x="3250080" y="2339640"/>
            <a:ext cx="252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TextBox 32"/>
          <p:cNvSpPr/>
          <p:nvPr/>
        </p:nvSpPr>
        <p:spPr>
          <a:xfrm>
            <a:off x="3270960" y="23353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$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33"/>
          <p:cNvCxnSpPr/>
          <p:nvPr/>
        </p:nvCxnSpPr>
        <p:spPr>
          <a:xfrm>
            <a:off x="3250080" y="2781360"/>
            <a:ext cx="2520" cy="365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5" name="TextBox 34"/>
          <p:cNvSpPr/>
          <p:nvPr/>
        </p:nvSpPr>
        <p:spPr>
          <a:xfrm>
            <a:off x="3275280" y="2754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1330560" y="27288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6"/>
          <p:cNvSpPr/>
          <p:nvPr/>
        </p:nvSpPr>
        <p:spPr>
          <a:xfrm>
            <a:off x="6758280" y="22734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7"/>
          <p:cNvSpPr/>
          <p:nvPr/>
        </p:nvSpPr>
        <p:spPr>
          <a:xfrm>
            <a:off x="4764600" y="22478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Curved Connector 38"/>
          <p:cNvCxnSpPr>
            <a:stCxn id="231" idx="3"/>
            <a:endCxn id="247" idx="3"/>
          </p:cNvCxnSpPr>
          <p:nvPr/>
        </p:nvCxnSpPr>
        <p:spPr>
          <a:xfrm flipH="1" flipV="1">
            <a:off x="7111800" y="2442600"/>
            <a:ext cx="2160" cy="276840"/>
          </a:xfrm>
          <a:prstGeom prst="curvedConnector5">
            <a:avLst>
              <a:gd name="adj1" fmla="val -10420000"/>
              <a:gd name="adj2" fmla="val 50000"/>
              <a:gd name="adj3" fmla="val -1042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41"/>
          <p:cNvSpPr/>
          <p:nvPr/>
        </p:nvSpPr>
        <p:spPr>
          <a:xfrm>
            <a:off x="7320600" y="2347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2"/>
          <p:cNvSpPr/>
          <p:nvPr/>
        </p:nvSpPr>
        <p:spPr>
          <a:xfrm>
            <a:off x="4766040" y="22478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Curved Connector 43"/>
          <p:cNvCxnSpPr>
            <a:stCxn id="235" idx="3"/>
            <a:endCxn id="251" idx="3"/>
          </p:cNvCxnSpPr>
          <p:nvPr/>
        </p:nvCxnSpPr>
        <p:spPr>
          <a:xfrm flipH="1" flipV="1">
            <a:off x="5119200" y="2417040"/>
            <a:ext cx="13680" cy="305640"/>
          </a:xfrm>
          <a:prstGeom prst="curvedConnector5">
            <a:avLst>
              <a:gd name="adj1" fmla="val -1991891"/>
              <a:gd name="adj2" fmla="val 50000"/>
              <a:gd name="adj3" fmla="val -199189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TextBox 46"/>
          <p:cNvSpPr/>
          <p:nvPr/>
        </p:nvSpPr>
        <p:spPr>
          <a:xfrm>
            <a:off x="5339160" y="2362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uration is the concept to measure bond price sensitivity. Its advantage, among other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is able to compare price sensitivity across bonds with different coupon and maturiti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ased on YTM, this concept is able to estimate the percentage of price change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caulay Duration, or Dur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Two bonds with the same duration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, but not necessarily the same maturity,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will have approximately the same price sensitivity to a (small) change in bond yiel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830240" y="4038480"/>
                <a:ext cx="5561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%Δ</m:t>
                    </m:r>
                    <m:r>
                      <m:rPr>
                        <m:lit/>
                        <m:nor/>
                      </m:rPr>
                      <m:t xml:space="preserve"> in Bond Price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ration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 in YTM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YT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xample:  Suppose a bond has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caulay 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of 11 years and a current yield to maturity of 8%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yield to maturity increases to 8.50%, what is the resulting percentage change in the price of the bon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1892160" y="4038480"/>
                <a:ext cx="5423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Δ in Bond Price 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-11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%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%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%/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ified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analysts prefer to use a variation of Macaulay’s Duration, known a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dified 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lationship between percentage changes in bond prices and changes in bond yields is approximately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2057400" y="2286000"/>
                <a:ext cx="4540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ifi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ration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caula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ratio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YT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1241280" y="5192640"/>
                <a:ext cx="7064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%Δ</m:t>
                    </m:r>
                    <m:r>
                      <m:rPr>
                        <m:lit/>
                        <m:nor/>
                      </m:rPr>
                      <m:t xml:space="preserve"> in Bond Price 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-Modified Duration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hange in YT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caulay’s Duration values are stated in years and are often described as a bond’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ffective matur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a coupon bond,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duration = a weighted average of individual maturities of all the bond’s separate cash flows, where the weights are proportionate to the present values of each cash fl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a zero-coupon bond,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duration = matur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xample: A $1,000 par value bond offers coupon of $100 paid semiannually that matures in three years. If we buy the bond since the beginning, what is the Macaulay’s duratio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Bond price = $1,000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upon rate = $100 / $1,000 = 10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YTM = coupon rate = 10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3274920"/>
          <a:ext cx="1981080" cy="2346480"/>
        </p:xfrm>
        <a:graphic>
          <a:graphicData uri="http://schemas.openxmlformats.org/drawingml/2006/table">
            <a:tbl>
              <a:tblPr/>
              <a:tblGrid>
                <a:gridCol w="636480"/>
                <a:gridCol w="1344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486400" y="3274920"/>
          <a:ext cx="1905120" cy="234648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x PV /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7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50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6"/>
          <p:cNvSpPr/>
          <p:nvPr/>
        </p:nvSpPr>
        <p:spPr>
          <a:xfrm>
            <a:off x="3181320" y="56498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730480" y="56498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64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971800" y="3276720"/>
          <a:ext cx="1295280" cy="23461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6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3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7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.5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495680" y="3276720"/>
          <a:ext cx="914400" cy="23461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understand the relationship between bond prices an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ddition, we will examine some fundamental tools that fixed-income portfolio managers use when they assess bond risk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caulay’s Duration Formula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General Formula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bond is sold at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 =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nn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upon rate, M = the bond maturity (in years), and YTM is the yield to maturity, assuming semiannual coupo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676520" y="2187720"/>
                <a:ext cx="5395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rat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TM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M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600200" y="3962520"/>
                <a:ext cx="54658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ar Value Bond Durat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Duration Using Exc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use th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unctions in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calculat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Macaulay 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ified Duratio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Excel functions use arguments like we saw b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(“Today”,“Maturity”,Coupon Rate,YTM,2,3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verify that a 5-year bond, with a 9% coupon and a 7% YTM, has a Duration of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4.17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 Modified Duration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.03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uration Properties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All else the same:</a:t>
            </a: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longer bond’s maturity, the longer its durat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longer bond’s maturity, the duration increases at a decreasing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higher bond’s coupon, the shorter is its durat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higher bond’s YTM, the shorter its durat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perties of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83" name="Picture 7" descr="jor82353_f1003"/>
          <p:cNvPicPr/>
          <p:nvPr/>
        </p:nvPicPr>
        <p:blipFill>
          <a:blip r:embed="rId1"/>
          <a:stretch/>
        </p:blipFill>
        <p:spPr>
          <a:xfrm>
            <a:off x="533520" y="175248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1242360" y="2590920"/>
            <a:ext cx="506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Risk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ond Risk Measures Based on Du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llar Value of an 0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measures the change in bond price from a one basis point change in yiel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Yield Value of a 32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measures the change in yield that would lead to a 1/32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change in the bond pric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1522440" y="2664000"/>
                <a:ext cx="62071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llar Value of an 01 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Modified Duration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Bond Price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1677960" y="4419720"/>
                <a:ext cx="47228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 Value of a 32nd 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Dollar Value of an 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8"/>
          <p:cNvSpPr/>
          <p:nvPr/>
        </p:nvSpPr>
        <p:spPr>
          <a:xfrm>
            <a:off x="1143000" y="5638680"/>
            <a:ext cx="70102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In both cases, the bond price is per $100 fac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Example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a bond has and face value of $100 and YTM of 7% that matures in 12 years. If its coupon rate is 6%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is the dollar value of an 01 for this bond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is the yield value of a 32</a:t>
            </a:r>
            <a:r>
              <a:rPr b="0" lang="en-US" sz="2000" spc="-1" strike="noStrike" baseline="30000">
                <a:solidFill>
                  <a:srgbClr val="0070c0"/>
                </a:solidFill>
                <a:latin typeface="Arial"/>
              </a:rPr>
              <a:t>nd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culating modified dur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culating bond pric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47920" y="3809880"/>
                <a:ext cx="6781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rat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%/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%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%/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%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%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%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%/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yea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1432080" y="5445000"/>
                <a:ext cx="66452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nd Pri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%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%/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%/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Example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llar Value of an 01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 one basis point (or 0.01%) change in YTM will change the bond price by about 7.6 cent (in the opposite direction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ield Value of a 32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A change in YTM of 0.41 basis point (or 0.0041%) would lead to a change in bond price of about 1/32 (or $0.0314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371600" y="1981080"/>
                <a:ext cx="61959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llar Value of an 01 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Modified Duration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Bond Price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5"/>
              <p:cNvSpPr txBox="1"/>
              <p:nvPr/>
            </p:nvSpPr>
            <p:spPr>
              <a:xfrm>
                <a:off x="1365120" y="2435400"/>
                <a:ext cx="5391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llar Value of an 01 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$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1397160" y="4619520"/>
                <a:ext cx="4722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 Value of a 32nd 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Dollar Value of an 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6095880" y="4616280"/>
                <a:ext cx="2305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08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edicated Portfolio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dicated portfolio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bond portfolio created to prepare for a future cash payment, e.g. pension fu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ate the payment is due is commonly called the portfolio’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 a pension fund estimates that it must pay benefit of about $100 million in 5 years. The fund decides to buy 8% coupon bond with semiannual payment, mature in 5 years, and currently selling at par. How much should the Fund invest today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und will receive $2,702,257 of coupon every 6 month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all coupons are reinvested at 8%, in the 5 years their future value are $32,443,583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914400" y="4648320"/>
                <a:ext cx="2749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TM/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657600" y="4648320"/>
                <a:ext cx="2749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%/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6400800" y="4675320"/>
                <a:ext cx="24224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67,556,4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isk in Dedicated Portfolio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investment rat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investment rate risk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uncertainty about the value of the portfolio on the target dat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dedicated portfolio, this risk arises when we are unable to reinvest coupon received in as high as YTM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lution: purchase zero coupon bo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Price risk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risk that bond prices will decreas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dedicated portfolios, this risk arises when the target date value of a bond is not known with certainty (or bond maturity is not same with target dat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ce risk and reinvestment risk tend to offset each other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 to make those two risk offset each other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47400" y="2590920"/>
            <a:ext cx="587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ncept of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munization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term for constructing a dedicated portfolio such that the uncertainty surrounding the target date value is minimize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is possible to engineer a portfolio such that price risk and reinvestment rate risk offset each other (just about entirely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dedicated portfolio can be immunized by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duration matchin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matching the duration of the portfolio to its target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n, the impacts of price and reinvestment rate risk will almost exactly offs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means that interest rate changes will have a minimal impact on the target date value of the portfoli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310" name="Picture 8" descr="jor82353_f1004"/>
          <p:cNvPicPr/>
          <p:nvPr/>
        </p:nvPicPr>
        <p:blipFill>
          <a:blip r:embed="rId1"/>
          <a:stretch/>
        </p:blipFill>
        <p:spPr>
          <a:xfrm>
            <a:off x="546120" y="1447920"/>
            <a:ext cx="8292960" cy="455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1905120" y="1828800"/>
                <a:ext cx="4419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ar Value Bond Durat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Straight Connector 5"/>
          <p:cNvSpPr/>
          <p:nvPr/>
        </p:nvSpPr>
        <p:spPr>
          <a:xfrm>
            <a:off x="7454880" y="3205080"/>
            <a:ext cx="0" cy="2103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6"/>
          <p:cNvSpPr/>
          <p:nvPr/>
        </p:nvSpPr>
        <p:spPr>
          <a:xfrm flipH="1">
            <a:off x="1396800" y="3187800"/>
            <a:ext cx="6035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ment Risk Managemen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nvestment risk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 money manager’s control over investment risk, usually with respect to potential short-run loss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Value-at-Risk (VaR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technique of assessing risk by stating the probability of a loss of portfolio might experience within a fixed time horiz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5" descr="jor30719_0110"/>
          <p:cNvPicPr/>
          <p:nvPr/>
        </p:nvPicPr>
        <p:blipFill>
          <a:blip r:embed="rId1"/>
          <a:srcRect l="0" t="0" r="-2078" b="0"/>
          <a:stretch/>
        </p:blipFill>
        <p:spPr>
          <a:xfrm>
            <a:off x="914400" y="1295280"/>
            <a:ext cx="7467480" cy="3733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aR: Illustration 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838080" y="16765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of large-cap stocks experience loss 8.8% of worse within one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5"/>
          <p:cNvCxnSpPr/>
          <p:nvPr/>
        </p:nvCxnSpPr>
        <p:spPr>
          <a:xfrm>
            <a:off x="1041480" y="5334120"/>
            <a:ext cx="21020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Straight Arrow Connector 6"/>
          <p:cNvCxnSpPr/>
          <p:nvPr/>
        </p:nvCxnSpPr>
        <p:spPr>
          <a:xfrm>
            <a:off x="4601880" y="5334120"/>
            <a:ext cx="2104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Straight Arrow Connector 7"/>
          <p:cNvCxnSpPr/>
          <p:nvPr/>
        </p:nvCxnSpPr>
        <p:spPr>
          <a:xfrm>
            <a:off x="3200400" y="5334120"/>
            <a:ext cx="1372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3" name="TextBox 8"/>
          <p:cNvSpPr/>
          <p:nvPr/>
        </p:nvSpPr>
        <p:spPr>
          <a:xfrm>
            <a:off x="3534120" y="5334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1744920" y="5334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5326560" y="5334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974880" y="5943600"/>
                <a:ext cx="3047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Box 12"/>
          <p:cNvSpPr/>
          <p:nvPr/>
        </p:nvSpPr>
        <p:spPr>
          <a:xfrm>
            <a:off x="5257800" y="1676520"/>
            <a:ext cx="335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1.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20.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-8.8% is 1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mean (expected retur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4191120" y="5943600"/>
                <a:ext cx="2809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%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ultiple Yea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want to evaluate horizons that are shorter or longer than one year, the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2111400" y="2427120"/>
                <a:ext cx="2370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*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2514600" y="3005280"/>
                <a:ext cx="1784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33" name=""/>
          <p:cNvGraphicFramePr/>
          <p:nvPr/>
        </p:nvGraphicFramePr>
        <p:xfrm>
          <a:off x="1143000" y="4038480"/>
          <a:ext cx="7467480" cy="1706760"/>
        </p:xfrm>
        <a:graphic>
          <a:graphicData uri="http://schemas.openxmlformats.org/drawingml/2006/table">
            <a:tbl>
              <a:tblPr/>
              <a:tblGrid>
                <a:gridCol w="1752480"/>
                <a:gridCol w="1447920"/>
                <a:gridCol w="4267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,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[E(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 2.326*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,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= 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[E(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 1.960*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,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= 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[E(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 1.645*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,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= 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1260360" y="4545000"/>
                <a:ext cx="1538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1347840" y="4951440"/>
                <a:ext cx="1388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6"/>
              <p:cNvSpPr txBox="1"/>
              <p:nvPr/>
            </p:nvSpPr>
            <p:spPr>
              <a:xfrm>
                <a:off x="1257480" y="5345280"/>
                <a:ext cx="15127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-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533520" y="1143000"/>
            <a:ext cx="8305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we focus on investing in bank and transportation companies in Australia. The average annual return is 15%, with standard deviation of 50%. What loss level can we expect over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wo-year investment horiz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a probability of 16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990720" y="3429000"/>
                <a:ext cx="3581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*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%*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1003320" y="3902040"/>
                <a:ext cx="2730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%*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12"/>
          <p:cNvGrpSpPr/>
          <p:nvPr/>
        </p:nvGrpSpPr>
        <p:grpSpPr>
          <a:xfrm>
            <a:off x="4800600" y="2743200"/>
            <a:ext cx="4037040" cy="2851560"/>
            <a:chOff x="4800600" y="2743200"/>
            <a:chExt cx="4037040" cy="2851560"/>
          </a:xfrm>
        </p:grpSpPr>
        <p:pic>
          <p:nvPicPr>
            <p:cNvPr id="342" name="Picture 5" descr="jor30719_0110"/>
            <p:cNvPicPr/>
            <p:nvPr/>
          </p:nvPicPr>
          <p:blipFill>
            <a:blip r:embed="rId1"/>
            <a:srcRect l="0" t="0" r="18776" b="5085"/>
            <a:stretch/>
          </p:blipFill>
          <p:spPr>
            <a:xfrm>
              <a:off x="4800600" y="2743200"/>
              <a:ext cx="4037040" cy="2361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43" name="Straight Arrow Connector 6"/>
            <p:cNvCxnSpPr/>
            <p:nvPr/>
          </p:nvCxnSpPr>
          <p:spPr>
            <a:xfrm>
              <a:off x="4863960" y="5257800"/>
              <a:ext cx="13723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4" name="Straight Arrow Connector 7"/>
            <p:cNvCxnSpPr/>
            <p:nvPr/>
          </p:nvCxnSpPr>
          <p:spPr>
            <a:xfrm>
              <a:off x="7315200" y="5257800"/>
              <a:ext cx="146448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5" name="Straight Arrow Connector 8"/>
            <p:cNvCxnSpPr/>
            <p:nvPr/>
          </p:nvCxnSpPr>
          <p:spPr>
            <a:xfrm>
              <a:off x="6286320" y="5257800"/>
              <a:ext cx="100728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46" name="TextBox 9"/>
            <p:cNvSpPr/>
            <p:nvPr/>
          </p:nvSpPr>
          <p:spPr>
            <a:xfrm>
              <a:off x="6495840" y="5257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0"/>
            <p:cNvSpPr/>
            <p:nvPr/>
          </p:nvSpPr>
          <p:spPr>
            <a:xfrm>
              <a:off x="5378040" y="5257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1"/>
            <p:cNvSpPr/>
            <p:nvPr/>
          </p:nvSpPr>
          <p:spPr>
            <a:xfrm>
              <a:off x="7713720" y="5257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Box 13"/>
          <p:cNvSpPr/>
          <p:nvPr/>
        </p:nvSpPr>
        <p:spPr>
          <a:xfrm>
            <a:off x="901800" y="4572000"/>
            <a:ext cx="367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% of probability corresponds to 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0% - 70.7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40.7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4940280" y="5607000"/>
            <a:ext cx="367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16% chance of a 40.71% loss or worse over the next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-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533520" y="1143000"/>
            <a:ext cx="8305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we focus on investing in bank and transportation companies in Australia. The average annual return is 15%, with standard deviation of 50%. What loss level can we expect over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x months investment horiz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a probability of 16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927000" y="3429000"/>
                <a:ext cx="3797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*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%*1/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950760" y="3902040"/>
                <a:ext cx="2909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%*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/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Group 12"/>
          <p:cNvGrpSpPr/>
          <p:nvPr/>
        </p:nvGrpSpPr>
        <p:grpSpPr>
          <a:xfrm>
            <a:off x="4800600" y="2743200"/>
            <a:ext cx="4037040" cy="2851560"/>
            <a:chOff x="4800600" y="2743200"/>
            <a:chExt cx="4037040" cy="2851560"/>
          </a:xfrm>
        </p:grpSpPr>
        <p:pic>
          <p:nvPicPr>
            <p:cNvPr id="356" name="Picture 5" descr="jor30719_0110"/>
            <p:cNvPicPr/>
            <p:nvPr/>
          </p:nvPicPr>
          <p:blipFill>
            <a:blip r:embed="rId1"/>
            <a:srcRect l="0" t="0" r="18776" b="5085"/>
            <a:stretch/>
          </p:blipFill>
          <p:spPr>
            <a:xfrm>
              <a:off x="4800600" y="2743200"/>
              <a:ext cx="4037040" cy="2361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7" name="Straight Arrow Connector 6"/>
            <p:cNvCxnSpPr/>
            <p:nvPr/>
          </p:nvCxnSpPr>
          <p:spPr>
            <a:xfrm>
              <a:off x="4863960" y="5257800"/>
              <a:ext cx="13723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8" name="Straight Arrow Connector 7"/>
            <p:cNvCxnSpPr/>
            <p:nvPr/>
          </p:nvCxnSpPr>
          <p:spPr>
            <a:xfrm>
              <a:off x="7315200" y="5257800"/>
              <a:ext cx="146448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9" name="Straight Arrow Connector 8"/>
            <p:cNvCxnSpPr/>
            <p:nvPr/>
          </p:nvCxnSpPr>
          <p:spPr>
            <a:xfrm>
              <a:off x="6286320" y="5257800"/>
              <a:ext cx="100728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0" name="TextBox 9"/>
            <p:cNvSpPr/>
            <p:nvPr/>
          </p:nvSpPr>
          <p:spPr>
            <a:xfrm>
              <a:off x="6495840" y="5257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0"/>
            <p:cNvSpPr/>
            <p:nvPr/>
          </p:nvSpPr>
          <p:spPr>
            <a:xfrm>
              <a:off x="5378040" y="5257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1"/>
            <p:cNvSpPr/>
            <p:nvPr/>
          </p:nvSpPr>
          <p:spPr>
            <a:xfrm>
              <a:off x="7713720" y="5257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13"/>
          <p:cNvSpPr/>
          <p:nvPr/>
        </p:nvSpPr>
        <p:spPr>
          <a:xfrm>
            <a:off x="901800" y="4572000"/>
            <a:ext cx="374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% of probability corresponds to 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7.5% - 35.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7.8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4940280" y="5607000"/>
            <a:ext cx="367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16% chance of a 27.86% loss or worse over the nex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-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533520" y="1143000"/>
            <a:ext cx="8305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we focus on investing in bank and transportation companies in Australia. The average annual return is 15%, with standard deviation of 50%. What loss level can we expect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ing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a probability of 5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1231920" y="3429000"/>
                <a:ext cx="2523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*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1231920" y="3886200"/>
                <a:ext cx="2347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%*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TextBox 13"/>
          <p:cNvSpPr/>
          <p:nvPr/>
        </p:nvSpPr>
        <p:spPr>
          <a:xfrm>
            <a:off x="990720" y="4572000"/>
            <a:ext cx="7467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 of probability corresponds to 1.645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1.645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5% - (1.645 x 50%) = -67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5% probability of 67.25% loss or worse over the nex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ight bond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debt instrument that obligates the issuer of the bond to pay the holder of the bond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fixed sum of money (called the principal, par value, or face value) at the bond’s maturity and sometime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nstant, periodic interest payments (called coupons) during the life of the bond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Treasury bonds are straight bo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pecial features may be attached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nvertible bo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allable bo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Basic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ond Price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value of bo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ok value of bond = principal or face/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rket value of bond fluctuates around its par value (e.g. $95, $950, 95%, $105, $1,050, 105%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oupon Rate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urrent Yiel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xample: a $1,000 par value bond offers coupon of $100 paid semiannually that matures in three years. Now the bond is sold at $1,050. What are its coupon rate and current yiel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3809880" y="3000240"/>
                <a:ext cx="33228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upon 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nnual coupo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r valu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3816360" y="3902040"/>
                <a:ext cx="3798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nnual coupo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nd market pri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ield-To-Matur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buy a bond at any point of time, and hold until its maturity, we will receive a return called yield-to-matur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Yield-to-Matur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YTM) or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mised yield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discount rate that equates today’s bond price with the present value of the future cash flows of the bo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YTM if we buy at t=0, t=1, and t=3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4834080"/>
          <a:ext cx="7696080" cy="74124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914400"/>
                <a:gridCol w="914400"/>
                <a:gridCol w="838440"/>
                <a:gridCol w="990360"/>
                <a:gridCol w="838440"/>
                <a:gridCol w="8380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90720" y="4076640"/>
          <a:ext cx="7696080" cy="111276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914400"/>
                <a:gridCol w="914400"/>
                <a:gridCol w="838440"/>
                <a:gridCol w="990360"/>
                <a:gridCol w="838440"/>
                <a:gridCol w="838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/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TM and Bond Pric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bond price is found by adding together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resent value of the bond’s coupon payments,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present value of the bond’s face value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 =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nnual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coupon payments (in $), FV = the face value of the bond (in $), and M = time to the maturity of the bond, measured in yea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1208160" y="3052800"/>
                <a:ext cx="3681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ond</m:t>
                    </m:r>
                    <m:r>
                      <m:rPr>
                        <m:lit/>
                        <m:nor/>
                      </m:rPr>
                      <m:t xml:space="preserve"> 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T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4834080" y="3048120"/>
                <a:ext cx="16700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ace Value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255680" y="3962520"/>
                <a:ext cx="545004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YTM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Box 10"/>
          <p:cNvSpPr/>
          <p:nvPr/>
        </p:nvSpPr>
        <p:spPr>
          <a:xfrm>
            <a:off x="6861240" y="3195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6858000" y="421956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ann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at t=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at t=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at t=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052720"/>
          <a:ext cx="7696080" cy="74124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914400"/>
                <a:gridCol w="914400"/>
                <a:gridCol w="838440"/>
                <a:gridCol w="990360"/>
                <a:gridCol w="838440"/>
                <a:gridCol w="838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990720" y="1295280"/>
          <a:ext cx="7696080" cy="111312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914400"/>
                <a:gridCol w="914400"/>
                <a:gridCol w="838440"/>
                <a:gridCol w="990360"/>
                <a:gridCol w="838440"/>
                <a:gridCol w="838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/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513160" y="3164040"/>
                <a:ext cx="46497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,000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YTM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000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Box 11"/>
          <p:cNvSpPr/>
          <p:nvPr/>
        </p:nvSpPr>
        <p:spPr>
          <a:xfrm>
            <a:off x="7298280" y="33526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TM = 10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2666880" y="4267080"/>
                <a:ext cx="4498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50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YTM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000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2525760" y="5367240"/>
                <a:ext cx="46274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,050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YTM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000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TextBox 15"/>
          <p:cNvSpPr/>
          <p:nvPr/>
        </p:nvSpPr>
        <p:spPr>
          <a:xfrm>
            <a:off x="7298280" y="44434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TM = 12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7298280" y="55738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TM = 6.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Pmbs User</cp:lastModifiedBy>
  <dcterms:modified xsi:type="dcterms:W3CDTF">2013-12-02T03:17:53Z</dcterms:modified>
  <cp:revision>388</cp:revision>
  <dc:subject/>
  <dc:title>Slide 1</dc:title>
</cp:coreProperties>
</file>