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8141-A711-4530-A7D7-368F3B78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0140-FBE3-4895-BB79-AC2409C72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5F9A-381F-44A8-B70B-33473890A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8E4D-8AAC-4686-9793-71692C08B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27D1-840F-4AC8-A98F-EB815195A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B716-5172-429F-8BCC-C52EC2F56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4AEE-C8DE-4761-8451-2309DB491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B23F-76EF-4D53-B915-79E878C6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8445-FE5F-4D9F-BD07-27B2EE587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1709-7D3A-4CDE-AC2D-B4556928B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AB9D-A0D7-41B8-902F-50CAC027E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1B9D-DC9F-4599-97DB-F8F355A4D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9A13-36B9-43A4-B332-D0DD2E5B8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3FE2-530A-4F5F-97A5-B4B769AB5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C825-65BE-46E4-A08C-01C65F6E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76B4-3F78-4797-9AFD-6C2750F3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639D-7C33-4109-9124-C1AB68000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86D8-86E9-4725-B955-D8D7CFD87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863F-3C29-4AF6-BE4F-C1E2C8026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EB0C-A98B-4E1D-995D-1D5FE9CC2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C60D-606C-4A25-98F7-AD287D01B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F241-7983-4B15-A137-21B47C2F1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022F-6A6E-4110-BD15-2E9C03D5F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97EA-36F5-4606-BD6F-CD59807C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1768-2A9C-4549-86A1-B6A14CD06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1BED-B9C8-44B9-BB62-187D8BEC4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EDDC-BF0B-4F95-888D-5042E48A6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D510-B7FD-4F31-A5F8-4738841EE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AAE8-201E-40EA-BD09-0F622C3AF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1C49-48DE-410A-AFB9-3F131B3CC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0A6E-64DF-478D-89AD-BD7FB6618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D6B9-27E7-44A2-A9F7-91936BC13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2972-D27D-468A-81D3-64F0A1FC2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ADF7-04DA-432C-BD5F-6EF24239E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7ECE-99E0-4340-97B6-54F9FEBDD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F743-2847-4CD0-B118-95423A7F8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96D3-E6E8-4468-BFC2-2A59DD70F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02ED-2879-4424-89B6-57455814A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C3E6-AFD8-4974-A6DE-0D8DD5626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6900-CA44-46DA-9C02-BF571FD2E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8CB4-2AE8-4854-BF88-419B7B142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7FB4-6E38-471E-ABEB-1DFB1043A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42AF-8817-421A-A15C-4D5B19DDE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48CA-DBA8-4AC8-87C1-2998E1ACC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388A-C29E-4262-8636-E76FB6AFE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EB92-B32A-49AC-AD46-267423298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Text Box 23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4"/>
          <p:cNvSpPr/>
          <p:nvPr/>
        </p:nvSpPr>
        <p:spPr>
          <a:xfrm>
            <a:off x="3809880" y="280368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Stock Op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5-</a:t>
            </a:r>
            <a:fld id="{D9AA4B5C-EF01-46C3-B816-7ABA5E1FFB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15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tions Valu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ptions value (premium) consists of two componen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rinsic valu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 the payoff that an option holder receives if the underlying stock price does not change from its current valu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 valu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 the difference between the price of an option and its intrinsic value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ptions time value is reducing toward options maturity (time value = 0 at maturity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part, we first concern on options value at maturity (expiration date). Thus, options value = intrinsic valu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tion Intrinsic Valu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the current stock price,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the strike price of the option: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all Optio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buClr>
                <a:srgbClr val="2b2c0e"/>
              </a:buClr>
              <a:buFont typeface="Arial"/>
              <a:buChar char="–"/>
              <a:tabLst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S &lt; K, call intrinsic value is worthles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buClr>
                <a:srgbClr val="2b2c0e"/>
              </a:buClr>
              <a:buFont typeface="Arial"/>
              <a:buChar char="–"/>
              <a:tabLst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S &gt; K, call intrinsic value = S – 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buClr>
                <a:srgbClr val="2b2c0e"/>
              </a:buClr>
              <a:buFont typeface="Arial"/>
              <a:buChar char="–"/>
              <a:tabLst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trinsic value can not be negativ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buClr>
                <a:srgbClr val="2b2c0e"/>
              </a:buClr>
              <a:buFont typeface="Arial"/>
              <a:buChar char="–"/>
              <a:tabLst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u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ll option intrinsic value = MAX[ 0, S – K ]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ut Optio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buClr>
                <a:srgbClr val="2b2c0e"/>
              </a:buClr>
              <a:buFont typeface="Arial"/>
              <a:buChar char="–"/>
              <a:tabLst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S &lt; K, put options intrinsic value = K – S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buClr>
                <a:srgbClr val="2b2c0e"/>
              </a:buClr>
              <a:buFont typeface="Arial"/>
              <a:buChar char="–"/>
              <a:tabLst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S &gt; K, put options intrinsic value worthles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buClr>
                <a:srgbClr val="2b2c0e"/>
              </a:buClr>
              <a:buFont typeface="Arial"/>
              <a:buChar char="–"/>
              <a:tabLst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u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ut option intrinsic value = MAX[ 0, K – S ]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l Option Payoff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4" name="Picture 7" descr="jor82353_f1503"/>
          <p:cNvPicPr/>
          <p:nvPr/>
        </p:nvPicPr>
        <p:blipFill>
          <a:blip r:embed="rId1"/>
          <a:stretch/>
        </p:blipFill>
        <p:spPr>
          <a:xfrm>
            <a:off x="990720" y="1523880"/>
            <a:ext cx="70959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ut Option Payoff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6" name="Picture 6" descr="jor82353_f1504"/>
          <p:cNvPicPr/>
          <p:nvPr/>
        </p:nvPicPr>
        <p:blipFill>
          <a:blip r:embed="rId1"/>
          <a:stretch/>
        </p:blipFill>
        <p:spPr>
          <a:xfrm>
            <a:off x="1066680" y="1676520"/>
            <a:ext cx="70675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tion “Moneyness”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In-the-money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” option is an option that would yield a positive payoff if exercised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t-of-the-money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” option: An option that would NOT yield a positive payoff if exercise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se the relationship between S (the stock price) and K (the strike price)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t the Mon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ptions is a term used for options when the stock price and the strike price are about the sam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429000" y="4068720"/>
          <a:ext cx="5029200" cy="1265400"/>
        </p:xfrm>
        <a:graphic>
          <a:graphicData uri="http://schemas.openxmlformats.org/drawingml/2006/table">
            <a:tbl>
              <a:tblPr/>
              <a:tblGrid>
                <a:gridCol w="1523880"/>
                <a:gridCol w="1600200"/>
                <a:gridCol w="190512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-the-Mon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Out-of-the-Mon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Call 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 &gt; 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Arial"/>
                        </a:rPr>
                        <a:t>≤ 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Put 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 &lt; 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Arial"/>
                        </a:rPr>
                        <a:t>≥ 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tion Payoffs versus Option Profi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ption investment strategies involve initial and terminal cash flow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itial cash flow: option price (often called the option premium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erminal cash flow: the value of an option at expiration (often called the option payoff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inal cash flow can be realized by the option holder by exercising the op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The profit from an option strategy is the difference from the cash flows at expiration and the cash flow needed to initiate the option strateg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l Option Profi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3" name="Picture 6" descr="jor82353_f1505"/>
          <p:cNvPicPr/>
          <p:nvPr/>
        </p:nvPicPr>
        <p:blipFill>
          <a:blip r:embed="rId1"/>
          <a:stretch/>
        </p:blipFill>
        <p:spPr>
          <a:xfrm>
            <a:off x="1143000" y="1676520"/>
            <a:ext cx="70675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ut Option Profi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5" name="Picture 6" descr="jor82353_f1506"/>
          <p:cNvPicPr/>
          <p:nvPr/>
        </p:nvPicPr>
        <p:blipFill>
          <a:blip r:embed="rId1"/>
          <a:stretch/>
        </p:blipFill>
        <p:spPr>
          <a:xfrm>
            <a:off x="1066680" y="1600200"/>
            <a:ext cx="70675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1219320" y="25909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dging and Investment Using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Hedging Strategy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67d82"/>
                </a:solidFill>
                <a:latin typeface="Arial"/>
              </a:rPr>
              <a:t>Protective pu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a strategy of buying put options to protect against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allin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values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otective puts provide “insurance” for the value of an asset or a stream of cash inflow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9" name="Picture 5" descr="jor82353_f1508"/>
          <p:cNvPicPr/>
          <p:nvPr/>
        </p:nvPicPr>
        <p:blipFill>
          <a:blip r:embed="rId1"/>
          <a:stretch/>
        </p:blipFill>
        <p:spPr>
          <a:xfrm>
            <a:off x="1752480" y="3078000"/>
            <a:ext cx="6096240" cy="33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1235520" y="2590920"/>
            <a:ext cx="335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 Ba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Hedging Strategy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67d82"/>
                </a:solidFill>
                <a:latin typeface="Arial"/>
              </a:rPr>
              <a:t>Protective call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 strategy of buying call options to protect against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isin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prices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otective calls provide a way to “lock-in” the value of a liability or a stream of cash outflow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2" name="Picture 5" descr="jor82353_f1509"/>
          <p:cNvPicPr/>
          <p:nvPr/>
        </p:nvPicPr>
        <p:blipFill>
          <a:blip r:embed="rId1"/>
          <a:stretch/>
        </p:blipFill>
        <p:spPr>
          <a:xfrm>
            <a:off x="1600200" y="3278160"/>
            <a:ext cx="6337440" cy="30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Investment (Trading) Strategy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ype I: Traders add an option position to their stock position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se strategies help traders modify their stock ris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.g.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vered Calls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(selling a call option on a stock already owned)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ype II: Sprea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 position with two or more options of the same type (i.e., only calls or only put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.g.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ll Call Spread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ear Call Spread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tterfly Spread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ype III: Combination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 position in a mixture of call and put options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.g.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ddl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buy one call and one put with the same strike and expiration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Bull Call Spread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76" name="Group 31"/>
          <p:cNvGrpSpPr/>
          <p:nvPr/>
        </p:nvGrpSpPr>
        <p:grpSpPr>
          <a:xfrm>
            <a:off x="1066680" y="2290680"/>
            <a:ext cx="7543800" cy="4033800"/>
            <a:chOff x="1066680" y="2290680"/>
            <a:chExt cx="7543800" cy="4033800"/>
          </a:xfrm>
        </p:grpSpPr>
        <p:cxnSp>
          <p:nvCxnSpPr>
            <p:cNvPr id="177" name="Straight Arrow Connector 4"/>
            <p:cNvCxnSpPr/>
            <p:nvPr/>
          </p:nvCxnSpPr>
          <p:spPr>
            <a:xfrm flipV="1">
              <a:off x="1447560" y="2666520"/>
              <a:ext cx="2160" cy="3658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" name="Straight Arrow Connector 5"/>
            <p:cNvCxnSpPr/>
            <p:nvPr/>
          </p:nvCxnSpPr>
          <p:spPr>
            <a:xfrm>
              <a:off x="1449720" y="4572000"/>
              <a:ext cx="6766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79" name="Straight Connector 7"/>
            <p:cNvSpPr/>
            <p:nvPr/>
          </p:nvSpPr>
          <p:spPr>
            <a:xfrm>
              <a:off x="205704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8"/>
            <p:cNvSpPr/>
            <p:nvPr/>
          </p:nvSpPr>
          <p:spPr>
            <a:xfrm>
              <a:off x="266688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9"/>
            <p:cNvSpPr/>
            <p:nvPr/>
          </p:nvSpPr>
          <p:spPr>
            <a:xfrm>
              <a:off x="327636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traight Connector 10"/>
            <p:cNvSpPr/>
            <p:nvPr/>
          </p:nvSpPr>
          <p:spPr>
            <a:xfrm>
              <a:off x="388620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11"/>
            <p:cNvSpPr/>
            <p:nvPr/>
          </p:nvSpPr>
          <p:spPr>
            <a:xfrm>
              <a:off x="449568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12"/>
            <p:cNvSpPr/>
            <p:nvPr/>
          </p:nvSpPr>
          <p:spPr>
            <a:xfrm>
              <a:off x="510516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13"/>
            <p:cNvSpPr/>
            <p:nvPr/>
          </p:nvSpPr>
          <p:spPr>
            <a:xfrm>
              <a:off x="571500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14"/>
            <p:cNvSpPr/>
            <p:nvPr/>
          </p:nvSpPr>
          <p:spPr>
            <a:xfrm>
              <a:off x="632448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15"/>
            <p:cNvSpPr/>
            <p:nvPr/>
          </p:nvSpPr>
          <p:spPr>
            <a:xfrm>
              <a:off x="696276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traight Connector 16"/>
            <p:cNvSpPr/>
            <p:nvPr/>
          </p:nvSpPr>
          <p:spPr>
            <a:xfrm>
              <a:off x="757224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7"/>
            <p:cNvSpPr/>
            <p:nvPr/>
          </p:nvSpPr>
          <p:spPr>
            <a:xfrm>
              <a:off x="186624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8"/>
            <p:cNvSpPr/>
            <p:nvPr/>
          </p:nvSpPr>
          <p:spPr>
            <a:xfrm>
              <a:off x="248868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9"/>
            <p:cNvSpPr/>
            <p:nvPr/>
          </p:nvSpPr>
          <p:spPr>
            <a:xfrm>
              <a:off x="309816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20"/>
            <p:cNvSpPr/>
            <p:nvPr/>
          </p:nvSpPr>
          <p:spPr>
            <a:xfrm>
              <a:off x="372060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1"/>
            <p:cNvSpPr/>
            <p:nvPr/>
          </p:nvSpPr>
          <p:spPr>
            <a:xfrm>
              <a:off x="431748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2"/>
            <p:cNvSpPr/>
            <p:nvPr/>
          </p:nvSpPr>
          <p:spPr>
            <a:xfrm>
              <a:off x="493992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3"/>
            <p:cNvSpPr/>
            <p:nvPr/>
          </p:nvSpPr>
          <p:spPr>
            <a:xfrm>
              <a:off x="554940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4"/>
            <p:cNvSpPr/>
            <p:nvPr/>
          </p:nvSpPr>
          <p:spPr>
            <a:xfrm>
              <a:off x="617184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5"/>
            <p:cNvSpPr/>
            <p:nvPr/>
          </p:nvSpPr>
          <p:spPr>
            <a:xfrm>
              <a:off x="678384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6"/>
            <p:cNvSpPr/>
            <p:nvPr/>
          </p:nvSpPr>
          <p:spPr>
            <a:xfrm>
              <a:off x="7329960" y="4723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7"/>
            <p:cNvSpPr/>
            <p:nvPr/>
          </p:nvSpPr>
          <p:spPr>
            <a:xfrm>
              <a:off x="7848720" y="3910320"/>
              <a:ext cx="76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ock 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28"/>
            <p:cNvSpPr/>
            <p:nvPr/>
          </p:nvSpPr>
          <p:spPr>
            <a:xfrm>
              <a:off x="1066680" y="22906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55"/>
          <p:cNvGrpSpPr/>
          <p:nvPr/>
        </p:nvGrpSpPr>
        <p:grpSpPr>
          <a:xfrm>
            <a:off x="1447920" y="4114800"/>
            <a:ext cx="5549040" cy="1905120"/>
            <a:chOff x="1447920" y="4114800"/>
            <a:chExt cx="5549040" cy="1905120"/>
          </a:xfrm>
        </p:grpSpPr>
        <p:sp>
          <p:nvSpPr>
            <p:cNvPr id="202" name="Oval 30"/>
            <p:cNvSpPr/>
            <p:nvPr/>
          </p:nvSpPr>
          <p:spPr>
            <a:xfrm>
              <a:off x="5029200" y="4483080"/>
              <a:ext cx="182520" cy="1825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39"/>
            <p:cNvSpPr/>
            <p:nvPr/>
          </p:nvSpPr>
          <p:spPr>
            <a:xfrm>
              <a:off x="1447920" y="4114800"/>
              <a:ext cx="3657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40"/>
            <p:cNvSpPr/>
            <p:nvPr/>
          </p:nvSpPr>
          <p:spPr>
            <a:xfrm>
              <a:off x="5092200" y="4114800"/>
              <a:ext cx="1904760" cy="1905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53"/>
          <p:cNvGrpSpPr/>
          <p:nvPr/>
        </p:nvGrpSpPr>
        <p:grpSpPr>
          <a:xfrm>
            <a:off x="1447920" y="2908080"/>
            <a:ext cx="5473440" cy="1778400"/>
            <a:chOff x="1447920" y="2908080"/>
            <a:chExt cx="5473440" cy="1778400"/>
          </a:xfrm>
        </p:grpSpPr>
        <p:sp>
          <p:nvSpPr>
            <p:cNvPr id="206" name="Straight Connector 44"/>
            <p:cNvSpPr/>
            <p:nvPr/>
          </p:nvSpPr>
          <p:spPr>
            <a:xfrm>
              <a:off x="1447920" y="4686480"/>
              <a:ext cx="18288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traight Connector 45"/>
            <p:cNvSpPr/>
            <p:nvPr/>
          </p:nvSpPr>
          <p:spPr>
            <a:xfrm flipV="1">
              <a:off x="3263760" y="2908080"/>
              <a:ext cx="1828800" cy="1778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traight Connector 47"/>
            <p:cNvSpPr/>
            <p:nvPr/>
          </p:nvSpPr>
          <p:spPr>
            <a:xfrm>
              <a:off x="5092560" y="2921040"/>
              <a:ext cx="18288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4"/>
          <p:cNvGrpSpPr/>
          <p:nvPr/>
        </p:nvGrpSpPr>
        <p:grpSpPr>
          <a:xfrm>
            <a:off x="1447920" y="2285640"/>
            <a:ext cx="4800600" cy="2895840"/>
            <a:chOff x="1447920" y="2285640"/>
            <a:chExt cx="4800600" cy="2895840"/>
          </a:xfrm>
        </p:grpSpPr>
        <p:sp>
          <p:nvSpPr>
            <p:cNvPr id="210" name="Straight Connector 33"/>
            <p:cNvSpPr/>
            <p:nvPr/>
          </p:nvSpPr>
          <p:spPr>
            <a:xfrm>
              <a:off x="1447920" y="5181480"/>
              <a:ext cx="1828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34"/>
            <p:cNvSpPr/>
            <p:nvPr/>
          </p:nvSpPr>
          <p:spPr>
            <a:xfrm flipV="1">
              <a:off x="3264120" y="2285640"/>
              <a:ext cx="2984400" cy="289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9"/>
            <p:cNvSpPr/>
            <p:nvPr/>
          </p:nvSpPr>
          <p:spPr>
            <a:xfrm>
              <a:off x="3200400" y="4470480"/>
              <a:ext cx="182520" cy="1825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56"/>
          <p:cNvSpPr/>
          <p:nvPr/>
        </p:nvSpPr>
        <p:spPr>
          <a:xfrm>
            <a:off x="1362240" y="1295280"/>
            <a:ext cx="72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Call, and also Sell Call with a higher strike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7"/>
          <p:cNvSpPr/>
          <p:nvPr/>
        </p:nvSpPr>
        <p:spPr>
          <a:xfrm>
            <a:off x="6267600" y="2070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uy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8"/>
          <p:cNvSpPr/>
          <p:nvPr/>
        </p:nvSpPr>
        <p:spPr>
          <a:xfrm>
            <a:off x="6864840" y="54212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ll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9"/>
          <p:cNvSpPr/>
          <p:nvPr/>
        </p:nvSpPr>
        <p:spPr>
          <a:xfrm>
            <a:off x="5719320" y="2970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6"/>
          <p:cNvSpPr/>
          <p:nvPr/>
        </p:nvSpPr>
        <p:spPr>
          <a:xfrm>
            <a:off x="2362320" y="54864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hen stock price is predicted to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Bear Call Spread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219" name="Group 31"/>
          <p:cNvGrpSpPr/>
          <p:nvPr/>
        </p:nvGrpSpPr>
        <p:grpSpPr>
          <a:xfrm>
            <a:off x="1066680" y="2290680"/>
            <a:ext cx="7543800" cy="4033800"/>
            <a:chOff x="1066680" y="2290680"/>
            <a:chExt cx="7543800" cy="4033800"/>
          </a:xfrm>
        </p:grpSpPr>
        <p:cxnSp>
          <p:nvCxnSpPr>
            <p:cNvPr id="220" name="Straight Arrow Connector 4"/>
            <p:cNvCxnSpPr/>
            <p:nvPr/>
          </p:nvCxnSpPr>
          <p:spPr>
            <a:xfrm flipV="1">
              <a:off x="1447560" y="2666520"/>
              <a:ext cx="2160" cy="3658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21" name="Straight Arrow Connector 5"/>
            <p:cNvCxnSpPr/>
            <p:nvPr/>
          </p:nvCxnSpPr>
          <p:spPr>
            <a:xfrm>
              <a:off x="1449720" y="4572000"/>
              <a:ext cx="6766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Straight Connector 7"/>
            <p:cNvSpPr/>
            <p:nvPr/>
          </p:nvSpPr>
          <p:spPr>
            <a:xfrm>
              <a:off x="205704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traight Connector 8"/>
            <p:cNvSpPr/>
            <p:nvPr/>
          </p:nvSpPr>
          <p:spPr>
            <a:xfrm>
              <a:off x="266688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9"/>
            <p:cNvSpPr/>
            <p:nvPr/>
          </p:nvSpPr>
          <p:spPr>
            <a:xfrm>
              <a:off x="327636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10"/>
            <p:cNvSpPr/>
            <p:nvPr/>
          </p:nvSpPr>
          <p:spPr>
            <a:xfrm>
              <a:off x="388620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traight Connector 11"/>
            <p:cNvSpPr/>
            <p:nvPr/>
          </p:nvSpPr>
          <p:spPr>
            <a:xfrm>
              <a:off x="449568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traight Connector 12"/>
            <p:cNvSpPr/>
            <p:nvPr/>
          </p:nvSpPr>
          <p:spPr>
            <a:xfrm>
              <a:off x="510516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13"/>
            <p:cNvSpPr/>
            <p:nvPr/>
          </p:nvSpPr>
          <p:spPr>
            <a:xfrm>
              <a:off x="571500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14"/>
            <p:cNvSpPr/>
            <p:nvPr/>
          </p:nvSpPr>
          <p:spPr>
            <a:xfrm>
              <a:off x="632448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traight Connector 15"/>
            <p:cNvSpPr/>
            <p:nvPr/>
          </p:nvSpPr>
          <p:spPr>
            <a:xfrm>
              <a:off x="696276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traight Connector 16"/>
            <p:cNvSpPr/>
            <p:nvPr/>
          </p:nvSpPr>
          <p:spPr>
            <a:xfrm>
              <a:off x="757224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7"/>
            <p:cNvSpPr/>
            <p:nvPr/>
          </p:nvSpPr>
          <p:spPr>
            <a:xfrm>
              <a:off x="186624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8"/>
            <p:cNvSpPr/>
            <p:nvPr/>
          </p:nvSpPr>
          <p:spPr>
            <a:xfrm>
              <a:off x="248868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9"/>
            <p:cNvSpPr/>
            <p:nvPr/>
          </p:nvSpPr>
          <p:spPr>
            <a:xfrm>
              <a:off x="309816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20"/>
            <p:cNvSpPr/>
            <p:nvPr/>
          </p:nvSpPr>
          <p:spPr>
            <a:xfrm>
              <a:off x="372060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21"/>
            <p:cNvSpPr/>
            <p:nvPr/>
          </p:nvSpPr>
          <p:spPr>
            <a:xfrm>
              <a:off x="431748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22"/>
            <p:cNvSpPr/>
            <p:nvPr/>
          </p:nvSpPr>
          <p:spPr>
            <a:xfrm>
              <a:off x="493992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23"/>
            <p:cNvSpPr/>
            <p:nvPr/>
          </p:nvSpPr>
          <p:spPr>
            <a:xfrm>
              <a:off x="554940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4"/>
            <p:cNvSpPr/>
            <p:nvPr/>
          </p:nvSpPr>
          <p:spPr>
            <a:xfrm>
              <a:off x="617184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25"/>
            <p:cNvSpPr/>
            <p:nvPr/>
          </p:nvSpPr>
          <p:spPr>
            <a:xfrm>
              <a:off x="678384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26"/>
            <p:cNvSpPr/>
            <p:nvPr/>
          </p:nvSpPr>
          <p:spPr>
            <a:xfrm>
              <a:off x="7329960" y="4723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27"/>
            <p:cNvSpPr/>
            <p:nvPr/>
          </p:nvSpPr>
          <p:spPr>
            <a:xfrm>
              <a:off x="7848720" y="3910320"/>
              <a:ext cx="76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ock 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28"/>
            <p:cNvSpPr/>
            <p:nvPr/>
          </p:nvSpPr>
          <p:spPr>
            <a:xfrm>
              <a:off x="1066680" y="22906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55"/>
          <p:cNvGrpSpPr/>
          <p:nvPr/>
        </p:nvGrpSpPr>
        <p:grpSpPr>
          <a:xfrm>
            <a:off x="1447920" y="3822840"/>
            <a:ext cx="4647960" cy="2577960"/>
            <a:chOff x="1447920" y="3822840"/>
            <a:chExt cx="4647960" cy="2577960"/>
          </a:xfrm>
        </p:grpSpPr>
        <p:sp>
          <p:nvSpPr>
            <p:cNvPr id="245" name="Oval 30"/>
            <p:cNvSpPr/>
            <p:nvPr/>
          </p:nvSpPr>
          <p:spPr>
            <a:xfrm>
              <a:off x="3200400" y="4483080"/>
              <a:ext cx="182520" cy="1825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traight Connector 39"/>
            <p:cNvSpPr/>
            <p:nvPr/>
          </p:nvSpPr>
          <p:spPr>
            <a:xfrm>
              <a:off x="1447920" y="3822840"/>
              <a:ext cx="1828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traight Connector 40"/>
            <p:cNvSpPr/>
            <p:nvPr/>
          </p:nvSpPr>
          <p:spPr>
            <a:xfrm>
              <a:off x="3276720" y="3822840"/>
              <a:ext cx="2819160" cy="2577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53"/>
          <p:cNvGrpSpPr/>
          <p:nvPr/>
        </p:nvGrpSpPr>
        <p:grpSpPr>
          <a:xfrm>
            <a:off x="1447920" y="4368960"/>
            <a:ext cx="5486400" cy="1650960"/>
            <a:chOff x="1447920" y="4368960"/>
            <a:chExt cx="5486400" cy="1650960"/>
          </a:xfrm>
        </p:grpSpPr>
        <p:sp>
          <p:nvSpPr>
            <p:cNvPr id="249" name="Straight Connector 44"/>
            <p:cNvSpPr/>
            <p:nvPr/>
          </p:nvSpPr>
          <p:spPr>
            <a:xfrm>
              <a:off x="1447920" y="4368960"/>
              <a:ext cx="18288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traight Connector 45"/>
            <p:cNvSpPr/>
            <p:nvPr/>
          </p:nvSpPr>
          <p:spPr>
            <a:xfrm>
              <a:off x="3264120" y="4368960"/>
              <a:ext cx="1841400" cy="16509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traight Connector 47"/>
            <p:cNvSpPr/>
            <p:nvPr/>
          </p:nvSpPr>
          <p:spPr>
            <a:xfrm>
              <a:off x="5105520" y="6007320"/>
              <a:ext cx="18288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54"/>
          <p:cNvGrpSpPr/>
          <p:nvPr/>
        </p:nvGrpSpPr>
        <p:grpSpPr>
          <a:xfrm>
            <a:off x="1447920" y="2984040"/>
            <a:ext cx="5841000" cy="2197440"/>
            <a:chOff x="1447920" y="2984040"/>
            <a:chExt cx="5841000" cy="2197440"/>
          </a:xfrm>
        </p:grpSpPr>
        <p:sp>
          <p:nvSpPr>
            <p:cNvPr id="253" name="Straight Connector 33"/>
            <p:cNvSpPr/>
            <p:nvPr/>
          </p:nvSpPr>
          <p:spPr>
            <a:xfrm>
              <a:off x="1447920" y="5181480"/>
              <a:ext cx="3657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34"/>
            <p:cNvSpPr/>
            <p:nvPr/>
          </p:nvSpPr>
          <p:spPr>
            <a:xfrm flipV="1">
              <a:off x="5104800" y="2984040"/>
              <a:ext cx="2184120" cy="2197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9"/>
            <p:cNvSpPr/>
            <p:nvPr/>
          </p:nvSpPr>
          <p:spPr>
            <a:xfrm>
              <a:off x="5029200" y="4470480"/>
              <a:ext cx="182520" cy="1825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56"/>
          <p:cNvSpPr/>
          <p:nvPr/>
        </p:nvSpPr>
        <p:spPr>
          <a:xfrm>
            <a:off x="1361520" y="1295280"/>
            <a:ext cx="70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Call, and also Sell Call with a lower strike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7"/>
          <p:cNvSpPr/>
          <p:nvPr/>
        </p:nvSpPr>
        <p:spPr>
          <a:xfrm>
            <a:off x="6786720" y="2602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uy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8"/>
          <p:cNvSpPr/>
          <p:nvPr/>
        </p:nvSpPr>
        <p:spPr>
          <a:xfrm>
            <a:off x="6113880" y="61833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ll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9"/>
          <p:cNvSpPr/>
          <p:nvPr/>
        </p:nvSpPr>
        <p:spPr>
          <a:xfrm>
            <a:off x="6100200" y="56498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6"/>
          <p:cNvSpPr/>
          <p:nvPr/>
        </p:nvSpPr>
        <p:spPr>
          <a:xfrm>
            <a:off x="2286000" y="22860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hen stock price is predicted to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Butterfly Spread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262" name="Group 31"/>
          <p:cNvGrpSpPr/>
          <p:nvPr/>
        </p:nvGrpSpPr>
        <p:grpSpPr>
          <a:xfrm>
            <a:off x="1066680" y="2290680"/>
            <a:ext cx="7543800" cy="4033800"/>
            <a:chOff x="1066680" y="2290680"/>
            <a:chExt cx="7543800" cy="4033800"/>
          </a:xfrm>
        </p:grpSpPr>
        <p:cxnSp>
          <p:nvCxnSpPr>
            <p:cNvPr id="263" name="Straight Arrow Connector 4"/>
            <p:cNvCxnSpPr/>
            <p:nvPr/>
          </p:nvCxnSpPr>
          <p:spPr>
            <a:xfrm flipV="1">
              <a:off x="1447560" y="2666520"/>
              <a:ext cx="2160" cy="3658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64" name="Straight Arrow Connector 5"/>
            <p:cNvCxnSpPr/>
            <p:nvPr/>
          </p:nvCxnSpPr>
          <p:spPr>
            <a:xfrm>
              <a:off x="1449720" y="4572000"/>
              <a:ext cx="6766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65" name="Straight Connector 7"/>
            <p:cNvSpPr/>
            <p:nvPr/>
          </p:nvSpPr>
          <p:spPr>
            <a:xfrm>
              <a:off x="205704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8"/>
            <p:cNvSpPr/>
            <p:nvPr/>
          </p:nvSpPr>
          <p:spPr>
            <a:xfrm>
              <a:off x="266688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9"/>
            <p:cNvSpPr/>
            <p:nvPr/>
          </p:nvSpPr>
          <p:spPr>
            <a:xfrm>
              <a:off x="327636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10"/>
            <p:cNvSpPr/>
            <p:nvPr/>
          </p:nvSpPr>
          <p:spPr>
            <a:xfrm>
              <a:off x="388620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11"/>
            <p:cNvSpPr/>
            <p:nvPr/>
          </p:nvSpPr>
          <p:spPr>
            <a:xfrm>
              <a:off x="449568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12"/>
            <p:cNvSpPr/>
            <p:nvPr/>
          </p:nvSpPr>
          <p:spPr>
            <a:xfrm>
              <a:off x="510516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Straight Connector 13"/>
            <p:cNvSpPr/>
            <p:nvPr/>
          </p:nvSpPr>
          <p:spPr>
            <a:xfrm>
              <a:off x="571500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>
              <a:off x="632448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traight Connector 15"/>
            <p:cNvSpPr/>
            <p:nvPr/>
          </p:nvSpPr>
          <p:spPr>
            <a:xfrm>
              <a:off x="696276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Straight Connector 16"/>
            <p:cNvSpPr/>
            <p:nvPr/>
          </p:nvSpPr>
          <p:spPr>
            <a:xfrm>
              <a:off x="757224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7"/>
            <p:cNvSpPr/>
            <p:nvPr/>
          </p:nvSpPr>
          <p:spPr>
            <a:xfrm>
              <a:off x="186624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18"/>
            <p:cNvSpPr/>
            <p:nvPr/>
          </p:nvSpPr>
          <p:spPr>
            <a:xfrm>
              <a:off x="248868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9"/>
            <p:cNvSpPr/>
            <p:nvPr/>
          </p:nvSpPr>
          <p:spPr>
            <a:xfrm>
              <a:off x="309816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20"/>
            <p:cNvSpPr/>
            <p:nvPr/>
          </p:nvSpPr>
          <p:spPr>
            <a:xfrm>
              <a:off x="372060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21"/>
            <p:cNvSpPr/>
            <p:nvPr/>
          </p:nvSpPr>
          <p:spPr>
            <a:xfrm>
              <a:off x="431748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22"/>
            <p:cNvSpPr/>
            <p:nvPr/>
          </p:nvSpPr>
          <p:spPr>
            <a:xfrm>
              <a:off x="493992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23"/>
            <p:cNvSpPr/>
            <p:nvPr/>
          </p:nvSpPr>
          <p:spPr>
            <a:xfrm>
              <a:off x="554940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24"/>
            <p:cNvSpPr/>
            <p:nvPr/>
          </p:nvSpPr>
          <p:spPr>
            <a:xfrm>
              <a:off x="617184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5"/>
            <p:cNvSpPr/>
            <p:nvPr/>
          </p:nvSpPr>
          <p:spPr>
            <a:xfrm>
              <a:off x="678384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26"/>
            <p:cNvSpPr/>
            <p:nvPr/>
          </p:nvSpPr>
          <p:spPr>
            <a:xfrm>
              <a:off x="7329960" y="4723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27"/>
            <p:cNvSpPr/>
            <p:nvPr/>
          </p:nvSpPr>
          <p:spPr>
            <a:xfrm>
              <a:off x="7848720" y="3910320"/>
              <a:ext cx="76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ock 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28"/>
            <p:cNvSpPr/>
            <p:nvPr/>
          </p:nvSpPr>
          <p:spPr>
            <a:xfrm>
              <a:off x="1066680" y="22906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55"/>
          <p:cNvGrpSpPr/>
          <p:nvPr/>
        </p:nvGrpSpPr>
        <p:grpSpPr>
          <a:xfrm>
            <a:off x="1447920" y="3809880"/>
            <a:ext cx="4799880" cy="2667240"/>
            <a:chOff x="1447920" y="3809880"/>
            <a:chExt cx="4799880" cy="2667240"/>
          </a:xfrm>
        </p:grpSpPr>
        <p:sp>
          <p:nvSpPr>
            <p:cNvPr id="288" name="Oval 30"/>
            <p:cNvSpPr/>
            <p:nvPr/>
          </p:nvSpPr>
          <p:spPr>
            <a:xfrm>
              <a:off x="3810240" y="4495680"/>
              <a:ext cx="182520" cy="1825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traight Connector 39"/>
            <p:cNvSpPr/>
            <p:nvPr/>
          </p:nvSpPr>
          <p:spPr>
            <a:xfrm>
              <a:off x="1447920" y="3809880"/>
              <a:ext cx="2378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40"/>
            <p:cNvSpPr/>
            <p:nvPr/>
          </p:nvSpPr>
          <p:spPr>
            <a:xfrm>
              <a:off x="3809520" y="3809880"/>
              <a:ext cx="2438280" cy="266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54"/>
          <p:cNvGrpSpPr/>
          <p:nvPr/>
        </p:nvGrpSpPr>
        <p:grpSpPr>
          <a:xfrm>
            <a:off x="1447920" y="2057400"/>
            <a:ext cx="4571280" cy="3276720"/>
            <a:chOff x="1447920" y="2057400"/>
            <a:chExt cx="4571280" cy="3276720"/>
          </a:xfrm>
        </p:grpSpPr>
        <p:sp>
          <p:nvSpPr>
            <p:cNvPr id="292" name="Straight Connector 33"/>
            <p:cNvSpPr/>
            <p:nvPr/>
          </p:nvSpPr>
          <p:spPr>
            <a:xfrm>
              <a:off x="1447920" y="5334120"/>
              <a:ext cx="1828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34"/>
            <p:cNvSpPr/>
            <p:nvPr/>
          </p:nvSpPr>
          <p:spPr>
            <a:xfrm flipV="1">
              <a:off x="3263400" y="2057400"/>
              <a:ext cx="2755800" cy="3276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9"/>
            <p:cNvSpPr/>
            <p:nvPr/>
          </p:nvSpPr>
          <p:spPr>
            <a:xfrm>
              <a:off x="3200400" y="4470480"/>
              <a:ext cx="182520" cy="1825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Box 56"/>
          <p:cNvSpPr/>
          <p:nvPr/>
        </p:nvSpPr>
        <p:spPr>
          <a:xfrm>
            <a:off x="1359000" y="1143000"/>
            <a:ext cx="697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two Calls with lowest and highest strike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two Calls with middle strike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7"/>
          <p:cNvSpPr/>
          <p:nvPr/>
        </p:nvSpPr>
        <p:spPr>
          <a:xfrm>
            <a:off x="4681080" y="2006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uy call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8"/>
          <p:cNvSpPr/>
          <p:nvPr/>
        </p:nvSpPr>
        <p:spPr>
          <a:xfrm>
            <a:off x="4732200" y="60832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ll call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9"/>
          <p:cNvSpPr/>
          <p:nvPr/>
        </p:nvSpPr>
        <p:spPr>
          <a:xfrm>
            <a:off x="7620120" y="4876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53"/>
          <p:cNvGrpSpPr/>
          <p:nvPr/>
        </p:nvGrpSpPr>
        <p:grpSpPr>
          <a:xfrm>
            <a:off x="1434960" y="1803240"/>
            <a:ext cx="6996960" cy="3276720"/>
            <a:chOff x="1434960" y="1803240"/>
            <a:chExt cx="6996960" cy="3276720"/>
          </a:xfrm>
        </p:grpSpPr>
        <p:sp>
          <p:nvSpPr>
            <p:cNvPr id="300" name="Straight Connector 49"/>
            <p:cNvSpPr/>
            <p:nvPr/>
          </p:nvSpPr>
          <p:spPr>
            <a:xfrm>
              <a:off x="1434960" y="5079960"/>
              <a:ext cx="42512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0"/>
            <p:cNvSpPr/>
            <p:nvPr/>
          </p:nvSpPr>
          <p:spPr>
            <a:xfrm>
              <a:off x="5634000" y="4465800"/>
              <a:ext cx="182520" cy="1825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traight Connector 52"/>
            <p:cNvSpPr/>
            <p:nvPr/>
          </p:nvSpPr>
          <p:spPr>
            <a:xfrm flipV="1">
              <a:off x="5676120" y="1803240"/>
              <a:ext cx="2755800" cy="3276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Box 54"/>
          <p:cNvSpPr/>
          <p:nvPr/>
        </p:nvSpPr>
        <p:spPr>
          <a:xfrm>
            <a:off x="7551360" y="27432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uy call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5"/>
          <p:cNvGrpSpPr/>
          <p:nvPr/>
        </p:nvGrpSpPr>
        <p:grpSpPr>
          <a:xfrm>
            <a:off x="1447920" y="3987720"/>
            <a:ext cx="5867280" cy="2413080"/>
            <a:chOff x="1447920" y="3987720"/>
            <a:chExt cx="5867280" cy="2413080"/>
          </a:xfrm>
        </p:grpSpPr>
        <p:sp>
          <p:nvSpPr>
            <p:cNvPr id="305" name="Oval 61"/>
            <p:cNvSpPr/>
            <p:nvPr/>
          </p:nvSpPr>
          <p:spPr>
            <a:xfrm>
              <a:off x="5029200" y="4495680"/>
              <a:ext cx="182520" cy="1825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traight Connector 62"/>
            <p:cNvSpPr/>
            <p:nvPr/>
          </p:nvSpPr>
          <p:spPr>
            <a:xfrm>
              <a:off x="1447920" y="3987720"/>
              <a:ext cx="3657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traight Connector 63"/>
            <p:cNvSpPr/>
            <p:nvPr/>
          </p:nvSpPr>
          <p:spPr>
            <a:xfrm>
              <a:off x="5105520" y="3987720"/>
              <a:ext cx="2209680" cy="2413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Box 64"/>
          <p:cNvSpPr/>
          <p:nvPr/>
        </p:nvSpPr>
        <p:spPr>
          <a:xfrm>
            <a:off x="7323120" y="60958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ll call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78"/>
          <p:cNvGrpSpPr/>
          <p:nvPr/>
        </p:nvGrpSpPr>
        <p:grpSpPr>
          <a:xfrm>
            <a:off x="1447920" y="4190760"/>
            <a:ext cx="6696000" cy="673200"/>
            <a:chOff x="1447920" y="4190760"/>
            <a:chExt cx="6696000" cy="673200"/>
          </a:xfrm>
        </p:grpSpPr>
        <p:grpSp>
          <p:nvGrpSpPr>
            <p:cNvPr id="310" name="Group 53"/>
            <p:cNvGrpSpPr/>
            <p:nvPr/>
          </p:nvGrpSpPr>
          <p:grpSpPr>
            <a:xfrm>
              <a:off x="1447920" y="4190760"/>
              <a:ext cx="4318560" cy="673200"/>
              <a:chOff x="1447920" y="4190760"/>
              <a:chExt cx="4318560" cy="673200"/>
            </a:xfrm>
          </p:grpSpPr>
          <p:sp>
            <p:nvSpPr>
              <p:cNvPr id="311" name="Straight Connector 44"/>
              <p:cNvSpPr/>
              <p:nvPr/>
            </p:nvSpPr>
            <p:spPr>
              <a:xfrm>
                <a:off x="1447920" y="4575240"/>
                <a:ext cx="20577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45"/>
              <p:cNvSpPr/>
              <p:nvPr/>
            </p:nvSpPr>
            <p:spPr>
              <a:xfrm flipV="1">
                <a:off x="3479400" y="4190760"/>
                <a:ext cx="330120" cy="3934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Straight Connector 47"/>
              <p:cNvSpPr/>
              <p:nvPr/>
            </p:nvSpPr>
            <p:spPr>
              <a:xfrm>
                <a:off x="5106240" y="4191120"/>
                <a:ext cx="660240" cy="672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Straight Connector 51"/>
              <p:cNvSpPr/>
              <p:nvPr/>
            </p:nvSpPr>
            <p:spPr>
              <a:xfrm>
                <a:off x="3797640" y="4203720"/>
                <a:ext cx="132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Straight Connector 77"/>
            <p:cNvSpPr/>
            <p:nvPr/>
          </p:nvSpPr>
          <p:spPr>
            <a:xfrm>
              <a:off x="5765760" y="4851360"/>
              <a:ext cx="23781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Box 87"/>
          <p:cNvSpPr/>
          <p:nvPr/>
        </p:nvSpPr>
        <p:spPr>
          <a:xfrm>
            <a:off x="1752480" y="259092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hen stock price is predicted in between the middle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ombination: Straddl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318" name="Group 31"/>
          <p:cNvGrpSpPr/>
          <p:nvPr/>
        </p:nvGrpSpPr>
        <p:grpSpPr>
          <a:xfrm>
            <a:off x="1066680" y="2290680"/>
            <a:ext cx="7543800" cy="4033800"/>
            <a:chOff x="1066680" y="2290680"/>
            <a:chExt cx="7543800" cy="4033800"/>
          </a:xfrm>
        </p:grpSpPr>
        <p:cxnSp>
          <p:nvCxnSpPr>
            <p:cNvPr id="319" name="Straight Arrow Connector 4"/>
            <p:cNvCxnSpPr/>
            <p:nvPr/>
          </p:nvCxnSpPr>
          <p:spPr>
            <a:xfrm flipV="1">
              <a:off x="1447560" y="2666520"/>
              <a:ext cx="2160" cy="3658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20" name="Straight Arrow Connector 5"/>
            <p:cNvCxnSpPr/>
            <p:nvPr/>
          </p:nvCxnSpPr>
          <p:spPr>
            <a:xfrm>
              <a:off x="1449720" y="4572000"/>
              <a:ext cx="6766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1" name="Straight Connector 7"/>
            <p:cNvSpPr/>
            <p:nvPr/>
          </p:nvSpPr>
          <p:spPr>
            <a:xfrm>
              <a:off x="205704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8"/>
            <p:cNvSpPr/>
            <p:nvPr/>
          </p:nvSpPr>
          <p:spPr>
            <a:xfrm>
              <a:off x="266688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9"/>
            <p:cNvSpPr/>
            <p:nvPr/>
          </p:nvSpPr>
          <p:spPr>
            <a:xfrm>
              <a:off x="327636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10"/>
            <p:cNvSpPr/>
            <p:nvPr/>
          </p:nvSpPr>
          <p:spPr>
            <a:xfrm>
              <a:off x="388620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traight Connector 11"/>
            <p:cNvSpPr/>
            <p:nvPr/>
          </p:nvSpPr>
          <p:spPr>
            <a:xfrm>
              <a:off x="449568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traight Connector 12"/>
            <p:cNvSpPr/>
            <p:nvPr/>
          </p:nvSpPr>
          <p:spPr>
            <a:xfrm>
              <a:off x="510516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traight Connector 13"/>
            <p:cNvSpPr/>
            <p:nvPr/>
          </p:nvSpPr>
          <p:spPr>
            <a:xfrm>
              <a:off x="571500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14"/>
            <p:cNvSpPr/>
            <p:nvPr/>
          </p:nvSpPr>
          <p:spPr>
            <a:xfrm>
              <a:off x="632448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traight Connector 15"/>
            <p:cNvSpPr/>
            <p:nvPr/>
          </p:nvSpPr>
          <p:spPr>
            <a:xfrm>
              <a:off x="696276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traight Connector 16"/>
            <p:cNvSpPr/>
            <p:nvPr/>
          </p:nvSpPr>
          <p:spPr>
            <a:xfrm>
              <a:off x="7572240" y="444024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7"/>
            <p:cNvSpPr/>
            <p:nvPr/>
          </p:nvSpPr>
          <p:spPr>
            <a:xfrm>
              <a:off x="186624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18"/>
            <p:cNvSpPr/>
            <p:nvPr/>
          </p:nvSpPr>
          <p:spPr>
            <a:xfrm>
              <a:off x="248868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19"/>
            <p:cNvSpPr/>
            <p:nvPr/>
          </p:nvSpPr>
          <p:spPr>
            <a:xfrm>
              <a:off x="309816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20"/>
            <p:cNvSpPr/>
            <p:nvPr/>
          </p:nvSpPr>
          <p:spPr>
            <a:xfrm>
              <a:off x="372060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21"/>
            <p:cNvSpPr/>
            <p:nvPr/>
          </p:nvSpPr>
          <p:spPr>
            <a:xfrm>
              <a:off x="431748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22"/>
            <p:cNvSpPr/>
            <p:nvPr/>
          </p:nvSpPr>
          <p:spPr>
            <a:xfrm>
              <a:off x="493992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23"/>
            <p:cNvSpPr/>
            <p:nvPr/>
          </p:nvSpPr>
          <p:spPr>
            <a:xfrm>
              <a:off x="554940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24"/>
            <p:cNvSpPr/>
            <p:nvPr/>
          </p:nvSpPr>
          <p:spPr>
            <a:xfrm>
              <a:off x="617184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25"/>
            <p:cNvSpPr/>
            <p:nvPr/>
          </p:nvSpPr>
          <p:spPr>
            <a:xfrm>
              <a:off x="6783840" y="4723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26"/>
            <p:cNvSpPr/>
            <p:nvPr/>
          </p:nvSpPr>
          <p:spPr>
            <a:xfrm>
              <a:off x="7329960" y="4723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27"/>
            <p:cNvSpPr/>
            <p:nvPr/>
          </p:nvSpPr>
          <p:spPr>
            <a:xfrm>
              <a:off x="7848720" y="3910320"/>
              <a:ext cx="76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ock 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28"/>
            <p:cNvSpPr/>
            <p:nvPr/>
          </p:nvSpPr>
          <p:spPr>
            <a:xfrm>
              <a:off x="1066680" y="22906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54"/>
          <p:cNvGrpSpPr/>
          <p:nvPr/>
        </p:nvGrpSpPr>
        <p:grpSpPr>
          <a:xfrm>
            <a:off x="1447920" y="2971440"/>
            <a:ext cx="6095880" cy="2438640"/>
            <a:chOff x="1447920" y="2971440"/>
            <a:chExt cx="6095880" cy="2438640"/>
          </a:xfrm>
        </p:grpSpPr>
        <p:sp>
          <p:nvSpPr>
            <p:cNvPr id="344" name="Straight Connector 33"/>
            <p:cNvSpPr/>
            <p:nvPr/>
          </p:nvSpPr>
          <p:spPr>
            <a:xfrm>
              <a:off x="1447920" y="5410080"/>
              <a:ext cx="3063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traight Connector 34"/>
            <p:cNvSpPr/>
            <p:nvPr/>
          </p:nvSpPr>
          <p:spPr>
            <a:xfrm flipV="1">
              <a:off x="4495680" y="2971440"/>
              <a:ext cx="3048120" cy="243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9"/>
            <p:cNvSpPr/>
            <p:nvPr/>
          </p:nvSpPr>
          <p:spPr>
            <a:xfrm>
              <a:off x="4419720" y="4470480"/>
              <a:ext cx="182520" cy="1825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56"/>
          <p:cNvSpPr/>
          <p:nvPr/>
        </p:nvSpPr>
        <p:spPr>
          <a:xfrm>
            <a:off x="1356480" y="1295280"/>
            <a:ext cx="69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Put, and also Buy Call with same strike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7"/>
          <p:cNvSpPr/>
          <p:nvPr/>
        </p:nvSpPr>
        <p:spPr>
          <a:xfrm>
            <a:off x="6329520" y="28306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uy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8"/>
          <p:cNvSpPr/>
          <p:nvPr/>
        </p:nvSpPr>
        <p:spPr>
          <a:xfrm>
            <a:off x="7168320" y="5116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y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55"/>
          <p:cNvGrpSpPr/>
          <p:nvPr/>
        </p:nvGrpSpPr>
        <p:grpSpPr>
          <a:xfrm>
            <a:off x="1447920" y="2895480"/>
            <a:ext cx="6156360" cy="2210040"/>
            <a:chOff x="1447920" y="2895480"/>
            <a:chExt cx="6156360" cy="2210040"/>
          </a:xfrm>
        </p:grpSpPr>
        <p:sp>
          <p:nvSpPr>
            <p:cNvPr id="351" name="Straight Connector 39"/>
            <p:cNvSpPr/>
            <p:nvPr/>
          </p:nvSpPr>
          <p:spPr>
            <a:xfrm>
              <a:off x="4496040" y="5105520"/>
              <a:ext cx="3108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traight Connector 40"/>
            <p:cNvSpPr/>
            <p:nvPr/>
          </p:nvSpPr>
          <p:spPr>
            <a:xfrm>
              <a:off x="1447920" y="2895480"/>
              <a:ext cx="304812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0"/>
            <p:cNvSpPr/>
            <p:nvPr/>
          </p:nvSpPr>
          <p:spPr>
            <a:xfrm>
              <a:off x="4415040" y="4470480"/>
              <a:ext cx="182520" cy="1825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84"/>
          <p:cNvGrpSpPr/>
          <p:nvPr/>
        </p:nvGrpSpPr>
        <p:grpSpPr>
          <a:xfrm>
            <a:off x="1536840" y="3048120"/>
            <a:ext cx="6070320" cy="2806560"/>
            <a:chOff x="1536840" y="3048120"/>
            <a:chExt cx="6070320" cy="2806560"/>
          </a:xfrm>
        </p:grpSpPr>
        <p:sp>
          <p:nvSpPr>
            <p:cNvPr id="355" name="Straight Connector 44"/>
            <p:cNvSpPr/>
            <p:nvPr/>
          </p:nvSpPr>
          <p:spPr>
            <a:xfrm flipV="1">
              <a:off x="4508640" y="3048120"/>
              <a:ext cx="3098520" cy="2463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59"/>
            <p:cNvSpPr/>
            <p:nvPr/>
          </p:nvSpPr>
          <p:spPr>
            <a:xfrm>
              <a:off x="4500000" y="548640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 Eff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traight Connector 62"/>
            <p:cNvSpPr/>
            <p:nvPr/>
          </p:nvSpPr>
          <p:spPr>
            <a:xfrm>
              <a:off x="1536840" y="3352680"/>
              <a:ext cx="2984400" cy="2133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85"/>
          <p:cNvSpPr/>
          <p:nvPr/>
        </p:nvSpPr>
        <p:spPr>
          <a:xfrm>
            <a:off x="2743200" y="228600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hen stock price will make major move (increase or decr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tions Arbitrag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rbitrage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 potential for a gain, no possibility of a loss, no cash outlay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finance, arbitrage is not allowed to persist (no free lunch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“Absence of Arbitrage” rule is often used in finance to calculate option prices 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.g.: call option selling for $65 with a strike of $65, and the underlying stock is selling for $60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itrag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sel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e call ($65), and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e stock ($60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orse: option is exercised and you pocket $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est: stock is sold for less than $65 at expiration, and you pocket $65 and still own the stoc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us, call options price should be less than stock pric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ximum (upper bound) and minimum (lower bound) of options price to prevent arbit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ut Options Arbitrag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: put option with a strike price of $50 is selling for $5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rbitrage: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Sel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e put ($50), and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inves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e $50 in the ban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orse: option is exercised and you pocket the interes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est: options is not exercised, and you pocket $50 plus interes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.g.: a put option is sold at $50 with an exercise price of $50 and 90 days to maturity (assume risk free rate = 3% per quarter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maximum put value that does not result in an arbitrage?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maximum price (upper bound) for European put options is the present value of the strike price computed at the risk-free rate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895480" y="4511520"/>
                <a:ext cx="4038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imum put price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put pric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50/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1295280" y="4343400"/>
          <a:ext cx="7086600" cy="2200320"/>
        </p:xfrm>
        <a:graphic>
          <a:graphicData uri="http://schemas.openxmlformats.org/drawingml/2006/table">
            <a:tbl>
              <a:tblPr/>
              <a:tblGrid>
                <a:gridCol w="2127240"/>
                <a:gridCol w="2417760"/>
                <a:gridCol w="254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&lt;=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6539040" y="4876920"/>
                <a:ext cx="1015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3575160" y="5727600"/>
                <a:ext cx="2224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67" name=""/>
          <p:cNvGraphicFramePr/>
          <p:nvPr/>
        </p:nvGraphicFramePr>
        <p:xfrm>
          <a:off x="1295280" y="2646360"/>
          <a:ext cx="7086600" cy="1620720"/>
        </p:xfrm>
        <a:graphic>
          <a:graphicData uri="http://schemas.openxmlformats.org/drawingml/2006/table">
            <a:tbl>
              <a:tblPr/>
              <a:tblGrid>
                <a:gridCol w="2127240"/>
                <a:gridCol w="2417760"/>
                <a:gridCol w="254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&lt;=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&lt;=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8" name="Object 6"/>
              <p:cNvSpPr txBox="1"/>
              <p:nvPr/>
            </p:nvSpPr>
            <p:spPr>
              <a:xfrm>
                <a:off x="3817800" y="3780000"/>
                <a:ext cx="16416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, 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6213600" y="3786120"/>
                <a:ext cx="1639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, 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6068880" y="5715000"/>
                <a:ext cx="21351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-S,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1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pper and Lower Bound Price of Op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295280" y="1295280"/>
          <a:ext cx="7086600" cy="981360"/>
        </p:xfrm>
        <a:graphic>
          <a:graphicData uri="http://schemas.openxmlformats.org/drawingml/2006/table">
            <a:tbl>
              <a:tblPr/>
              <a:tblGrid>
                <a:gridCol w="2127240"/>
                <a:gridCol w="2417760"/>
                <a:gridCol w="254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insic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9"/>
              <p:cNvSpPr txBox="1"/>
              <p:nvPr/>
            </p:nvSpPr>
            <p:spPr>
              <a:xfrm>
                <a:off x="3983040" y="1809720"/>
                <a:ext cx="12747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, 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0"/>
              <p:cNvSpPr txBox="1"/>
              <p:nvPr/>
            </p:nvSpPr>
            <p:spPr>
              <a:xfrm>
                <a:off x="6400800" y="1803240"/>
                <a:ext cx="1295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, 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ut-Call Parity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ut-Call Parity is perhaps the most fundamental relationship in option pricing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ut-Call Parity states: the difference between the call price and the put price equals the difference between the stock price and the discounted strike pri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990720" y="3657600"/>
                <a:ext cx="27414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Rectangle 4"/>
          <p:cNvSpPr/>
          <p:nvPr/>
        </p:nvSpPr>
        <p:spPr>
          <a:xfrm>
            <a:off x="4495680" y="3733920"/>
            <a:ext cx="426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 indent="-1825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call option pric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put option pric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tock pric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trike price of the put and th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risk-free interes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ime remaining until option ex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965160" y="4648320"/>
            <a:ext cx="3454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ut-Call parity holds, there is no arbitrage relationship between Call and Put price (for European) with the same strike price and expiration d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tion Basic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 stock option is a </a:t>
            </a:r>
            <a:r>
              <a:rPr b="1" i="1" lang="en-US" sz="2000" spc="-1" strike="noStrike">
                <a:solidFill>
                  <a:srgbClr val="367d82"/>
                </a:solidFill>
                <a:latin typeface="Arial"/>
              </a:rPr>
              <a:t>derivative security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because the value of the option is “derived” from the value of the underlying common stock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 are two basic option types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ll option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re options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e underlying asse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ut option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re option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e underlying asset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tock options trade at organized options exchanges, such as the CBOE, as well as over-the-counter (OTC) options market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ptions contract traded at organized options exchange (listed options) are standardized to facilitate trading and price reporting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isted stock options give the option holder the right to buy or sell 100 shares of stock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Why Put-Call Parity Work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two securities have the same risk-less pay-off in the future, they must sell for the same price today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day, suppose an investor forms the following portfolio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uys 100 shares of Microsoft stock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uys one Microsoft put option contract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ell one Microsoft call option contract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382" name="Picture 8" descr="jor82353_tb1502"/>
          <p:cNvPicPr/>
          <p:nvPr/>
        </p:nvPicPr>
        <p:blipFill>
          <a:blip r:embed="rId1"/>
          <a:srcRect l="25290" t="0" r="0" b="0"/>
          <a:stretch/>
        </p:blipFill>
        <p:spPr>
          <a:xfrm>
            <a:off x="990720" y="3416400"/>
            <a:ext cx="594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ut-Call Parity No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tice that the portfolio is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worth $K at expiration.  That is, it is riskles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the value of this portfolio today is $K/(1+r)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at is, to prevent arbitrage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day’s cost of buying 100 shares + buying one put  + selling one call, should equal the price of a risk-less security with a face value of $K, and a maturity of T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ock pays dividend, PCP formula will be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914400" y="5410080"/>
                <a:ext cx="357336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6" name="TextBox 4"/>
          <p:cNvSpPr/>
          <p:nvPr/>
        </p:nvSpPr>
        <p:spPr>
          <a:xfrm>
            <a:off x="4863960" y="5435640"/>
            <a:ext cx="336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 = present value of any dividends paid during options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ercis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 call options is currently selling for $4.20. It has a strike price of $45 and five months to maturity. The current stock price is $47, and the risk-free rate of 5.0%. What is the price of a put option with the same exercise price and maturity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 = $4.2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 = $47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K = $4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 = 5/12 year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 = 5%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2"/>
              <p:cNvSpPr txBox="1"/>
              <p:nvPr/>
            </p:nvSpPr>
            <p:spPr>
              <a:xfrm>
                <a:off x="3581280" y="3124080"/>
                <a:ext cx="22100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3581280" y="4114800"/>
                <a:ext cx="310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%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5/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4"/>
              <p:cNvSpPr txBox="1"/>
              <p:nvPr/>
            </p:nvSpPr>
            <p:spPr>
              <a:xfrm>
                <a:off x="6934320" y="4308480"/>
                <a:ext cx="15112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1219320" y="25909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ing Options Before Ex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457200" y="763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One-Period Binomial Option Pricing</a:t>
            </a:r>
            <a:br>
              <a:rPr sz="3200"/>
            </a:b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 Model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533520" y="990720"/>
            <a:ext cx="830556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ssume we buy stock and sell call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tock pric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S = $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K = $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eriod to maturity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T = 1 period (mature in one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r  = 3% per on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troducing new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p factor of stock pric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u = 1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own factor of stock pric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d = 0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actional share of stock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</a:t>
            </a:r>
            <a:r>
              <a:rPr b="0" lang="el-GR" sz="2000" spc="-1" strike="noStrike">
                <a:solidFill>
                  <a:srgbClr val="2b2c0e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del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(% stock in portfol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What is call options price toda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3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3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457200" y="763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One-Period Binomial Option Pricing</a:t>
            </a:r>
            <a:br>
              <a:rPr sz="3200"/>
            </a:b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 Model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 flipV="1">
            <a:off x="2128680" y="1460160"/>
            <a:ext cx="106704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919440" y="157464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3318120" y="122724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 x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3327840" y="189864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 x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4612320" y="12193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0 x 1.10 =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"/>
          <p:cNvSpPr/>
          <p:nvPr/>
        </p:nvSpPr>
        <p:spPr>
          <a:xfrm>
            <a:off x="2128680" y="1765440"/>
            <a:ext cx="1067040" cy="30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9"/>
          <p:cNvSpPr/>
          <p:nvPr/>
        </p:nvSpPr>
        <p:spPr>
          <a:xfrm>
            <a:off x="4619160" y="18986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0 x 0.95 =   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5"/>
          <p:cNvSpPr/>
          <p:nvPr/>
        </p:nvSpPr>
        <p:spPr>
          <a:xfrm flipV="1">
            <a:off x="2135160" y="298404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1"/>
          <p:cNvSpPr/>
          <p:nvPr/>
        </p:nvSpPr>
        <p:spPr>
          <a:xfrm>
            <a:off x="1608120" y="3098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2"/>
          <p:cNvSpPr/>
          <p:nvPr/>
        </p:nvSpPr>
        <p:spPr>
          <a:xfrm>
            <a:off x="3358080" y="2751120"/>
            <a:ext cx="25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ax(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 , 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4"/>
          <p:cNvSpPr/>
          <p:nvPr/>
        </p:nvSpPr>
        <p:spPr>
          <a:xfrm>
            <a:off x="5756040" y="274320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ax(110-100 , 0)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5"/>
          <p:cNvSpPr/>
          <p:nvPr/>
        </p:nvSpPr>
        <p:spPr>
          <a:xfrm>
            <a:off x="2135160" y="328932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7"/>
          <p:cNvSpPr/>
          <p:nvPr/>
        </p:nvSpPr>
        <p:spPr>
          <a:xfrm>
            <a:off x="3359520" y="3398760"/>
            <a:ext cx="25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ax(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 , 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8"/>
          <p:cNvSpPr/>
          <p:nvPr/>
        </p:nvSpPr>
        <p:spPr>
          <a:xfrm>
            <a:off x="5724720" y="339084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ax(95 – 100 , 0) =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"/>
          <p:cNvSpPr/>
          <p:nvPr/>
        </p:nvSpPr>
        <p:spPr>
          <a:xfrm flipV="1">
            <a:off x="2138400" y="520488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0"/>
          <p:cNvSpPr/>
          <p:nvPr/>
        </p:nvSpPr>
        <p:spPr>
          <a:xfrm>
            <a:off x="1146600" y="530712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1"/>
          <p:cNvSpPr/>
          <p:nvPr/>
        </p:nvSpPr>
        <p:spPr>
          <a:xfrm>
            <a:off x="3328920" y="497196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x u -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2138400" y="551016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4"/>
          <p:cNvSpPr/>
          <p:nvPr/>
        </p:nvSpPr>
        <p:spPr>
          <a:xfrm>
            <a:off x="3333600" y="561960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x d -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6"/>
          <p:cNvSpPr/>
          <p:nvPr/>
        </p:nvSpPr>
        <p:spPr>
          <a:xfrm>
            <a:off x="576360" y="4262400"/>
            <a:ext cx="79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tock, then portfolio value will b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952560" y="5143680"/>
            <a:ext cx="12952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8"/>
          <p:cNvSpPr/>
          <p:nvPr/>
        </p:nvSpPr>
        <p:spPr>
          <a:xfrm>
            <a:off x="558720" y="590544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value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162240" y="4851360"/>
            <a:ext cx="1752840" cy="1308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0"/>
          <p:cNvSpPr/>
          <p:nvPr/>
        </p:nvSpPr>
        <p:spPr>
          <a:xfrm>
            <a:off x="2743200" y="6211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value at 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31"/>
          <p:cNvSpPr/>
          <p:nvPr/>
        </p:nvSpPr>
        <p:spPr>
          <a:xfrm>
            <a:off x="5299200" y="4857840"/>
            <a:ext cx="361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 a riskless portfolio, investors choose the size of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that portfolio has the same value at mat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2"/>
          <p:cNvSpPr/>
          <p:nvPr/>
        </p:nvSpPr>
        <p:spPr>
          <a:xfrm>
            <a:off x="540360" y="30862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 ca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457200" y="763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One-Period Binomial Option Pricing</a:t>
            </a:r>
            <a:br>
              <a:rPr sz="3200"/>
            </a:b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 Model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"/>
          <p:cNvSpPr/>
          <p:nvPr/>
        </p:nvSpPr>
        <p:spPr>
          <a:xfrm>
            <a:off x="1001880" y="1219320"/>
            <a:ext cx="31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x u –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x d -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5257800" y="1486080"/>
                <a:ext cx="20336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lta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5" name="TextBox 4"/>
          <p:cNvSpPr/>
          <p:nvPr/>
        </p:nvSpPr>
        <p:spPr>
          <a:xfrm>
            <a:off x="1000080" y="165744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Arrow Connector 6"/>
          <p:cNvCxnSpPr/>
          <p:nvPr/>
        </p:nvCxnSpPr>
        <p:spPr>
          <a:xfrm>
            <a:off x="3733920" y="1828440"/>
            <a:ext cx="1372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Box 7"/>
          <p:cNvSpPr/>
          <p:nvPr/>
        </p:nvSpPr>
        <p:spPr>
          <a:xfrm>
            <a:off x="1023840" y="234000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previous 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1123920" y="2973240"/>
                <a:ext cx="26100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TextBox 9"/>
          <p:cNvSpPr/>
          <p:nvPr/>
        </p:nvSpPr>
        <p:spPr>
          <a:xfrm>
            <a:off x="3962520" y="29494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folio contains 200 shares and one (100 share) c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2438280" y="48006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2"/>
          <p:cNvSpPr/>
          <p:nvPr/>
        </p:nvSpPr>
        <p:spPr>
          <a:xfrm>
            <a:off x="533520" y="42451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folio valu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3"/>
          <p:cNvSpPr/>
          <p:nvPr/>
        </p:nvSpPr>
        <p:spPr>
          <a:xfrm>
            <a:off x="6248520" y="42670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folio value at mat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4"/>
          <p:cNvSpPr/>
          <p:nvPr/>
        </p:nvSpPr>
        <p:spPr>
          <a:xfrm>
            <a:off x="1989360" y="50292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5"/>
          <p:cNvSpPr/>
          <p:nvPr/>
        </p:nvSpPr>
        <p:spPr>
          <a:xfrm>
            <a:off x="5416200" y="502920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x u -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6"/>
          <p:cNvSpPr/>
          <p:nvPr/>
        </p:nvSpPr>
        <p:spPr>
          <a:xfrm>
            <a:off x="7259400" y="502920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x d -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7"/>
          <p:cNvSpPr/>
          <p:nvPr/>
        </p:nvSpPr>
        <p:spPr>
          <a:xfrm>
            <a:off x="6821640" y="5010120"/>
            <a:ext cx="4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8"/>
          <p:cNvSpPr/>
          <p:nvPr/>
        </p:nvSpPr>
        <p:spPr>
          <a:xfrm>
            <a:off x="4193640" y="42670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4"/>
              <p:cNvSpPr txBox="1"/>
              <p:nvPr/>
            </p:nvSpPr>
            <p:spPr>
              <a:xfrm>
                <a:off x="3352680" y="5562720"/>
                <a:ext cx="2011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5"/>
              <p:cNvSpPr txBox="1"/>
              <p:nvPr/>
            </p:nvSpPr>
            <p:spPr>
              <a:xfrm>
                <a:off x="2347920" y="6019920"/>
                <a:ext cx="4022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*S*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Δ*S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763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The One-Period Binomial Option Pricing</a:t>
            </a:r>
            <a:br>
              <a:rPr sz="3200"/>
            </a:b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 Model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1032840" y="358128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alculate put options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1600200" y="4267080"/>
                <a:ext cx="22096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3"/>
              <p:cNvSpPr txBox="1"/>
              <p:nvPr/>
            </p:nvSpPr>
            <p:spPr>
              <a:xfrm>
                <a:off x="1295280" y="5105520"/>
                <a:ext cx="2881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%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4"/>
              <p:cNvSpPr txBox="1"/>
              <p:nvPr/>
            </p:nvSpPr>
            <p:spPr>
              <a:xfrm>
                <a:off x="4481640" y="5295960"/>
                <a:ext cx="15094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5"/>
              <p:cNvSpPr txBox="1"/>
              <p:nvPr/>
            </p:nvSpPr>
            <p:spPr>
              <a:xfrm>
                <a:off x="5943600" y="2565360"/>
                <a:ext cx="1676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6"/>
              <p:cNvSpPr txBox="1"/>
              <p:nvPr/>
            </p:nvSpPr>
            <p:spPr>
              <a:xfrm>
                <a:off x="1630440" y="1371600"/>
                <a:ext cx="3106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*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7"/>
              <p:cNvSpPr txBox="1"/>
              <p:nvPr/>
            </p:nvSpPr>
            <p:spPr>
              <a:xfrm>
                <a:off x="1679400" y="2347920"/>
                <a:ext cx="4111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3*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%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Binomial Option Pricing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Model with Many Period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876560" y="1217160"/>
            <a:ext cx="380988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there are more than two periods, nothing really changes—we just keep working on back to toda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Happens When the Number of Periods Gets Really, Really Big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always use a computer to handle this situation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However, for European options on non-dividend paying stocks, the binomial method converges to the Black-Scholes option pricing formula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450" name="Picture 5" descr="jor82353_f1604"/>
          <p:cNvPicPr/>
          <p:nvPr/>
        </p:nvPicPr>
        <p:blipFill>
          <a:blip r:embed="rId1"/>
          <a:stretch/>
        </p:blipFill>
        <p:spPr>
          <a:xfrm>
            <a:off x="838080" y="1295280"/>
            <a:ext cx="36640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Black-Schole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ption Pricing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lack-Scholes option pricing model calculates the price of European options on non-dividend paying stock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lack-Scholes option pricing model says the value of a stock option is determined by five factors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b2c0e"/>
              </a:buClr>
              <a:buSzPct val="80000"/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, the current price of the underlying stock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b2c0e"/>
              </a:buClr>
              <a:buSzPct val="80000"/>
              <a:buFont typeface="Wingdings" charset="2"/>
              <a:buChar char="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, the strike price specified in the option contract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b2c0e"/>
              </a:buClr>
              <a:buSzPct val="80000"/>
              <a:buFont typeface="Wingdings" charset="2"/>
              <a:buChar char="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, the risk-free interest rate over the life of the option contract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b2c0e"/>
              </a:buClr>
              <a:buSzPct val="80000"/>
              <a:buFont typeface="Wingdings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, the time remaining until the option contract expire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2b2c0e"/>
              </a:buClr>
              <a:buSzPct val="80000"/>
              <a:buFont typeface="Wing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, (sigma) which is the price volatility of the underlying stock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tion Basic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lnSpc>
                <a:spcPct val="95000"/>
              </a:lnSpc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minimum terms stipulated by stock option contracts are: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lnSpc>
                <a:spcPct val="95000"/>
              </a:lnSpc>
              <a:spcBef>
                <a:spcPts val="1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identity of the underlying stoc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lnSpc>
                <a:spcPct val="95000"/>
              </a:lnSpc>
              <a:spcBef>
                <a:spcPts val="1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strike price, or exercise pric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lnSpc>
                <a:spcPct val="95000"/>
              </a:lnSpc>
              <a:spcBef>
                <a:spcPts val="1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option contract siz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lnSpc>
                <a:spcPct val="95000"/>
              </a:lnSpc>
              <a:spcBef>
                <a:spcPts val="1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option expiration date, or option maturity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lnSpc>
                <a:spcPct val="95000"/>
              </a:lnSpc>
              <a:spcBef>
                <a:spcPts val="1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option exercise style (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America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uropea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lnSpc>
                <a:spcPct val="95000"/>
              </a:lnSpc>
              <a:spcBef>
                <a:spcPts val="1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delivery, or settlement, procedur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Options Clearing Corporation (OCC)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CC is a private agency that guarantees that the terms of an option contract will be fulfilled if the option is exercised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OCC issues and clears all option contracts trading on U.S. exchange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 that the exchanges and the OCC are all subject to regulation by the Securities and Exchange Commission (SEC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Black-Schole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ption Pricing Formula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ice of a call option on a single share of common stock is: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S.N(d</a:t>
            </a:r>
            <a:r>
              <a:rPr b="0" i="1" lang="en-US" sz="24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) – K.e</a:t>
            </a:r>
            <a:r>
              <a:rPr b="0" i="1" lang="en-US" sz="2400" spc="-1" strike="noStrike" baseline="30000">
                <a:solidFill>
                  <a:srgbClr val="2b2c0e"/>
                </a:solidFill>
                <a:latin typeface="Arial"/>
              </a:rPr>
              <a:t>–rT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N(d</a:t>
            </a:r>
            <a:r>
              <a:rPr b="0" i="1" lang="en-US" sz="2400" spc="-1" strike="noStrike" baseline="-25000">
                <a:solidFill>
                  <a:srgbClr val="2b2c0e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)</a:t>
            </a:r>
            <a:br>
              <a:rPr sz="2400"/>
            </a:b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ice of a put option on a single share of common stock is: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.e</a:t>
            </a:r>
            <a:r>
              <a:rPr b="0" i="1" lang="en-US" sz="2400" spc="-1" strike="noStrike" baseline="30000">
                <a:solidFill>
                  <a:srgbClr val="2b2c0e"/>
                </a:solidFill>
                <a:latin typeface="Arial"/>
              </a:rPr>
              <a:t>–rT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N(–d</a:t>
            </a:r>
            <a:r>
              <a:rPr b="0" i="1" lang="en-US" sz="2400" spc="-1" strike="noStrike" baseline="-25000">
                <a:solidFill>
                  <a:srgbClr val="2b2c0e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) – S.N(–d</a:t>
            </a:r>
            <a:r>
              <a:rPr b="0" i="1" lang="en-US" sz="24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lvl="1"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(d1) and N(d2) denotes the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standard normal probability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or the values of d1 and d2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(-d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 = 1 - N(d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2895480" y="3397320"/>
                <a:ext cx="27990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puts: S = $50, K = $45, T = 3 months (or 0.25 years), </a:t>
            </a:r>
            <a:r>
              <a:rPr b="1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25% (stock volatility), and r = 6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is the price of a call option and a put option, using the Black-Scholes option pricing formula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begin by calculating d1 and d2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990720" y="3886200"/>
                <a:ext cx="68911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 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36 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125 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38</m:t>
                        </m:r>
                      </m:e>
                      <m:e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3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03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swer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andard normal probabil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(d1)=NORMSDIST(1.02538), we obtain 0.84741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(d2) =NORMSDIST(0.90038), we obtain 0.81604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et’s make use of the fact N(-d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 = 1 - N(d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(-d1) = N(-1.02538) = 1 – N(1.02538) = 1 – 0.84741 = 0.15259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(-d2) = N(-0.90038) = 1 – N(0.90038) = 1 – 0.81604 = 0.18396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all and Put options pric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Call Price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SN(d</a:t>
            </a:r>
            <a:r>
              <a:rPr b="0" i="1" lang="en-US" sz="20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) – Ke</a:t>
            </a:r>
            <a:r>
              <a:rPr b="0" i="1" lang="en-US" sz="2000" spc="-1" strike="noStrike" baseline="30000">
                <a:solidFill>
                  <a:srgbClr val="2b2c0e"/>
                </a:solidFill>
                <a:latin typeface="Arial"/>
              </a:rPr>
              <a:t>–rT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N(d</a:t>
            </a:r>
            <a:r>
              <a:rPr b="0" i="1" lang="en-US" sz="2000" spc="-1" strike="noStrike" baseline="-25000">
                <a:solidFill>
                  <a:srgbClr val="2b2c0e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= $50 x</a:t>
            </a:r>
            <a:r>
              <a:rPr b="0" i="1" lang="en-US" sz="2000" spc="-1" strike="noStrike" baseline="30000">
                <a:solidFill>
                  <a:srgbClr val="2b2c0e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0.84741 – 45 x e</a:t>
            </a:r>
            <a:r>
              <a:rPr b="0" i="1" lang="en-US" sz="2000" spc="-1" strike="noStrike" baseline="30000">
                <a:solidFill>
                  <a:srgbClr val="2b2c0e"/>
                </a:solidFill>
                <a:latin typeface="Arial"/>
              </a:rPr>
              <a:t>-(0.06)(0.25)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x 0.81604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$6.19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Put Price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e</a:t>
            </a:r>
            <a:r>
              <a:rPr b="0" i="1" lang="en-US" sz="2000" spc="-1" strike="noStrike" baseline="30000">
                <a:solidFill>
                  <a:srgbClr val="2b2c0e"/>
                </a:solidFill>
                <a:latin typeface="Arial"/>
              </a:rPr>
              <a:t>–rT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N(–d</a:t>
            </a:r>
            <a:r>
              <a:rPr b="0" i="1" lang="en-US" sz="2000" spc="-1" strike="noStrike" baseline="-25000">
                <a:solidFill>
                  <a:srgbClr val="2b2c0e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) – SN(–d</a:t>
            </a:r>
            <a:r>
              <a:rPr b="0" i="1" lang="en-US" sz="20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$45 x e</a:t>
            </a:r>
            <a:r>
              <a:rPr b="0" i="1" lang="en-US" sz="2000" spc="-1" strike="noStrike" baseline="30000">
                <a:solidFill>
                  <a:srgbClr val="2b2c0e"/>
                </a:solidFill>
                <a:latin typeface="Arial"/>
              </a:rPr>
              <a:t>-(0.06)(0.25)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x</a:t>
            </a:r>
            <a:r>
              <a:rPr b="0" i="1" lang="en-US" sz="2000" spc="-1" strike="noStrike" baseline="30000">
                <a:solidFill>
                  <a:srgbClr val="2b2c0e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0.18396 – 50 </a:t>
            </a:r>
            <a:r>
              <a:rPr b="0" i="1" lang="en-US" sz="2000" spc="-1" strike="noStrike" baseline="30000">
                <a:solidFill>
                  <a:srgbClr val="2b2c0e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x 0.15259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$0.52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9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9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9" dur="500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9" dur="500"/>
                                        <p:tgtEl>
                                          <p:spTgt spid="4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4" dur="500"/>
                                        <p:tgtEl>
                                          <p:spTgt spid="4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4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4" dur="500"/>
                                        <p:tgtEl>
                                          <p:spTgt spid="4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heck (PCP Formula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2"/>
              <p:cNvSpPr txBox="1"/>
              <p:nvPr/>
            </p:nvSpPr>
            <p:spPr>
              <a:xfrm>
                <a:off x="2008080" y="2243160"/>
                <a:ext cx="4545000" cy="26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$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$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$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4" name="Text Box 5"/>
          <p:cNvSpPr/>
          <p:nvPr/>
        </p:nvSpPr>
        <p:spPr>
          <a:xfrm>
            <a:off x="91440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e options must have European-style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Varying the Option Price Input Valu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 important goal of this chapter is to show how an option price changes when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nly on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of the five inputs chang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table below summarizes these effects (for options with European-style exercise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467" name="Picture 9" descr="jor82353_tb1603"/>
          <p:cNvPicPr/>
          <p:nvPr/>
        </p:nvPicPr>
        <p:blipFill>
          <a:blip r:embed="rId1"/>
          <a:srcRect l="25290" t="0" r="0" b="0"/>
          <a:stretch/>
        </p:blipFill>
        <p:spPr>
          <a:xfrm>
            <a:off x="947880" y="3124080"/>
            <a:ext cx="7815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1"/>
          <p:cNvSpPr/>
          <p:nvPr/>
        </p:nvSpPr>
        <p:spPr>
          <a:xfrm>
            <a:off x="1219320" y="2590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a (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What is Delta ( </a:t>
            </a:r>
            <a:r>
              <a:rPr b="0" lang="en-US" sz="3500" spc="-1" strike="noStrike">
                <a:solidFill>
                  <a:srgbClr val="2b2c0e"/>
                </a:solidFill>
                <a:latin typeface="Symbol"/>
                <a:ea typeface="Symbol"/>
              </a:rPr>
              <a:t></a:t>
            </a: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)?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binomial model, delta (</a:t>
            </a:r>
            <a:r>
              <a:rPr b="0" lang="el-GR" sz="2400" spc="-1" strike="noStrike">
                <a:solidFill>
                  <a:srgbClr val="2b2c0e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 is a proportion of shares that is needed to form a risk-free portfolio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at is, a portfolio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hare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lls option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at does not change in value when stock price change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say that delta is a fractional share amount needed to hedge one call (or riskless hedge ratio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fore, the number of calls options to hedge one share of stock is 1/</a:t>
            </a:r>
            <a:r>
              <a:rPr b="0" lang="en-US" sz="2000" spc="-1" strike="noStrike">
                <a:solidFill>
                  <a:srgbClr val="2b2c0e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binomial model, delta is calculated over discrete time periods (which can be very short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Black-Scholes model, time periods are infinitesimally shor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lta is measured as an instantaneous change in the options price when the stock price change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5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3" dur="500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elta in Black-Scholes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important effect on option prices is how changes 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ck pric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ffect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ption pric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is approximate effect is called as “Delta”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other inputs also affect the option price, but we will concentrate on Delta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67d82"/>
                </a:solidFill>
                <a:latin typeface="Arial"/>
              </a:rPr>
              <a:t>Delta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easures the </a:t>
            </a:r>
            <a:r>
              <a:rPr b="1" i="1" lang="en-US" sz="2400" spc="-1" strike="noStrike">
                <a:solidFill>
                  <a:srgbClr val="367d82"/>
                </a:solidFill>
                <a:latin typeface="Arial"/>
              </a:rPr>
              <a:t>dollar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mpact of a change in the underlying stock price on the value of a stock op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ll option delta =  N(d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&gt; 0 (positive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t option delta = –N(–d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&lt; 0 (negative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$1 change in the stock price causes an option price to change by approximately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elta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ollar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0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5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0" dur="50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5" dur="500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0" dur="50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5" dur="50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llust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YZ stock has a price of $50 and annual return volatility off 25%. The riskless interest rate is 6%. Call and put options with strike price $45 have 3 months time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Black-Scholes model we get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ptions price = $6.195, and Call Delta = N(d1) = 0.8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options price = $0.525, and Put Delta = -N(-d1) = 0.1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tock price changes from $50 to $51, the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ptions pri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6.195 + $0.85 = $7.0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options pri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0.525 – 0.15% = $0.38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just approximation, not true pric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7" dur="5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2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7" dur="5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7" dur="500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2" dur="500"/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4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Hedging with Stock Optio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own a number of XYZ stock share AND you want </a:t>
            </a:r>
            <a:r>
              <a:rPr b="0" lang="en-US" sz="2400" spc="-1" strike="noStrike" u="sng">
                <a:solidFill>
                  <a:srgbClr val="2b2c0e"/>
                </a:solidFill>
                <a:uFillTx/>
                <a:latin typeface="Arial"/>
              </a:rPr>
              <a:t>protec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rom a price declin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ou want changes in the value of your XYZ shares to be offset by the value of your options posi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u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1371600" y="3581280"/>
                <a:ext cx="4826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g in Stock Valu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hg in Options Valu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4"/>
              <p:cNvSpPr txBox="1"/>
              <p:nvPr/>
            </p:nvSpPr>
            <p:spPr>
              <a:xfrm>
                <a:off x="1168560" y="4343400"/>
                <a:ext cx="2336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g in S x shared hel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5"/>
              <p:cNvSpPr txBox="1"/>
              <p:nvPr/>
            </p:nvSpPr>
            <p:spPr>
              <a:xfrm>
                <a:off x="3505320" y="4330800"/>
                <a:ext cx="4800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Chg in options price x number of options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Right Brace 7"/>
          <p:cNvSpPr/>
          <p:nvPr/>
        </p:nvSpPr>
        <p:spPr>
          <a:xfrm rot="5400000">
            <a:off x="2171160" y="3162240"/>
            <a:ext cx="380880" cy="1981080"/>
          </a:xfrm>
          <a:custGeom>
            <a:avLst/>
            <a:gdLst>
              <a:gd name="textAreaLeft" fmla="*/ 0 w 380880"/>
              <a:gd name="textAreaRight" fmla="*/ 137520 w 380880"/>
              <a:gd name="textAreaTop" fmla="*/ 37440 h 1981080"/>
              <a:gd name="textAreaBottom" fmla="*/ 1943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58"/>
                  <a:pt x="10800" y="1315"/>
                </a:cubicBezTo>
                <a:lnTo>
                  <a:pt x="10800" y="9485"/>
                </a:lnTo>
                <a:cubicBezTo>
                  <a:pt x="10800" y="10143"/>
                  <a:pt x="16200" y="10800"/>
                  <a:pt x="21600" y="10800"/>
                </a:cubicBezTo>
                <a:cubicBezTo>
                  <a:pt x="16200" y="10800"/>
                  <a:pt x="10800" y="11458"/>
                  <a:pt x="10800" y="12115"/>
                </a:cubicBezTo>
                <a:lnTo>
                  <a:pt x="10800" y="20285"/>
                </a:lnTo>
                <a:cubicBezTo>
                  <a:pt x="10800" y="2094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ight Brace 8"/>
          <p:cNvSpPr/>
          <p:nvPr/>
        </p:nvSpPr>
        <p:spPr>
          <a:xfrm rot="5400000">
            <a:off x="4495320" y="3047760"/>
            <a:ext cx="380880" cy="2210040"/>
          </a:xfrm>
          <a:custGeom>
            <a:avLst/>
            <a:gdLst>
              <a:gd name="textAreaLeft" fmla="*/ 0 w 380880"/>
              <a:gd name="textAreaRight" fmla="*/ 137520 w 380880"/>
              <a:gd name="textAreaTop" fmla="*/ 37440 h 2210040"/>
              <a:gd name="textAreaBottom" fmla="*/ 21726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0"/>
                  <a:pt x="10800" y="1179"/>
                </a:cubicBezTo>
                <a:lnTo>
                  <a:pt x="10800" y="4407"/>
                </a:lnTo>
                <a:cubicBezTo>
                  <a:pt x="10800" y="4997"/>
                  <a:pt x="16200" y="5586"/>
                  <a:pt x="21600" y="5586"/>
                </a:cubicBezTo>
                <a:cubicBezTo>
                  <a:pt x="16200" y="5586"/>
                  <a:pt x="10800" y="6176"/>
                  <a:pt x="10800" y="6765"/>
                </a:cubicBezTo>
                <a:lnTo>
                  <a:pt x="10800" y="20421"/>
                </a:lnTo>
                <a:cubicBezTo>
                  <a:pt x="10800" y="2101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7"/>
              <p:cNvSpPr txBox="1"/>
              <p:nvPr/>
            </p:nvSpPr>
            <p:spPr>
              <a:xfrm>
                <a:off x="1168560" y="4800600"/>
                <a:ext cx="2336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g in S x shared hel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8"/>
              <p:cNvSpPr txBox="1"/>
              <p:nvPr/>
            </p:nvSpPr>
            <p:spPr>
              <a:xfrm>
                <a:off x="3505320" y="4800600"/>
                <a:ext cx="2082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hg in S x Delt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9"/>
              <p:cNvSpPr txBox="1"/>
              <p:nvPr/>
            </p:nvSpPr>
            <p:spPr>
              <a:xfrm>
                <a:off x="5638680" y="4800600"/>
                <a:ext cx="2514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 number of options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10"/>
              <p:cNvSpPr txBox="1"/>
              <p:nvPr/>
            </p:nvSpPr>
            <p:spPr>
              <a:xfrm>
                <a:off x="1168560" y="5537160"/>
                <a:ext cx="3784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of Options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hare</m:t>
                        </m:r>
                        <m:r>
                          <m:rPr>
                            <m:lit/>
                            <m:nor/>
                          </m:rPr>
                          <m:t xml:space="preserve"> hel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lt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TextBox 15"/>
          <p:cNvSpPr/>
          <p:nvPr/>
        </p:nvSpPr>
        <p:spPr>
          <a:xfrm>
            <a:off x="5270760" y="5540400"/>
            <a:ext cx="335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s sign = we se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sign = we buy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4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4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tion Writing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act of selling an option is referred to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on writing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seller of an option contract i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riter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writ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f a call option contra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bligated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sell the underlying asset to the call option holde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call optio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older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exercise the call option (i.e., buy the underlying asset at the strike price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writ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f a put option contra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bligate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buy the underlying asset from the put option holde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put optio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older ha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exercise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put option (i.e., sell the underlying asset at the strike price)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ecau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on writing obligates the option writer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, the option writer receives the price of the option today from the option buye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llustration: Call Optio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previous example, we have 1,000 shares of XYZ stock (price = $50). There are options with strike price of $45 and information below: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ptions price = $6.195, and Call Delta = N(d1) = 0.8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options price = $0.525, and Put Delta = -N(-d1) = 0.1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hedge the price decline of XYZ with call options, how many call options we need to sell (write)?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traded call options have 100 options per contract, we need to write about 12 call contracts with strike price of $45 (to hedge 1,000 XYZ shares)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1143000"/>
                <a:tab algn="l" pos="37148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371600" y="4241880"/>
                <a:ext cx="36576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of Options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hare</m:t>
                        </m:r>
                        <m:r>
                          <m:rPr>
                            <m:lit/>
                            <m:nor/>
                          </m:rPr>
                          <m:t xml:space="preserve"> hel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lt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54760" y="4241880"/>
                <a:ext cx="21841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,0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2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2" dur="5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Illustration: Call Option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 XYZ Shares fall by $1, so you lose $1,00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about the value of your option position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t the new XYZ stock price of $49, each call option is now worth $5.37—a decrease of $0.83 for each call ($83 per contract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ecause you wrote 12 call option contracts at $6.20 (rounded), your call option gain was $996 = ($6.20 - $5.37)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12 ×100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call option gain nearly offsets your loss of $1,000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y is it not exact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all Delta falls when the stock price fall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refore, you did not sell quite enough call option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9" dur="5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9" dur="500"/>
                                        <p:tgtEl>
                                          <p:spTgt spid="4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Hedging a Portfolio with Index Option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227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any institutional money managers use stock index options to hedge the equity portfolios they manag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form an effective hedge, the number of option contracts needed can be calculated with this formula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gula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balancin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s needed to maintain an effective hedge over time.  Why?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nderlying Value Changes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ption Delta Change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ortfolio Value Change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ortfolio Beta Change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1119240" y="2895480"/>
                <a:ext cx="680544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of Option Contracts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ortfolio Bet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ortfolio Valu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tion Delt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Index Value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6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1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1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6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9" dur="5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2" dur="500"/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5" dur="500"/>
                                        <p:tgtEl>
                                          <p:spTgt spid="4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b2c0e"/>
                </a:solidFill>
                <a:latin typeface="Arial"/>
              </a:rPr>
              <a:t>Example: Hedging With Index Options</a:t>
            </a:r>
            <a:endParaRPr b="0" lang="en-US" sz="31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$10,000,000 portfolio has a beta of 1.00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decide to hedge the value of this portfolio with the sale of call optio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call options have a delta of 0.579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value of the index is 1,508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2"/>
              <p:cNvSpPr txBox="1"/>
              <p:nvPr/>
            </p:nvSpPr>
            <p:spPr>
              <a:xfrm>
                <a:off x="1684440" y="4105440"/>
                <a:ext cx="6162480" cy="16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Option Contract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ortfolio Beta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rtfolio Valu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ption Delta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ex Value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,000,00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9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508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2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7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7" dur="500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47560" y="30481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2c0e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tion Exercis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ption holders hav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ght to exercis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ir op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f this right is only available at the option expiration date, the option is said to have a </a:t>
            </a:r>
            <a:r>
              <a:rPr b="1" lang="en-US" sz="2200" spc="-1" strike="noStrike">
                <a:solidFill>
                  <a:srgbClr val="9900ff"/>
                </a:solidFill>
                <a:latin typeface="Arial"/>
              </a:rPr>
              <a:t>European-style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xercise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f this right is available at any time up to and including the option expiration date, the option is said to have an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merican-style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xercise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xercise style is not linked to where the option trades. 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European-style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merican-styl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ptions trade in the U.S., as well as on other option exchanges throughout the worl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Very Important:  Option holders also hav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 to sell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their option at any time.  That is, they do not have to exercise the option if they no longer want i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isted Option Quotatio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3" name="Picture 5" descr="jor30719_1501"/>
          <p:cNvPicPr/>
          <p:nvPr/>
        </p:nvPicPr>
        <p:blipFill>
          <a:blip r:embed="rId1"/>
          <a:stretch/>
        </p:blipFill>
        <p:spPr>
          <a:xfrm>
            <a:off x="685800" y="1143000"/>
            <a:ext cx="792468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tock Option Ticker Symbol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45" name="Object 7"/>
          <p:cNvGraphicFramePr/>
          <p:nvPr/>
        </p:nvGraphicFramePr>
        <p:xfrm>
          <a:off x="514440" y="1219320"/>
          <a:ext cx="83246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219320"/>
                    <a:ext cx="83246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tock Index Optio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stock index option is an option on a stock market index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most popular stock index options are options on the S&amp;P 100, S&amp;P 500, and Dow Jones Industrial Average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ecause the actual delivery of all stocks comprising a stock index is impractical, stock index options have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cash settlement procedur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at is, if the option expires in the money, the option writer simply pays the option holder the intrinsic value of the op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cash settlement procedure is the same for calls and pu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Jimmy</cp:lastModifiedBy>
  <dcterms:modified xsi:type="dcterms:W3CDTF">2013-12-11T03:08:31Z</dcterms:modified>
  <cp:revision>373</cp:revision>
  <dc:subject/>
  <dc:title>Slide 1</dc:title>
</cp:coreProperties>
</file>