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bomb.wav" ContentType="audio/x-wav"/>
  <Override PartName="/ppt/media/image2.jpeg" ContentType="image/jpeg"/>
  <Override PartName="/ppt/media/y%C3%BCr%C3%BCy%C3%BC%C5%9F.wav" ContentType="audio/x-wav"/>
  <Override PartName="/ppt/media/image4.jpeg" ContentType="image/jpeg"/>
  <Override PartName="/ppt/media/image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541BC-136F-4367-B17B-B528F35D6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39C84-8A1B-4ADF-A998-AC4A2CDCD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06D90-CC59-4FA8-B863-1F902A65A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56B8E-1382-4A91-8F00-AF61DCFFD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1ADE6-4E20-4CC4-A933-53C0155AC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5773D-BC51-42F4-B3DF-E55F4B3A9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7547F-7F2F-439B-B719-27DFCA6AC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B9E8F-245B-40CD-88AA-508E8CE5B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600A6-6D0E-49B9-AA81-66B7162A5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D92E1-3A5A-4B7A-8B58-BFAED4B33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9985D-4219-4907-A20D-AD2729047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15510-EA00-4143-9FD1-120F10B65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B83DA-04F7-4CDE-B28E-09284E99814F}" type="slidenum">
              <a:rPr b="0" lang="tr-T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bomb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y&#252;r&#252;y&#252;&#351;.wav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n752582647_257908_9984"/>
          <p:cNvPicPr/>
          <p:nvPr/>
        </p:nvPicPr>
        <p:blipFill>
          <a:blip r:embed="rId1"/>
          <a:stretch/>
        </p:blipFill>
        <p:spPr>
          <a:xfrm>
            <a:off x="1908000" y="0"/>
            <a:ext cx="54039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2"/>
          <p:cNvSpPr/>
          <p:nvPr/>
        </p:nvSpPr>
        <p:spPr>
          <a:xfrm>
            <a:off x="388440" y="3859560"/>
            <a:ext cx="60894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Kadın bu çerçeveyi de bıraktıktan sonr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üçüncü ve son çerçeveye uzandı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Artık gözlerinden yaş damlıyordu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Fotoğraftaki biri erkek diğeri kız çocuklara bakı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"Günaydın Evlatlarım" dedi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Tüm çerçevelere kısaca göz atıp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"Sizleri, hepinizi çok özledim" dedi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3" descr="v26s"/>
          <p:cNvPicPr/>
          <p:nvPr/>
        </p:nvPicPr>
        <p:blipFill>
          <a:blip r:embed="rId1"/>
          <a:stretch/>
        </p:blipFill>
        <p:spPr>
          <a:xfrm>
            <a:off x="7543800" y="0"/>
            <a:ext cx="1600200" cy="25160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4" descr="n752582647_257908_9984"/>
          <p:cNvPicPr/>
          <p:nvPr/>
        </p:nvPicPr>
        <p:blipFill>
          <a:blip r:embed="rId2"/>
          <a:stretch/>
        </p:blipFill>
        <p:spPr>
          <a:xfrm>
            <a:off x="179280" y="404640"/>
            <a:ext cx="1227240" cy="15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2"/>
          <p:cNvSpPr/>
          <p:nvPr/>
        </p:nvSpPr>
        <p:spPr>
          <a:xfrm>
            <a:off x="319680" y="2635560"/>
            <a:ext cx="819072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Gözlerinde biriken yaşları sildi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Artık ağlamak için bile yaşlı hissediyordu kendini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Ağır ağır  doğrulduğu koltuğundan eski telefonuna doğru yöneldi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Ağır ağır numaraları çevirdi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Karşısına çıkan adama "Bir taksi istiyorum" dedi ve adresi verdi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Kapısını kilitleyip, apartman merdivenlerine yöneldi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Yıllarca çekmediği zorluk kalmamıştı ama şimdi bu merdivenl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hayatının en büyük engeli olmuştu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Ağır ve dikkatli bir biçimde iniyordu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Sabırsızlanan taksi şoförünün çaldığı korna sokağı inletiyordu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"Patlama be adam" dedi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3" descr="v26s"/>
          <p:cNvPicPr/>
          <p:nvPr/>
        </p:nvPicPr>
        <p:blipFill>
          <a:blip r:embed="rId1"/>
          <a:stretch/>
        </p:blipFill>
        <p:spPr>
          <a:xfrm>
            <a:off x="7543800" y="0"/>
            <a:ext cx="1600200" cy="25160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4" descr="n752582647_257908_9984"/>
          <p:cNvPicPr/>
          <p:nvPr/>
        </p:nvPicPr>
        <p:blipFill>
          <a:blip r:embed="rId2"/>
          <a:stretch/>
        </p:blipFill>
        <p:spPr>
          <a:xfrm>
            <a:off x="179280" y="404640"/>
            <a:ext cx="1227240" cy="15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2"/>
          <p:cNvSpPr/>
          <p:nvPr/>
        </p:nvSpPr>
        <p:spPr>
          <a:xfrm>
            <a:off x="389160" y="3499200"/>
            <a:ext cx="68497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Nihayet taksiye binebildi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"Teyze hoş geldin" dedi 25-30 yaşlarındaki şofö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"Nereye gidiyoruz?"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Kadın kısa bir sessizliğin sonund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"Tüm bir gün beni taşır mısın?" diye sordu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"Sana 500 lira veririm."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Adam küçümser bir gülümseme ile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"Mal sahibi benden her gün 500 lira istiyor teyze" dedi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3" descr="v26s"/>
          <p:cNvPicPr/>
          <p:nvPr/>
        </p:nvPicPr>
        <p:blipFill>
          <a:blip r:embed="rId1"/>
          <a:stretch/>
        </p:blipFill>
        <p:spPr>
          <a:xfrm>
            <a:off x="7543800" y="0"/>
            <a:ext cx="1600200" cy="25160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n752582647_257908_9984"/>
          <p:cNvPicPr/>
          <p:nvPr/>
        </p:nvPicPr>
        <p:blipFill>
          <a:blip r:embed="rId2"/>
          <a:stretch/>
        </p:blipFill>
        <p:spPr>
          <a:xfrm>
            <a:off x="179280" y="404640"/>
            <a:ext cx="1227240" cy="15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2"/>
          <p:cNvSpPr/>
          <p:nvPr/>
        </p:nvSpPr>
        <p:spPr>
          <a:xfrm>
            <a:off x="389160" y="2131920"/>
            <a:ext cx="612288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Kadın gülümsed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"O zaman sana 650 lira vereceğim ne dersin?"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"Kurtarmaz ama senin güzel hatırını kırmayayım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İlk önce nereye gideceğiz?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"Anıtkabir'e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"Anıtkabir'e mi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"Evet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"Tamam teyzeciğim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"Yaş kaç teyzeciğim?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"Seksen sekiz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"Maşallah Allah uzun ömür versin teyzeciğim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"Allah sağlıklı mutlu ömür versin oğlum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"Haklısın teyzecim"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3" descr="v26s"/>
          <p:cNvPicPr/>
          <p:nvPr/>
        </p:nvPicPr>
        <p:blipFill>
          <a:blip r:embed="rId1"/>
          <a:stretch/>
        </p:blipFill>
        <p:spPr>
          <a:xfrm>
            <a:off x="7543800" y="0"/>
            <a:ext cx="1600200" cy="25160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" descr="n752582647_257908_9984"/>
          <p:cNvPicPr/>
          <p:nvPr/>
        </p:nvPicPr>
        <p:blipFill>
          <a:blip r:embed="rId2"/>
          <a:stretch/>
        </p:blipFill>
        <p:spPr>
          <a:xfrm>
            <a:off x="179280" y="404640"/>
            <a:ext cx="1227240" cy="15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2"/>
          <p:cNvSpPr/>
          <p:nvPr/>
        </p:nvSpPr>
        <p:spPr>
          <a:xfrm>
            <a:off x="174240" y="3211560"/>
            <a:ext cx="86130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Taksi Anıtkabir'in kapısına gelmişti. Şoför "Teyzeciğim geldik" dedi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Dalgın görünen kadın "Evladım burada yardımına ihtiyacım var" dedi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"Benimle gel."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Adam şaşırmıştı. "Tabii teyze" dedi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Kuşkulu gözlerle "Bizi buraya alırlar mı?" diye sord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O ana kadar dalgın ve yorgun görünen kadın, bir anda irkildi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Gözlerinden ateş fışkırarak "Ne demek almamak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Sen daha önce hiç gelmedin mi buraya?" ded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3" descr="v26s"/>
          <p:cNvPicPr/>
          <p:nvPr/>
        </p:nvPicPr>
        <p:blipFill>
          <a:blip r:embed="rId1"/>
          <a:stretch/>
        </p:blipFill>
        <p:spPr>
          <a:xfrm>
            <a:off x="7543800" y="0"/>
            <a:ext cx="1600200" cy="25160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4" descr="n752582647_257908_9984"/>
          <p:cNvPicPr/>
          <p:nvPr/>
        </p:nvPicPr>
        <p:blipFill>
          <a:blip r:embed="rId2"/>
          <a:stretch/>
        </p:blipFill>
        <p:spPr>
          <a:xfrm>
            <a:off x="179280" y="404640"/>
            <a:ext cx="1227240" cy="15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2"/>
          <p:cNvSpPr/>
          <p:nvPr/>
        </p:nvSpPr>
        <p:spPr>
          <a:xfrm>
            <a:off x="244080" y="2203560"/>
            <a:ext cx="738756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"Hayır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"Kaç yıldır Ankara'da yaşıyorsun?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"Ben Ankaralıyım teyze. Doğma büyüme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"Ee o zaman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"Ne bileyim bir kez okulla gelmiştik bayramd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Bayram olmayınca burası kapalı sanıyordum ben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Kadın sinirli bir şekilde kafa salladı. Şoför utanmıştı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Mozoleye çıkan  mermer merdivenlere kadar konuşmadıla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Merdivenlere geldiklerinde Şoför kuşkulu bir şekil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"Nasıl çıkacaksın Teyze?" diye sord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"Her ay nasıl çıkıyorsam öyle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"Her ay geliyor musun?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"Evet"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3" descr="v26s"/>
          <p:cNvPicPr/>
          <p:nvPr/>
        </p:nvPicPr>
        <p:blipFill>
          <a:blip r:embed="rId1"/>
          <a:stretch/>
        </p:blipFill>
        <p:spPr>
          <a:xfrm>
            <a:off x="7543800" y="0"/>
            <a:ext cx="1600200" cy="25160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4" descr="n752582647_257908_9984"/>
          <p:cNvPicPr/>
          <p:nvPr/>
        </p:nvPicPr>
        <p:blipFill>
          <a:blip r:embed="rId2"/>
          <a:stretch/>
        </p:blipFill>
        <p:spPr>
          <a:xfrm>
            <a:off x="179280" y="404640"/>
            <a:ext cx="1227240" cy="15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2"/>
          <p:cNvSpPr/>
          <p:nvPr/>
        </p:nvSpPr>
        <p:spPr>
          <a:xfrm>
            <a:off x="242280" y="2995920"/>
            <a:ext cx="807516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Uzun bir uğraşla merdivenleri çıktılar. Mozoleye doğru ağır ağı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ilerlediler. İçerisi çok serindi. Şoför büyük bir azimle yürümey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çalışan kadının koluna girmişti. Kadının nefes alışları sıklaşmıştı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Nihayet mozolenin önüne geldiler. Kadın şoförün kolunda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ani bir hareketle kurtuldu. Çantasını açtı. Tek bir karanfil çıkardı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Mozoleye doğru ilerledi. Çiçeği mozoleye koydu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Şoför şaşkınlıkla olayı seyrederken kadının ağzında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şu sözlerin döküldüğünü fark etti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"Hayatım boyunca sana verdiğim sözü tutmak için çalıştım"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3" descr="v26s"/>
          <p:cNvPicPr/>
          <p:nvPr/>
        </p:nvPicPr>
        <p:blipFill>
          <a:blip r:embed="rId1"/>
          <a:stretch/>
        </p:blipFill>
        <p:spPr>
          <a:xfrm>
            <a:off x="7543800" y="0"/>
            <a:ext cx="1600200" cy="25160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4" descr="n752582647_257908_9984"/>
          <p:cNvPicPr/>
          <p:nvPr/>
        </p:nvPicPr>
        <p:blipFill>
          <a:blip r:embed="rId2"/>
          <a:stretch/>
        </p:blipFill>
        <p:spPr>
          <a:xfrm>
            <a:off x="179280" y="404640"/>
            <a:ext cx="1227240" cy="15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2"/>
          <p:cNvSpPr/>
          <p:nvPr/>
        </p:nvSpPr>
        <p:spPr>
          <a:xfrm>
            <a:off x="243360" y="3211560"/>
            <a:ext cx="826092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Ağır ağır geriye çekilen kadın ellerini açıp Fatiha okumaya başladı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Şoför kısa bir şaşkınlığın ardından ona katıldı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Kadın bir anlık suskunluktan sonra "Hadi gidelim" dedi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Geldiklerinden çok daha ağır bir şekilde arabaya döndüle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Şoför kadının durumundan endişelenmeye başlamıştı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"Yoruldun mu Teyze" ded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Kadın sustu. Bir süre suskunluktan sonr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"Evet hem de çok yoruldum" diye cevapladı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"Nereye gidiyoruz?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"Bankaya"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3" descr="v26s"/>
          <p:cNvPicPr/>
          <p:nvPr/>
        </p:nvPicPr>
        <p:blipFill>
          <a:blip r:embed="rId1"/>
          <a:stretch/>
        </p:blipFill>
        <p:spPr>
          <a:xfrm>
            <a:off x="7543800" y="0"/>
            <a:ext cx="1600200" cy="25160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4" descr="n752582647_257908_9984"/>
          <p:cNvPicPr/>
          <p:nvPr/>
        </p:nvPicPr>
        <p:blipFill>
          <a:blip r:embed="rId2"/>
          <a:stretch/>
        </p:blipFill>
        <p:spPr>
          <a:xfrm>
            <a:off x="179280" y="404640"/>
            <a:ext cx="1227240" cy="15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240480" y="3571920"/>
            <a:ext cx="861444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Şoför  arabasındaki kadının herhangi biri olmadığını anlamıştı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Bu yaşlı kadının Atatürk'e verdiği söz ne olabilirdi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En sonunda dayanamadı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"Teyzeciğim bir şey sorabilirmiyim?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"Sor bakalım evladım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"Anıtkabir'de Atatürk'e bir söz verdiğinizi söylemiştiniz. O söz nedir?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"Uzun hikaye evladım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"Olsun be teyze anlat ne olur"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3" descr="v26s"/>
          <p:cNvPicPr/>
          <p:nvPr/>
        </p:nvPicPr>
        <p:blipFill>
          <a:blip r:embed="rId1"/>
          <a:stretch/>
        </p:blipFill>
        <p:spPr>
          <a:xfrm>
            <a:off x="7543800" y="0"/>
            <a:ext cx="1600200" cy="25160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4" descr="n752582647_257908_9984"/>
          <p:cNvPicPr/>
          <p:nvPr/>
        </p:nvPicPr>
        <p:blipFill>
          <a:blip r:embed="rId2"/>
          <a:stretch/>
        </p:blipFill>
        <p:spPr>
          <a:xfrm>
            <a:off x="179280" y="404640"/>
            <a:ext cx="1227240" cy="15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2"/>
          <p:cNvSpPr/>
          <p:nvPr/>
        </p:nvSpPr>
        <p:spPr>
          <a:xfrm>
            <a:off x="171360" y="2922840"/>
            <a:ext cx="862992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"Ben lisedeyken bizim okulumuza gelmişti Atatürk. Beni de on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çiçek vermek için seçmişlerdi. Çiçeği verdiğimde bana ismimi sordu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Bende "Adalet" dedim. Bunun üzerine "Ne güzel ismin varmış" dedi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"Okulu bitirince ne olacaksın" dedi bana. Hemşire dedim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Oda "Güzel meslek ama bence sen Hakim ol ismine çok yakışır" dedi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Ben kadından hakim olmaz ki dedim. Kaşlarını çattı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"Sen istedikten sonra olur. Senden söz istiyorum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hakim olacaksın" dedi .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"Sen ne dedin peki?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"Mustafa Kemal emretmiş ne denir? Söz verdim."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3" descr="v26s"/>
          <p:cNvPicPr/>
          <p:nvPr/>
        </p:nvPicPr>
        <p:blipFill>
          <a:blip r:embed="rId1"/>
          <a:stretch/>
        </p:blipFill>
        <p:spPr>
          <a:xfrm>
            <a:off x="7543800" y="0"/>
            <a:ext cx="1600200" cy="25160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4" descr="n752582647_257908_9984"/>
          <p:cNvPicPr/>
          <p:nvPr/>
        </p:nvPicPr>
        <p:blipFill>
          <a:blip r:embed="rId2"/>
          <a:stretch/>
        </p:blipFill>
        <p:spPr>
          <a:xfrm>
            <a:off x="179280" y="404640"/>
            <a:ext cx="1227240" cy="15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2"/>
          <p:cNvSpPr/>
          <p:nvPr/>
        </p:nvSpPr>
        <p:spPr>
          <a:xfrm>
            <a:off x="535320" y="549360"/>
            <a:ext cx="8105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ffffff"/>
                </a:solidFill>
                <a:latin typeface="Arial"/>
              </a:rPr>
              <a:t>Uzun, gerçek ve müthiş bir hikay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ffffff"/>
                </a:solidFill>
                <a:latin typeface="Arial"/>
              </a:rPr>
              <a:t>Uzun bir boş vakitte okumanız dileğiyle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3"/>
          <p:cNvSpPr/>
          <p:nvPr/>
        </p:nvSpPr>
        <p:spPr>
          <a:xfrm>
            <a:off x="1197360" y="1916280"/>
            <a:ext cx="6610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800" spc="-1" strike="noStrike">
                <a:solidFill>
                  <a:srgbClr val="ffffff"/>
                </a:solidFill>
                <a:latin typeface="Arial"/>
              </a:rPr>
              <a:t>Sesi açmanızı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800" spc="-1" strike="noStrike" u="sng">
                <a:solidFill>
                  <a:srgbClr val="ffffff"/>
                </a:solidFill>
                <a:uFillTx/>
                <a:latin typeface="Arial"/>
              </a:rPr>
              <a:t>kesinlikle</a:t>
            </a:r>
            <a:r>
              <a:rPr b="1" lang="tr-TR" sz="4800" spc="-1" strike="noStrike">
                <a:solidFill>
                  <a:srgbClr val="ffffff"/>
                </a:solidFill>
                <a:latin typeface="Arial"/>
              </a:rPr>
              <a:t> öneriyorum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4"/>
          <p:cNvSpPr/>
          <p:nvPr/>
        </p:nvSpPr>
        <p:spPr>
          <a:xfrm>
            <a:off x="536400" y="4076640"/>
            <a:ext cx="8163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Arial"/>
              </a:rPr>
              <a:t>Mümkünse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Arial"/>
              </a:rPr>
              <a:t>müzikteki </a:t>
            </a:r>
            <a:r>
              <a:rPr b="1" lang="tr-TR" sz="2400" spc="-1" strike="noStrike" u="sng">
                <a:solidFill>
                  <a:srgbClr val="ffffff"/>
                </a:solidFill>
                <a:uFillTx/>
                <a:latin typeface="Arial"/>
              </a:rPr>
              <a:t>bas</a:t>
            </a:r>
            <a:r>
              <a:rPr b="1" lang="tr-TR" sz="2400" spc="-1" strike="noStrike">
                <a:solidFill>
                  <a:srgbClr val="ffffff"/>
                </a:solidFill>
                <a:latin typeface="Arial"/>
              </a:rPr>
              <a:t> sesleri duyabilmeniz içi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Arial"/>
              </a:rPr>
              <a:t>kulaklık kullanmanızı rica ediyoru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Arial"/>
              </a:rPr>
              <a:t>Bu, müzikteki duyguyu algılamanıza yardımcı olacaktı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Arial"/>
              </a:rPr>
              <a:t>Duygusal açıdan oldukça ilginç bir müzik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2"/>
          <p:cNvSpPr/>
          <p:nvPr/>
        </p:nvSpPr>
        <p:spPr>
          <a:xfrm>
            <a:off x="173880" y="2347920"/>
            <a:ext cx="817884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"Peki olabildin mi Adalet Teyze?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"Evet ben Cumhuriyetin ilk kadın hakimlerindenim.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"Vay be. Sende ne hikaye varmış Adalet Teyze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"Herkesin bir hikayesi vardır evladım. Herkesin hikayesi 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kendine göre değerlidir. Eğer insanların hikayelerini bili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anlayabilirsen insanlara daha anlayışlı davranabilirsin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"Haklısın Adalet Teyze. Bu bankamı gelmek istediğin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"Evet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"Yardım edeyim mi? Bende geleyim mi?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"Hayır. Sen burada bekle lütfen.Bu arada adın neydi evladım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"Osman teyzeciğim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"Tamam Osman. Beni 45 dakika kadar sonra buradan al olur mu?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"Tamam teyzeciğim"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3" descr="v26s"/>
          <p:cNvPicPr/>
          <p:nvPr/>
        </p:nvPicPr>
        <p:blipFill>
          <a:blip r:embed="rId1"/>
          <a:stretch/>
        </p:blipFill>
        <p:spPr>
          <a:xfrm>
            <a:off x="7543800" y="0"/>
            <a:ext cx="1600200" cy="25160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4" descr="n752582647_257908_9984"/>
          <p:cNvPicPr/>
          <p:nvPr/>
        </p:nvPicPr>
        <p:blipFill>
          <a:blip r:embed="rId2"/>
          <a:stretch/>
        </p:blipFill>
        <p:spPr>
          <a:xfrm>
            <a:off x="179280" y="404640"/>
            <a:ext cx="1227240" cy="15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2"/>
          <p:cNvSpPr/>
          <p:nvPr/>
        </p:nvSpPr>
        <p:spPr>
          <a:xfrm>
            <a:off x="174240" y="2554200"/>
            <a:ext cx="765612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Adalet hanım bankadan içeri girdi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Osman öğlen saatinin geldiğini fark edip yemeğe gitti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Yemek boyunca Adalet hanımı düşünd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"Kim bilir neler yaşamış, neler görmüştür" diye düşünd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Tam vaktinde bankanın önündeydi. Adalet hanım 15 dakikalı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gecikme ile geldi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"Hoş geldin Hakim Teyze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"Çok uzun zamandır bana Hakim denmemişti.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"Hoşuna gitmediyse söylemeyeyim?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"Yok aksine hoşuma gitti. Sağol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"Nereye gidiyoruz?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"Seyranbağları’ na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"Tabii"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3" descr="v26s"/>
          <p:cNvPicPr/>
          <p:nvPr/>
        </p:nvPicPr>
        <p:blipFill>
          <a:blip r:embed="rId1"/>
          <a:stretch/>
        </p:blipFill>
        <p:spPr>
          <a:xfrm>
            <a:off x="7543800" y="0"/>
            <a:ext cx="1600200" cy="25160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4" descr="n752582647_257908_9984"/>
          <p:cNvPicPr/>
          <p:nvPr/>
        </p:nvPicPr>
        <p:blipFill>
          <a:blip r:embed="rId2"/>
          <a:stretch/>
        </p:blipFill>
        <p:spPr>
          <a:xfrm>
            <a:off x="179280" y="404640"/>
            <a:ext cx="1227240" cy="15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2"/>
          <p:cNvSpPr/>
          <p:nvPr/>
        </p:nvSpPr>
        <p:spPr>
          <a:xfrm>
            <a:off x="463320" y="2131920"/>
            <a:ext cx="674316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"Hakim Teyze çok yer gezmişsindir sen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"Tüm Anadolu'yu karış karış gezdik rahmetli kocamla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"Ne iş  yapardı amca?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"Subaydı.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"Ne zaman vefat etti?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"1952′de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"Çok olmuş. Gençmiş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"Kore savaşında şehit oldu.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"Allah rahmet eylesin Hakim teyze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"Sağol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"Seyranbağları‘ na geldik nereye gideceğiz?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"Sağa sap. İkinci binanın önünde dur.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"Tamam. Buyur Hakim Teyze. Geleyim mi ben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"Yok bekle burada"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3" descr="v26s"/>
          <p:cNvPicPr/>
          <p:nvPr/>
        </p:nvPicPr>
        <p:blipFill>
          <a:blip r:embed="rId1"/>
          <a:stretch/>
        </p:blipFill>
        <p:spPr>
          <a:xfrm>
            <a:off x="7543800" y="0"/>
            <a:ext cx="1600200" cy="25160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4" descr="n752582647_257908_9984"/>
          <p:cNvPicPr/>
          <p:nvPr/>
        </p:nvPicPr>
        <p:blipFill>
          <a:blip r:embed="rId2"/>
          <a:stretch/>
        </p:blipFill>
        <p:spPr>
          <a:xfrm>
            <a:off x="179280" y="404640"/>
            <a:ext cx="1227240" cy="15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319680" y="4364640"/>
            <a:ext cx="7938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Osman beklemeye başladı. Bir ara merak etti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Binanın uzaktan görünen levhasına baktı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"Seyranbağları Kız Yetiştirme Yurdu" yazısını okudu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Anlam veremedi. "Bu kadın burada ne yapar ki?" diye düşünd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3" descr="v26s"/>
          <p:cNvPicPr/>
          <p:nvPr/>
        </p:nvPicPr>
        <p:blipFill>
          <a:blip r:embed="rId1"/>
          <a:stretch/>
        </p:blipFill>
        <p:spPr>
          <a:xfrm>
            <a:off x="7543800" y="0"/>
            <a:ext cx="1600200" cy="25160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4" descr="n752582647_257908_9984"/>
          <p:cNvPicPr/>
          <p:nvPr/>
        </p:nvPicPr>
        <p:blipFill>
          <a:blip r:embed="rId2"/>
          <a:stretch/>
        </p:blipFill>
        <p:spPr>
          <a:xfrm>
            <a:off x="179280" y="404640"/>
            <a:ext cx="1227240" cy="15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2"/>
          <p:cNvSpPr/>
          <p:nvPr/>
        </p:nvSpPr>
        <p:spPr>
          <a:xfrm>
            <a:off x="244080" y="3571920"/>
            <a:ext cx="84589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Yarım saat sonra Adalet hanım göründü. Yanında orta yaşlı kibar bi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hanım vardı. Adalet hanımı arabaya ağır ağır bindirdi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Kadın "Adalet Hanım size ne kadar teşekkür etsek azdı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Her zaman yanımızdasınız. Kızlarda sizi çok seviyo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Ne olur arayı çok uzatmayın. Yine gelin" ded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Adalet hanım, buğulu gözler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"İnşallah. Kızlara selamımı söyleyin. Bende onları çok seviyorum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Onlara iyi bakın" dedi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3" descr="v26s"/>
          <p:cNvPicPr/>
          <p:nvPr/>
        </p:nvPicPr>
        <p:blipFill>
          <a:blip r:embed="rId1"/>
          <a:stretch/>
        </p:blipFill>
        <p:spPr>
          <a:xfrm>
            <a:off x="7543800" y="0"/>
            <a:ext cx="1600200" cy="25160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4" descr="n752582647_257908_9984"/>
          <p:cNvPicPr/>
          <p:nvPr/>
        </p:nvPicPr>
        <p:blipFill>
          <a:blip r:embed="rId2"/>
          <a:stretch/>
        </p:blipFill>
        <p:spPr>
          <a:xfrm>
            <a:off x="179280" y="404640"/>
            <a:ext cx="1227240" cy="15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2"/>
          <p:cNvSpPr/>
          <p:nvPr/>
        </p:nvSpPr>
        <p:spPr>
          <a:xfrm>
            <a:off x="242280" y="3787920"/>
            <a:ext cx="83340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Araba hareket etti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"Nereye Hakim Teyze?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"Hemen iki sokak öteye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Osman iki sokak ötede bu sefer başka bir binanın önüne park etti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Bu binada da "Ankara Seyranbağları Huzurevi" yazıyordu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"Bekle beni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"Tabii Hakim Teyze"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3" descr="v26s"/>
          <p:cNvPicPr/>
          <p:nvPr/>
        </p:nvPicPr>
        <p:blipFill>
          <a:blip r:embed="rId1"/>
          <a:stretch/>
        </p:blipFill>
        <p:spPr>
          <a:xfrm>
            <a:off x="7543800" y="0"/>
            <a:ext cx="1600200" cy="25160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4" descr="n752582647_257908_9984"/>
          <p:cNvPicPr/>
          <p:nvPr/>
        </p:nvPicPr>
        <p:blipFill>
          <a:blip r:embed="rId2"/>
          <a:stretch/>
        </p:blipFill>
        <p:spPr>
          <a:xfrm>
            <a:off x="179280" y="404640"/>
            <a:ext cx="1227240" cy="15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2"/>
          <p:cNvSpPr/>
          <p:nvPr/>
        </p:nvSpPr>
        <p:spPr>
          <a:xfrm>
            <a:off x="316440" y="3067200"/>
            <a:ext cx="74746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Yine 1 saate yakın bir bekleyişin sonunda bu sefer etrafınd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bir çok yaşlı kadın ve adamla çıkageldi Adalet Hanım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Sarılıp öpüştükten sonra oradan ayrıldıla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Osman dikiz aynasından Adalet Hanım'ın gözlerinden aka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yaşları fark etti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"İyi misin Hakim Teyze"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"İyiyim Osman. Eski dostları görünce insan bir hoş oluyor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"Nereye gidiyoruz?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"Cebeci Asri Mezarlığına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"Tamam"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3" descr="v26s"/>
          <p:cNvPicPr/>
          <p:nvPr/>
        </p:nvPicPr>
        <p:blipFill>
          <a:blip r:embed="rId1"/>
          <a:stretch/>
        </p:blipFill>
        <p:spPr>
          <a:xfrm>
            <a:off x="7543800" y="0"/>
            <a:ext cx="1600200" cy="25160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4" descr="n752582647_257908_9984"/>
          <p:cNvPicPr/>
          <p:nvPr/>
        </p:nvPicPr>
        <p:blipFill>
          <a:blip r:embed="rId2"/>
          <a:stretch/>
        </p:blipFill>
        <p:spPr>
          <a:xfrm>
            <a:off x="179280" y="404640"/>
            <a:ext cx="1227240" cy="15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2"/>
          <p:cNvSpPr/>
          <p:nvPr/>
        </p:nvSpPr>
        <p:spPr>
          <a:xfrm>
            <a:off x="240840" y="2851200"/>
            <a:ext cx="853524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"Teyze nerelisin sen?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"Aydın Sökeliyim. Babam orada pamuk ekerdi. Annem ev hanımıydı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Sonra Kurtuluş Savaşı oldu. Babam savaşa gitti. Söke işgal oldu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Biz dağlara kaçtık annemle. Saklandık dağ köylerind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Savaş bitince Söke'ye döndük. Allah'a Şükür babam da sağ sali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döndü savaştan.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"Sonra ne oldu?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"Liseye Aydın'a gönderdi babam. Orada Atatürk'le karşılaştım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Sözümü tutmak için İstanbul'a gittim. Hukuk fakültesine girdim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Orada rahmetli eşimle karşılaştım. O Harbiye'de okuyordu o zama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Mezun olunca evlendik.."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3" descr="v26s"/>
          <p:cNvPicPr/>
          <p:nvPr/>
        </p:nvPicPr>
        <p:blipFill>
          <a:blip r:embed="rId1"/>
          <a:stretch/>
        </p:blipFill>
        <p:spPr>
          <a:xfrm>
            <a:off x="7543800" y="0"/>
            <a:ext cx="1600200" cy="25160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4" descr="n752582647_257908_9984"/>
          <p:cNvPicPr/>
          <p:nvPr/>
        </p:nvPicPr>
        <p:blipFill>
          <a:blip r:embed="rId2"/>
          <a:stretch/>
        </p:blipFill>
        <p:spPr>
          <a:xfrm>
            <a:off x="179280" y="404640"/>
            <a:ext cx="1227240" cy="15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2"/>
          <p:cNvSpPr/>
          <p:nvPr/>
        </p:nvSpPr>
        <p:spPr>
          <a:xfrm>
            <a:off x="245520" y="1771560"/>
            <a:ext cx="84848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"Çocuğunuz var mı?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"Bir kızım bir oğlum vardı.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"Neredeler şimdi?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"Oğlum dışişlerinde çalışıyordu.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"Ne güzel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"1978′de Fransa'da  Ermeniler öldürdüler.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"Üzüldüm Hakim Teyze. Başın sağ olsu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O da babası gibi şehit oldu yani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"Evet. Şehit babanın şehit oğlu. Allah kimseye evlat acısı vermesin.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"Amin. Ya kızın?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"O eşi ve çocukları ile İzmit'te yaşıyordu. Öğretmendi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1999′da depremde hepsi vefat ettiler.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"Allah rahmet eylesin. Boş boğazlığımla üzdüm seni Hakim Teyz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kusura bakma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"Sanki sormasan aklımdan çıkıyorlar mı evladım. Sen üzülme sağol"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3" descr="v26s"/>
          <p:cNvPicPr/>
          <p:nvPr/>
        </p:nvPicPr>
        <p:blipFill>
          <a:blip r:embed="rId1"/>
          <a:stretch/>
        </p:blipFill>
        <p:spPr>
          <a:xfrm>
            <a:off x="7543800" y="0"/>
            <a:ext cx="1600200" cy="25160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4" descr="n752582647_257908_9984"/>
          <p:cNvPicPr/>
          <p:nvPr/>
        </p:nvPicPr>
        <p:blipFill>
          <a:blip r:embed="rId2"/>
          <a:stretch/>
        </p:blipFill>
        <p:spPr>
          <a:xfrm>
            <a:off x="0" y="0"/>
            <a:ext cx="1227240" cy="15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2"/>
          <p:cNvSpPr/>
          <p:nvPr/>
        </p:nvSpPr>
        <p:spPr>
          <a:xfrm>
            <a:off x="171720" y="1987200"/>
            <a:ext cx="857052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"Geldik Teyze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"Tamam evladım. Al işte paran artık gidebilirsin.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"Hakim teyze buradan nasıl döneceksin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Ben seni bekleyeyim eve bırakayım.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"Yok beni alacaklar buradan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"Hakim Teyze bu para fazla. Kusura bakma ben sana yalan söyledim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Taksinin sahibi benden 350 lira bekliyor. Affet beni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350’ yi  ona veririm. Gerisi kalsın. Bende para istemem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Bugün senden aldığım hayat dersinin parasal karşılığı yok zaten.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"Çocukların var mı?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"İki tane ellerinden öperler."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Taksinin güneşliğinden çocuklarının resimlerini çıkarıp gösterdi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"Adları nedir?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"Kemal ve Ayşe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"Oğlumun adı da Kemaldi.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3" descr="v26s"/>
          <p:cNvPicPr/>
          <p:nvPr/>
        </p:nvPicPr>
        <p:blipFill>
          <a:blip r:embed="rId1"/>
          <a:stretch/>
        </p:blipFill>
        <p:spPr>
          <a:xfrm>
            <a:off x="7543800" y="0"/>
            <a:ext cx="1600200" cy="25160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4" descr="n752582647_257908_9984"/>
          <p:cNvPicPr/>
          <p:nvPr/>
        </p:nvPicPr>
        <p:blipFill>
          <a:blip r:embed="rId2"/>
          <a:stretch/>
        </p:blipFill>
        <p:spPr>
          <a:xfrm>
            <a:off x="179280" y="404640"/>
            <a:ext cx="1227240" cy="15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3" descr="old_women_stov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2"/>
          <p:cNvSpPr/>
          <p:nvPr/>
        </p:nvSpPr>
        <p:spPr>
          <a:xfrm>
            <a:off x="314640" y="4507560"/>
            <a:ext cx="8449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Sessizliğin ardından Osman'ın elindeki parayı ittirdi Adalet Hanım.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"Onlara bir şeyler al benim için. Onları okut. Ama yalansız, dolansı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çok çalışarak helal lokma ile büyüt ve okut. Atatürk'ün ban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yaptığı gibi içlerindeki gücü fark etmelerini sağl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Bir de vatanını, milletini sevmelerini öğütle onlara."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3" descr="v26s"/>
          <p:cNvPicPr/>
          <p:nvPr/>
        </p:nvPicPr>
        <p:blipFill>
          <a:blip r:embed="rId1"/>
          <a:stretch/>
        </p:blipFill>
        <p:spPr>
          <a:xfrm>
            <a:off x="7543800" y="0"/>
            <a:ext cx="1600200" cy="25160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4" descr="n752582647_257908_9984"/>
          <p:cNvPicPr/>
          <p:nvPr/>
        </p:nvPicPr>
        <p:blipFill>
          <a:blip r:embed="rId2"/>
          <a:stretch/>
        </p:blipFill>
        <p:spPr>
          <a:xfrm>
            <a:off x="179280" y="404640"/>
            <a:ext cx="1227240" cy="15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2"/>
          <p:cNvSpPr/>
          <p:nvPr/>
        </p:nvSpPr>
        <p:spPr>
          <a:xfrm>
            <a:off x="242640" y="3859560"/>
            <a:ext cx="76712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Osman Adalet Hanımın ellerine sarılıp öptü. Ona iyi evlatla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yetiştireceğine söz verdi. Adalet hanım mezarlığın kapısında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ağır ağır içeri girerken; Osman yaşlı gözlerle onu izliyordu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Hayatının en büyük dersini kendisi küçücük, yüreği yaşadığı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acılara rağmen kocaman ve güçlü bu yaşlı kadından almıştı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Osman arabasını mal sahibine götürmeye karar verdi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Bu gün daha fazla çalışamazdı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3" descr="v26s"/>
          <p:cNvPicPr/>
          <p:nvPr/>
        </p:nvPicPr>
        <p:blipFill>
          <a:blip r:embed="rId1"/>
          <a:stretch/>
        </p:blipFill>
        <p:spPr>
          <a:xfrm>
            <a:off x="7543800" y="0"/>
            <a:ext cx="1600200" cy="25160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4" descr="n752582647_257908_9984"/>
          <p:cNvPicPr/>
          <p:nvPr/>
        </p:nvPicPr>
        <p:blipFill>
          <a:blip r:embed="rId2"/>
          <a:stretch/>
        </p:blipFill>
        <p:spPr>
          <a:xfrm>
            <a:off x="179280" y="404640"/>
            <a:ext cx="1227240" cy="15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2"/>
          <p:cNvSpPr/>
          <p:nvPr/>
        </p:nvSpPr>
        <p:spPr>
          <a:xfrm>
            <a:off x="-6480" y="4219920"/>
            <a:ext cx="88858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Ertesi gün Ankara'da garip bir yağmur yağıyordu. Sanki gök delinmişti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Osman taksiyi mal sahibinden almış, durağa gelmişti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Çay ocağının yanında duran gazeteyi aldı. İlk sayfadaki haberle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göz gezdirdi. Siyaset doluydu gazete. Hiç anlamazdı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Sıkılıp adli olayların yer aldığı üçüncü sayfayı açtı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Taksiciler arkadaşları ile ilgili kötü haberleri genellikle oradan alırlardı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Göz gezdirirken bir haber dikkatini çekti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4" descr="v26s"/>
          <p:cNvPicPr/>
          <p:nvPr/>
        </p:nvPicPr>
        <p:blipFill>
          <a:blip r:embed="rId1"/>
          <a:stretch/>
        </p:blipFill>
        <p:spPr>
          <a:xfrm>
            <a:off x="7543800" y="0"/>
            <a:ext cx="1600200" cy="25160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n752582647_257908_9984"/>
          <p:cNvPicPr/>
          <p:nvPr/>
        </p:nvPicPr>
        <p:blipFill>
          <a:blip r:embed="rId2"/>
          <a:stretch/>
        </p:blipFill>
        <p:spPr>
          <a:xfrm>
            <a:off x="179280" y="404640"/>
            <a:ext cx="1227240" cy="15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2"/>
          <p:cNvSpPr/>
          <p:nvPr/>
        </p:nvSpPr>
        <p:spPr>
          <a:xfrm>
            <a:off x="169920" y="3499200"/>
            <a:ext cx="87562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"Dün gece geç saatlerde Cebeci Asri mezarlığında  bulunan cesedi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Cumhuriyet tarihinin ilk Kadın Hakimlerinden Adalet YILMAZ'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ait olduğu belirlendi. Adalet YILMAZ'ın bulunduğu yerdek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mezarların eşine ve oğluna ait olduğu belirlendi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YILMAZ vefat ettiği gün bankadaki tüm parasını çektiği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bu parayı ikiye bölerek Seyranbağları’ ndaki bir kız yetiştirme yurdu i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bir huzurevine bağışladığı belirlendi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Polis, Adalet YILMAZ'ın mezarlığa ölmek için gittiğini düşünüyor."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4" descr="v26s"/>
          <p:cNvPicPr/>
          <p:nvPr/>
        </p:nvPicPr>
        <p:blipFill>
          <a:blip r:embed="rId1"/>
          <a:stretch/>
        </p:blipFill>
        <p:spPr>
          <a:xfrm>
            <a:off x="7543800" y="0"/>
            <a:ext cx="1600200" cy="25160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5" descr="n752582647_257908_9984"/>
          <p:cNvPicPr/>
          <p:nvPr/>
        </p:nvPicPr>
        <p:blipFill>
          <a:blip r:embed="rId2"/>
          <a:stretch/>
        </p:blipFill>
        <p:spPr>
          <a:xfrm>
            <a:off x="179280" y="404640"/>
            <a:ext cx="1227240" cy="15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2"/>
          <p:cNvSpPr/>
          <p:nvPr/>
        </p:nvSpPr>
        <p:spPr>
          <a:xfrm>
            <a:off x="461880" y="4940640"/>
            <a:ext cx="7102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Osman bir anda sarsıldı. Gözyaşlarına engel olamıyordu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Taksici arkadaşları hiçbir şey anlamadıla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Bir daha da hiç anlatmadı Osman bu yaşadıklarını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4" descr="v26s"/>
          <p:cNvPicPr/>
          <p:nvPr/>
        </p:nvPicPr>
        <p:blipFill>
          <a:blip r:embed="rId1"/>
          <a:stretch/>
        </p:blipFill>
        <p:spPr>
          <a:xfrm>
            <a:off x="7543800" y="0"/>
            <a:ext cx="1600200" cy="25160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5" descr="n752582647_257908_9984"/>
          <p:cNvPicPr/>
          <p:nvPr/>
        </p:nvPicPr>
        <p:blipFill>
          <a:blip r:embed="rId2"/>
          <a:stretch/>
        </p:blipFill>
        <p:spPr>
          <a:xfrm>
            <a:off x="179280" y="404640"/>
            <a:ext cx="1227240" cy="15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2"/>
          <p:cNvSpPr/>
          <p:nvPr/>
        </p:nvSpPr>
        <p:spPr>
          <a:xfrm>
            <a:off x="249120" y="4579200"/>
            <a:ext cx="8200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Arial"/>
              </a:rPr>
              <a:t>Herkesin tek bildiği Osman'ın bardaktan boşanırcasın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Arial"/>
              </a:rPr>
              <a:t>yağan yağmur altınd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Arial"/>
              </a:rPr>
              <a:t>"Gökler bile sana ağlıyor…"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Arial"/>
              </a:rPr>
              <a:t>diyerek ağladığı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3" descr="old_women_stove"/>
          <p:cNvPicPr/>
          <p:nvPr/>
        </p:nvPicPr>
        <p:blipFill>
          <a:blip r:embed="rId1"/>
          <a:stretch/>
        </p:blipFill>
        <p:spPr>
          <a:xfrm>
            <a:off x="1403280" y="907920"/>
            <a:ext cx="3888000" cy="2684520"/>
          </a:xfrm>
          <a:prstGeom prst="rect">
            <a:avLst/>
          </a:prstGeom>
          <a:ln w="393840">
            <a:solidFill>
              <a:srgbClr val="333300"/>
            </a:solidFill>
            <a:miter/>
          </a:ln>
        </p:spPr>
      </p:pic>
      <p:pic>
        <p:nvPicPr>
          <p:cNvPr id="140" name="Picture 8" descr="v26s"/>
          <p:cNvPicPr/>
          <p:nvPr/>
        </p:nvPicPr>
        <p:blipFill>
          <a:blip r:embed="rId2"/>
          <a:stretch/>
        </p:blipFill>
        <p:spPr>
          <a:xfrm>
            <a:off x="7543800" y="0"/>
            <a:ext cx="1600200" cy="251604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9" descr="n752582647_257908_9984"/>
          <p:cNvPicPr/>
          <p:nvPr/>
        </p:nvPicPr>
        <p:blipFill>
          <a:blip r:embed="rId3"/>
          <a:stretch/>
        </p:blipFill>
        <p:spPr>
          <a:xfrm>
            <a:off x="179280" y="404640"/>
            <a:ext cx="1227240" cy="15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v26s"/>
          <p:cNvPicPr/>
          <p:nvPr/>
        </p:nvPicPr>
        <p:blipFill>
          <a:blip r:embed="rId1"/>
          <a:stretch/>
        </p:blipFill>
        <p:spPr>
          <a:xfrm>
            <a:off x="4782960" y="0"/>
            <a:ext cx="4361040" cy="68580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4" descr="n752582647_257908_9984"/>
          <p:cNvPicPr/>
          <p:nvPr/>
        </p:nvPicPr>
        <p:blipFill>
          <a:blip r:embed="rId2"/>
          <a:stretch/>
        </p:blipFill>
        <p:spPr>
          <a:xfrm>
            <a:off x="539640" y="1052640"/>
            <a:ext cx="3405240" cy="43210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2"/>
          <p:cNvSpPr/>
          <p:nvPr/>
        </p:nvSpPr>
        <p:spPr>
          <a:xfrm>
            <a:off x="2555280" y="1120320"/>
            <a:ext cx="40640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00"/>
                </a:solidFill>
                <a:latin typeface="Arial"/>
              </a:rPr>
              <a:t>Şerefle bitirilmesi gereken,</a:t>
            </a:r>
            <a:br>
              <a:rPr sz="2400"/>
            </a:br>
            <a:r>
              <a:rPr b="1" lang="tr-TR" sz="2400" spc="-1" strike="noStrike">
                <a:solidFill>
                  <a:srgbClr val="ffff00"/>
                </a:solidFill>
                <a:latin typeface="Arial"/>
              </a:rPr>
              <a:t>En asil görev, hayattır.</a:t>
            </a:r>
            <a:br>
              <a:rPr sz="2400"/>
            </a:br>
            <a:r>
              <a:rPr b="1" lang="tr-TR" sz="2400" spc="-1" strike="noStrike">
                <a:solidFill>
                  <a:srgbClr val="ffff00"/>
                </a:solidFill>
                <a:latin typeface="Arial"/>
              </a:rPr>
              <a:t>Bir lokma ekmek için,</a:t>
            </a:r>
            <a:br>
              <a:rPr sz="2400"/>
            </a:br>
            <a:r>
              <a:rPr b="1" lang="tr-TR" sz="2400" spc="-1" strike="noStrike">
                <a:solidFill>
                  <a:srgbClr val="ffff00"/>
                </a:solidFill>
                <a:latin typeface="Arial"/>
              </a:rPr>
              <a:t>Şerefini çiğnetmeye;</a:t>
            </a:r>
            <a:br>
              <a:rPr sz="2400"/>
            </a:br>
            <a:r>
              <a:rPr b="1" lang="tr-TR" sz="2400" spc="-1" strike="noStrike">
                <a:solidFill>
                  <a:srgbClr val="ffff00"/>
                </a:solidFill>
                <a:latin typeface="Arial"/>
              </a:rPr>
              <a:t>Bir anlık eğlence için,</a:t>
            </a:r>
            <a:br>
              <a:rPr sz="2400"/>
            </a:br>
            <a:r>
              <a:rPr b="1" lang="tr-TR" sz="2400" spc="-1" strike="noStrike">
                <a:solidFill>
                  <a:srgbClr val="ffff00"/>
                </a:solidFill>
                <a:latin typeface="Arial"/>
              </a:rPr>
              <a:t>Servetini tüketmeye;</a:t>
            </a:r>
            <a:br>
              <a:rPr sz="2400"/>
            </a:br>
            <a:r>
              <a:rPr b="1" lang="tr-TR" sz="2400" spc="-1" strike="noStrike">
                <a:solidFill>
                  <a:srgbClr val="ffff00"/>
                </a:solidFill>
                <a:latin typeface="Arial"/>
              </a:rPr>
              <a:t>Bir zamanlık mevkii için,</a:t>
            </a:r>
            <a:br>
              <a:rPr sz="2400"/>
            </a:br>
            <a:r>
              <a:rPr b="1" lang="tr-TR" sz="2400" spc="-1" strike="noStrike">
                <a:solidFill>
                  <a:srgbClr val="ffff00"/>
                </a:solidFill>
                <a:latin typeface="Arial"/>
              </a:rPr>
              <a:t>El ayak  öpmeye;</a:t>
            </a:r>
            <a:br>
              <a:rPr sz="2400"/>
            </a:br>
            <a:r>
              <a:rPr b="1" lang="tr-TR" sz="2400" spc="-1" strike="noStrike">
                <a:solidFill>
                  <a:srgbClr val="ffff00"/>
                </a:solidFill>
                <a:latin typeface="Arial"/>
              </a:rPr>
              <a:t>Günlük menfaatler için,</a:t>
            </a:r>
            <a:br>
              <a:rPr sz="2400"/>
            </a:br>
            <a:r>
              <a:rPr b="1" lang="tr-TR" sz="2400" spc="-1" strike="noStrike">
                <a:solidFill>
                  <a:srgbClr val="ffff00"/>
                </a:solidFill>
                <a:latin typeface="Arial"/>
              </a:rPr>
              <a:t>Onurunu terk etmeye,</a:t>
            </a:r>
            <a:br>
              <a:rPr sz="2400"/>
            </a:br>
            <a:r>
              <a:rPr b="1" lang="tr-TR" sz="2400" spc="-1" strike="noStrike">
                <a:solidFill>
                  <a:srgbClr val="ffff00"/>
                </a:solidFill>
                <a:latin typeface="Arial"/>
              </a:rPr>
              <a:t>Bir kısım insanlara kızıp;</a:t>
            </a:r>
            <a:br>
              <a:rPr sz="2400"/>
            </a:br>
            <a:r>
              <a:rPr b="1" lang="tr-TR" sz="2400" spc="-1" strike="noStrike">
                <a:solidFill>
                  <a:srgbClr val="ffff00"/>
                </a:solidFill>
                <a:latin typeface="Arial"/>
              </a:rPr>
              <a:t>Tüm insanlara düşman</a:t>
            </a:r>
            <a:br>
              <a:rPr sz="2400"/>
            </a:br>
            <a:r>
              <a:rPr b="1" lang="tr-TR" sz="2400" spc="-1" strike="noStrike">
                <a:solidFill>
                  <a:srgbClr val="ffff00"/>
                </a:solidFill>
                <a:latin typeface="Arial"/>
              </a:rPr>
              <a:t>Olmaya değmez bu hayat.</a:t>
            </a:r>
            <a:r>
              <a:rPr b="0" lang="tr-TR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3"/>
          <p:cNvSpPr/>
          <p:nvPr/>
        </p:nvSpPr>
        <p:spPr>
          <a:xfrm>
            <a:off x="-339480" y="431640"/>
            <a:ext cx="9855000" cy="2462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4"/>
          <p:cNvSpPr/>
          <p:nvPr/>
        </p:nvSpPr>
        <p:spPr>
          <a:xfrm>
            <a:off x="-268200" y="6381720"/>
            <a:ext cx="9820080" cy="2462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6"/>
          <p:cNvSpPr/>
          <p:nvPr/>
        </p:nvSpPr>
        <p:spPr>
          <a:xfrm rot="16200000">
            <a:off x="4666320" y="3322800"/>
            <a:ext cx="7401600" cy="2462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7"/>
          <p:cNvSpPr/>
          <p:nvPr/>
        </p:nvSpPr>
        <p:spPr>
          <a:xfrm rot="19856400">
            <a:off x="1051200" y="888480"/>
            <a:ext cx="94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ff00"/>
                </a:solidFill>
                <a:latin typeface="Arial Black"/>
              </a:rPr>
              <a:t>No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8" descr="n752582647_257908_9984"/>
          <p:cNvPicPr/>
          <p:nvPr/>
        </p:nvPicPr>
        <p:blipFill>
          <a:blip r:embed="rId1"/>
          <a:stretch/>
        </p:blipFill>
        <p:spPr>
          <a:xfrm>
            <a:off x="179280" y="2492280"/>
            <a:ext cx="1722600" cy="21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2"/>
          <p:cNvSpPr/>
          <p:nvPr/>
        </p:nvSpPr>
        <p:spPr>
          <a:xfrm>
            <a:off x="397080" y="0"/>
            <a:ext cx="8419320" cy="647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6000" spc="-1" strike="noStrike">
                <a:solidFill>
                  <a:srgbClr val="ff0000"/>
                </a:solidFill>
                <a:latin typeface="Arial"/>
              </a:rPr>
              <a:t>ADALET</a:t>
            </a:r>
            <a:endParaRPr b="0" lang="en-US" sz="1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9900" spc="-1" strike="noStrike">
                <a:solidFill>
                  <a:srgbClr val="ff0000"/>
                </a:solidFill>
                <a:latin typeface="Arial"/>
              </a:rPr>
              <a:t>   </a:t>
            </a:r>
            <a:endParaRPr b="0" lang="en-US" sz="9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6000" spc="-1" strike="noStrike">
                <a:solidFill>
                  <a:srgbClr val="ff0000"/>
                </a:solidFill>
                <a:latin typeface="Arial"/>
              </a:rPr>
              <a:t>HANIM</a:t>
            </a:r>
            <a:endParaRPr b="0" lang="en-US" sz="1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3" descr="old_women_stove"/>
          <p:cNvPicPr/>
          <p:nvPr/>
        </p:nvPicPr>
        <p:blipFill>
          <a:blip r:embed="rId1"/>
          <a:stretch/>
        </p:blipFill>
        <p:spPr>
          <a:xfrm>
            <a:off x="2987640" y="2276640"/>
            <a:ext cx="3024360" cy="20872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609480" y="5269320"/>
            <a:ext cx="450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Arial"/>
              </a:rPr>
              <a:t>Yaşlı kadın yatağından kalktı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3" descr="v26s"/>
          <p:cNvPicPr/>
          <p:nvPr/>
        </p:nvPicPr>
        <p:blipFill>
          <a:blip r:embed="rId1"/>
          <a:stretch/>
        </p:blipFill>
        <p:spPr>
          <a:xfrm>
            <a:off x="7543800" y="0"/>
            <a:ext cx="1600200" cy="25160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n752582647_257908_9984"/>
          <p:cNvPicPr/>
          <p:nvPr/>
        </p:nvPicPr>
        <p:blipFill>
          <a:blip r:embed="rId2"/>
          <a:stretch/>
        </p:blipFill>
        <p:spPr>
          <a:xfrm>
            <a:off x="179280" y="404640"/>
            <a:ext cx="1227240" cy="15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2"/>
          <p:cNvSpPr/>
          <p:nvPr/>
        </p:nvSpPr>
        <p:spPr>
          <a:xfrm>
            <a:off x="460080" y="4148640"/>
            <a:ext cx="69062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Sabah ezanının insan ruhuna huzur veren ses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oda içinde yankılanıyordu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88 yaşından beklenmeyecek bir çeviklik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pencereye doğru yöneldi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Pencereyi açması ile birlikte odaya ezan sesi ile birlik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baharın güzel kokusu ve kuş cıvıltıları doluştu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3" descr="v26s"/>
          <p:cNvPicPr/>
          <p:nvPr/>
        </p:nvPicPr>
        <p:blipFill>
          <a:blip r:embed="rId1"/>
          <a:stretch/>
        </p:blipFill>
        <p:spPr>
          <a:xfrm>
            <a:off x="7543800" y="0"/>
            <a:ext cx="1600200" cy="25160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n752582647_257908_9984"/>
          <p:cNvPicPr/>
          <p:nvPr/>
        </p:nvPicPr>
        <p:blipFill>
          <a:blip r:embed="rId2"/>
          <a:stretch/>
        </p:blipFill>
        <p:spPr>
          <a:xfrm>
            <a:off x="179280" y="404640"/>
            <a:ext cx="1227240" cy="15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462600" y="4075560"/>
            <a:ext cx="67474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Penceresinden gözüken Kurtuluş Parkına bakara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yaşlı ciğerlerini sabahın ılık esintisi ile doldurdu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Abdestini aldı, sabah namazını kıldı.  Mutfağa yöneldi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Çayla birlikte bir iki lokma bir şeyler atıştırdı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Oturma odasına yöneldi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Eski bir fiskos masasının yanındaki koltuğuna ilişti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3" descr="v26s"/>
          <p:cNvPicPr/>
          <p:nvPr/>
        </p:nvPicPr>
        <p:blipFill>
          <a:blip r:embed="rId1"/>
          <a:stretch/>
        </p:blipFill>
        <p:spPr>
          <a:xfrm>
            <a:off x="7543800" y="0"/>
            <a:ext cx="1600200" cy="25160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n752582647_257908_9984"/>
          <p:cNvPicPr/>
          <p:nvPr/>
        </p:nvPicPr>
        <p:blipFill>
          <a:blip r:embed="rId2"/>
          <a:stretch/>
        </p:blipFill>
        <p:spPr>
          <a:xfrm>
            <a:off x="179280" y="404640"/>
            <a:ext cx="1227240" cy="15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168120" y="4580280"/>
            <a:ext cx="8703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Masanın üstü çerçeveler ile doluydu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Bir tanesine uzandı, camının üzerinde titreyen parmaklarını dolaştırdı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Çerçevenin içindeki fotoğrafta İstiklal madalyalı kara yağız bir adamla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makyajsız olmasına rağmen güzelliği göz alan bir kadı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birbirlerine bakarak gülümsüyorlardı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3" descr="v26s"/>
          <p:cNvPicPr/>
          <p:nvPr/>
        </p:nvPicPr>
        <p:blipFill>
          <a:blip r:embed="rId1"/>
          <a:stretch/>
        </p:blipFill>
        <p:spPr>
          <a:xfrm>
            <a:off x="7543800" y="0"/>
            <a:ext cx="1600200" cy="25160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" descr="n752582647_257908_9984"/>
          <p:cNvPicPr/>
          <p:nvPr/>
        </p:nvPicPr>
        <p:blipFill>
          <a:blip r:embed="rId2"/>
          <a:stretch/>
        </p:blipFill>
        <p:spPr>
          <a:xfrm>
            <a:off x="179280" y="404640"/>
            <a:ext cx="1227240" cy="15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2"/>
          <p:cNvSpPr/>
          <p:nvPr/>
        </p:nvSpPr>
        <p:spPr>
          <a:xfrm>
            <a:off x="315720" y="4291560"/>
            <a:ext cx="78602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Yaşlı kadın "Günaydın Anne, Günaydın Baba" dedi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Usulca yerine koyduğu çerçeveye bir bakış daha attıktan sonr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başka bir çerçeveyi eline aldı. Bu siyah beyaz fotoğrafta d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subay üniformalı bir adamla bir gelin yan yana duruyorlardı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Yaşlı kadın çerçeveyi titreyen dudaklarla öpt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"Günaydın Kocacığım" dedi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3" descr="v26s"/>
          <p:cNvPicPr/>
          <p:nvPr/>
        </p:nvPicPr>
        <p:blipFill>
          <a:blip r:embed="rId1"/>
          <a:stretch/>
        </p:blipFill>
        <p:spPr>
          <a:xfrm>
            <a:off x="7543800" y="0"/>
            <a:ext cx="1600200" cy="25160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" descr="n752582647_257908_9984"/>
          <p:cNvPicPr/>
          <p:nvPr/>
        </p:nvPicPr>
        <p:blipFill>
          <a:blip r:embed="rId2"/>
          <a:stretch/>
        </p:blipFill>
        <p:spPr>
          <a:xfrm>
            <a:off x="179280" y="404640"/>
            <a:ext cx="1227240" cy="15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4T19:06:38Z</dcterms:created>
  <dc:creator>Maco</dc:creator>
  <dc:description/>
  <dc:language>en-US</dc:language>
  <cp:lastModifiedBy>ACER</cp:lastModifiedBy>
  <dcterms:modified xsi:type="dcterms:W3CDTF">2009-02-14T19:09:00Z</dcterms:modified>
  <cp:revision>1</cp:revision>
  <dc:subject/>
  <dc:title>Slayt 1</dc:title>
</cp:coreProperties>
</file>