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omb.wav" ContentType="audio/x-wav"/>
  <Override PartName="/ppt/media/image2.jpeg" ContentType="image/jpeg"/>
  <Override PartName="/ppt/media/y%C3%BCr%C3%BCy%C3%BC%C5%9F.wav" ContentType="audio/x-wav"/>
  <Override PartName="/ppt/media/image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642-0319-46A6-9DE2-2139BA97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C5B-3A89-44E8-90F6-D6060D1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D8F-9D11-48E8-A15D-FD5545B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95D-6140-4C34-946C-F182CE7C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B25-6C9B-482E-9636-78FACE2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038-A27E-4BEF-952A-9153F15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5EE-C6C7-42B8-A640-AB04AA0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F94-3C2E-43BF-AB85-1FE4591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720-5801-4BF6-8941-E1323298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7D1-1687-480F-A474-EB0E233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213-219A-4524-93DD-A2FB806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CB8-ACE7-47CC-A6C7-55C6B77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9E5-CA3E-43BC-9BF8-3D65E28059C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y&#252;r&#252;y&#252;&#351;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752582647_257908_9984"/>
          <p:cNvPicPr/>
          <p:nvPr/>
        </p:nvPicPr>
        <p:blipFill>
          <a:blip r:embed="rId1"/>
          <a:stretch/>
        </p:blipFill>
        <p:spPr>
          <a:xfrm>
            <a:off x="190800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440" y="3859560"/>
            <a:ext cx="608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bu çerçeveyi de bıraktı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üçüncü ve son çerçeveye uzan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tık gözlerinden yaş daml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Fotoğraftaki biri erkek diğeri kız çocuklara bakı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ünaydın Evlatları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üm çerçevelere kısaca göz atı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izleri, hepinizi çok özledi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19680" y="2635560"/>
            <a:ext cx="819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lerinde biriken yaşları s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tık ağlamak için bile yaşlı hissediyordu kendi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 doğrulduğu koltuğundan eski telefonuna doğru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numaraları çev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rşısına çıkan adama "Bir taksi istiyorum" dedi ve adresi v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ısını kilitleyip, apartman merdivenlerine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ıllarca çekmediği zorluk kalmamıştı ama şimdi bu merdiven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yatının en büyük engeli olmuş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ve dikkatli bir biçimde in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bırsızlanan taksi şoförünün çaldığı korna sokağı inlet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Patlama be ada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89160" y="3499200"/>
            <a:ext cx="684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hayet taksiye bineb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 hoş geldin" dedi 25-30 yaşlarındaki şofö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kısa bir sessizliğin sonu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üm bir gün beni taşır mısın?" diye s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na 500 lira veririm.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m küçümser bir gülümseme 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al sahibi benden her gün 500 lira istiyor teyze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9160" y="2131920"/>
            <a:ext cx="612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gülümse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 zaman sana 650 lira vereceğim ne dersin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urtarmaz ama senin güzel hatırını kırmayay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İlk önce nereye gideceği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e 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aş kaç teyzeciğ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ksen sekiz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aşallah Allah uzun ömür versin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sağlıklı mutlu ömür versin oğlu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lısın teyzeci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74240" y="3211560"/>
            <a:ext cx="8613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 Anıtkabir'in kapısına gelmişti. Şoför "Teyzeciğim geldik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algın görünen kadın "Evladım burada yardımına ihtiyacım var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imle gel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m şaşırmıştı. "Tabii teyze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uşkulu gözlerle "Bizi buraya alırlar mı?" diye so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 ana kadar dalgın ve yorgun görünen kadın, bir anda irk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lerinden ateş fışkırarak "Ne demek almama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n daha önce hiç gelmedin mi buraya?" d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44080" y="2203560"/>
            <a:ext cx="7387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ı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aç yıldır Ankara'da yaşıyorsu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 Ankaralıyım teyze. Doğma büyüm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e o zama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bileyim bir kez okulla gelmiştik bayram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yram olmayınca burası kapalı sanıyordum b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sinirli bir şekilde kafa salladı. Şoför utan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ozoleye çıkan  mermer merdivenlere kadar konuşma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rdivenlere geldiklerinde Şoför kuşkulu bir şekil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asıl çıkacaksın Teyze?" diye so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 ay nasıl çıkıyorsam öy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 ay geliyor musu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42280" y="2995920"/>
            <a:ext cx="8075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Uzun bir uğraşla merdivenleri çıktılar. Mozoleye doğru ağır ağı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lerlediler. İçerisi çok serindi. Şoför büyük bir azimle yürümey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lışan kadının koluna girmişti. Kadının nefes alışları sıklaş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hayet mozolenin önüne geldiler. Kadın şoförün kolu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i bir hareketle kurtuldu. Çantasını açtı. Tek bir karanfil çık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ozoleye doğru ilerledi. Çiçeği mozoleye koydu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şaşkınlıkla olayı seyrederken kadının ağzı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u sözlerin döküldüğünü f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atım boyunca sana verdiğim sözü tutmak için çalıştı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43360" y="3211560"/>
            <a:ext cx="826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geriye çekilen kadın ellerini açıp Fatiha okumaya başla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kısa bir şaşkınlığın ardından ona katıl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bir anlık suskunluktan sonra "Hadi gideli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eldiklerinden çok daha ağır bir şekilde arabaya döndü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kadının durumundan endişelenmeye başla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ruldun mu Teyze" d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sustu. Bir süre suskunlu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 hem de çok yoruldum" diye cevaplad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ankay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0480" y="3571920"/>
            <a:ext cx="8614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 arabasındaki kadının herhangi biri olmadığını anla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yaşlı kadının Atatürk'e verdiği söz ne olabilird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n sonunda dayanama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ciğim bir şey sorabilirmiy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or bakalım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de Atatürk'e bir söz verdiğinizi söylemiştiniz. O söz nedir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Uzun hikaye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lsun be teyze anlat ne olur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2922840"/>
            <a:ext cx="862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 lisedeyken bizim okulumuza gelmişti Atatürk. Beni de 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içek vermek için seçmişlerdi. Çiçeği verdiğimde bana ismimi s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de "Adalet" dedim. Bunun üzerine "Ne güzel ismin varmış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kulu bitirince ne olacaksın" dedi bana. Hemşire de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da "Güzel meslek ama bence sen Hakim ol ismine çok yakışır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kadından hakim olmaz ki dedim. Kaşlarını çattı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n istedikten sonra olur. Senden söz istiyoru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kim olacaksın" dedi 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n ne dedin pek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ustafa Kemal emretmiş ne denir? Söz verdim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5320" y="549360"/>
            <a:ext cx="81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Uzun, gerçek ve müthiş bir hika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Uzun bir boş vakitte okumanız dileğiy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360" y="1916280"/>
            <a:ext cx="66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Sesi açmanız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ffffff"/>
                </a:solidFill>
                <a:uFillTx/>
                <a:latin typeface="Arial"/>
              </a:rPr>
              <a:t>kesinlikle</a:t>
            </a: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 öneriyor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6400" y="4076640"/>
            <a:ext cx="816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ümkün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üzikteki 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bas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sesleri duyabilmeniz iç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ulaklık kullanmanızı rica ediy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u, müzikteki duyguyu algılamanıza yardımcı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uygusal açıdan oldukça ilginç bir müzik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3880" y="2347920"/>
            <a:ext cx="8178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Peki olabildin mi Adalet Teyze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 ben Cumhuriyetin ilk kadın hakimlerindeni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Vay be. Sende ne hikaye varmış Adalet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kesin bir hikayesi vardır evladım. Herkesin hikayes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endine göre değerlidir. Eğer insanların hikayelerini bi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layabilirsen insanlara daha anlayışlı davranabilirsi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lısın Adalet Teyze. Bu bankamı gelmek istediği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ardım edeyim mi? Bende geleyim m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ır. Sen burada bekle lütfen.Bu arada adın neydi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sman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Osman. Beni 45 dakika kadar sonra buradan al olur mu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teyzeciği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4240" y="2554200"/>
            <a:ext cx="7656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let hanım bankadan içeri g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öğlen saatinin geldiğini fark edip yemeğe gi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emek boyunca Adalet hanımı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im bilir neler yaşamış, neler görmüştür" diye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m vaktinde bankanın önündeydi. Adalet hanım 15 dakikalı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ecikme ile g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oş geldin Hakim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k uzun zamandır bana Hakim denmemişti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oşuna gitmediyse söylemeyey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aksine hoşuma gitti. Sağo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’ n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bii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63320" y="2131920"/>
            <a:ext cx="6743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çok yer gezmişsindir s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üm Anadolu'yu karış karış gezdik rahmetli kocaml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iş  yapardı amc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ubaydı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zaman vefat ett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1952′d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k olmuş. Gençmiş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ore savaşında şehit old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rahmet eylesin Hakim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ğo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‘ na geldik nereye gideceği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ğa sap. İkinci binanın önünde du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. Buyur Hakim Teyze. Geleyim mi b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bekle burad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19680" y="4364640"/>
            <a:ext cx="793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beklemeye başladı. Bir ara mera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nanın uzaktan görünen levhasına bak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 Kız Yetiştirme Yurdu" yazısını oku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lam veremedi. "Bu kadın burada ne yapar ki?" diye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44080" y="3571920"/>
            <a:ext cx="8458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rım saat sonra Adalet hanım göründü. Yanında orta yaşlı kibar 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nım vardı. Adalet hanımı arabaya ağır ağır bind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"Adalet Hanım size ne kadar teşekkür etsek az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er zaman yanımızdasınız. Kızlarda sizi çok seviy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e olur arayı çok uzatmayın. Yine gelin" d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let hanım, buğulu gözler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nşallah. Kızlara selamımı söyleyin. Bende onları çok seviy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nlara iyi bakın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42280" y="3787920"/>
            <a:ext cx="833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aba hareket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Hakim Teyze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men iki sokak ötey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iki sokak ötede bu sefer başka bir binanın önüne p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binada da "Ankara Seyranbağları Huzurevi" yaz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kle ben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bii Hakim Teyz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16440" y="3067200"/>
            <a:ext cx="747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ine 1 saate yakın bir bekleyişin sonunda bu sefer etrafı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çok yaşlı kadın ve adamla çıkageldi Adalet Han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rılıp öpüştükten sonra oradan ayrıl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dikiz aynasından Adalet Hanım'ın gözlerinden 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arı f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yi misin Hakim Teyz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yiyim Osman. Eski dostları görünce insan bir hoş oluy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Cebeci Asri Mezarlığın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40840" y="2851200"/>
            <a:ext cx="8535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 nerelisin se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ydın Sökeliyim. Babam orada pamuk ekerdi. Annem ev hanımıy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onra Kurtuluş Savaşı oldu. Babam savaşa gitti. Söke işgal ol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z dağlara kaçtık annemle. Saklandık dağ köylerin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vaş bitince Söke'ye döndük. Allah'a Şükür babam da sağ sali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öndü savaşta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onra ne oldu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Liseye Aydın'a gönderdi babam. Orada Atatürk'le karşılaşt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özümü tutmak için İstanbul'a gittim. Hukuk fakültesine gir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rada rahmetli eşimle karşılaştım. O Harbiye'de okuyordu o za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zun olunca evlendik.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45520" y="1771560"/>
            <a:ext cx="8484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cuğunuz var mı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ir kızım bir oğlum vardı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deler şimd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ğlum dışişlerinde çalışıyord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güze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1978′de Fransa'da  Ermeniler öldürdül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Üzüldüm Hakim Teyze. Başın sağ olsu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 da babası gibi şehit oldu yan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. Şehit babanın şehit oğlu. Allah kimseye evlat acısı vermesi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min. Ya kızı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 eşi ve çocukları ile İzmit'te yaşıyordu. Öğretm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1999′da depremde hepsi vefat ettil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rahmet eylesin. Boş boğazlığımla üzdüm seni Hakim Tey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usura bakm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nki sormasan aklımdan çıkıyorlar mı evladım. Sen üzülme sağol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752582647_257908_9984"/>
          <p:cNvPicPr/>
          <p:nvPr/>
        </p:nvPicPr>
        <p:blipFill>
          <a:blip r:embed="rId2"/>
          <a:stretch/>
        </p:blipFill>
        <p:spPr>
          <a:xfrm>
            <a:off x="0" y="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1720" y="1987200"/>
            <a:ext cx="8570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eldik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evladım. Al işte paran artık gidebilirsi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buradan nasıl döneceks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seni bekleyeyim eve bırakayı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beni alacaklar burada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bu para fazla. Kusura bakma ben sana yalan söyle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nin sahibi benden 350 lira bekliyor. Affet b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350’ yi  ona veririm. Gerisi kalsın. Bende para istem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gün senden aldığım hayat dersinin parasal karşılığı yok zate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cukların var mı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ki tane ellerinden öperle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nin güneşliğinden çocuklarının resimlerini çıkarıp göst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dları nedir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emal ve Ayş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ğlumun adı da Kemaldi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old_women_st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14640" y="4507560"/>
            <a:ext cx="844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ssizliğin ardından Osman'ın elindeki parayı ittirdi Adalet Hanım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nlara bir şeyler al benim için. Onları okut. Ama yalansız, dolansı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ok çalışarak helal lokma ile büyüt ve okut. Atatürk'ün b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ptığı gibi içlerindeki gücü fark etmelerini sağ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de vatanını, milletini sevmelerini öğütle onlara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42640" y="3859560"/>
            <a:ext cx="767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Adalet Hanımın ellerine sarılıp öptü. Ona iyi evlat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etiştireceğine söz verdi. Adalet hanım mezarlığın kapısı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içeri girerken; Osman yaşlı gözlerle onu izl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yatının en büyük dersini kendisi küçücük, yüreği yaşadığ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cılara rağmen kocaman ve güçlü bu yaşlı kadından al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arabasını mal sahibine götürmeye karar v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gün daha fazla çalışamaz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-6480" y="4219920"/>
            <a:ext cx="888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rtesi gün Ankara'da garip bir yağmur yağıyordu. Sanki gök delinm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taksiyi mal sahibinden almış, durağa gelm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y ocağının yanında duran gazeteyi aldı. İlk sayfadaki haberl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 gezdirdi. Siyaset doluydu gazete. Hiç anlamaz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ıkılıp adli olayların yer aldığı üçüncü sayfayı aç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ciler arkadaşları ile ilgili kötü haberleri genellikle oradan alırl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 gezdirirken bir haber dikkatini çek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69920" y="3499200"/>
            <a:ext cx="875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Dün gece geç saatlerde Cebeci Asri mezarlığında  bulunan cese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Cumhuriyet tarihinin ilk Kadın Hakimlerinden Adalet YILMAZ'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it olduğu belirlendi. Adalet YILMAZ'ın bulunduğu yerde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zarların eşine ve oğluna ait olduğu belirl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ILMAZ vefat ettiği gün bankadaki tüm parasını çektiğ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parayı ikiye bölerek Seyranbağları’ ndaki bir kız yetiştirme yurdu 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huzurevine bağışladığı belirl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olis, Adalet YILMAZ'ın mezarlığa ölmek için gittiğini düşünüyo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61880" y="4940640"/>
            <a:ext cx="710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bir anda sarsıldı. Gözyaşlarına engel olam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ci arkadaşları hiçbir şey anlama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daha da hiç anlatmadı Osman bu yaşadıkların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49120" y="4579200"/>
            <a:ext cx="82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Herkesin tek bildiği Osman'ın bardaktan boşanırcası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ğan yağmur altı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"Gökler bile sana ağlıyor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iyerek ağladığı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old_women_stove"/>
          <p:cNvPicPr/>
          <p:nvPr/>
        </p:nvPicPr>
        <p:blipFill>
          <a:blip r:embed="rId1"/>
          <a:stretch/>
        </p:blipFill>
        <p:spPr>
          <a:xfrm>
            <a:off x="1403280" y="907920"/>
            <a:ext cx="3888000" cy="2684520"/>
          </a:xfrm>
          <a:prstGeom prst="rect">
            <a:avLst/>
          </a:prstGeom>
          <a:ln w="393840">
            <a:solidFill>
              <a:srgbClr val="333300"/>
            </a:solidFill>
            <a:miter/>
          </a:ln>
        </p:spPr>
      </p:pic>
      <p:pic>
        <p:nvPicPr>
          <p:cNvPr id="140" name="Picture 8" descr="v26s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n752582647_257908_9984"/>
          <p:cNvPicPr/>
          <p:nvPr/>
        </p:nvPicPr>
        <p:blipFill>
          <a:blip r:embed="rId3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v26s"/>
          <p:cNvPicPr/>
          <p:nvPr/>
        </p:nvPicPr>
        <p:blipFill>
          <a:blip r:embed="rId1"/>
          <a:stretch/>
        </p:blipFill>
        <p:spPr>
          <a:xfrm>
            <a:off x="4782960" y="0"/>
            <a:ext cx="43610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n752582647_257908_9984"/>
          <p:cNvPicPr/>
          <p:nvPr/>
        </p:nvPicPr>
        <p:blipFill>
          <a:blip r:embed="rId2"/>
          <a:stretch/>
        </p:blipFill>
        <p:spPr>
          <a:xfrm>
            <a:off x="539640" y="1052640"/>
            <a:ext cx="340524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555280" y="1120320"/>
            <a:ext cx="4064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Şerefle bitirilmesi gereke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n asil görev, hayattır.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lokma ekmek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Şerefini çiğnet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anlık eğlence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Servetini tüket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zamanlık mevkii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l ayak  öp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Günlük menfaatler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Onurunu terk etmeye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kısım insanlara kızıp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Tüm insanlara düşman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Olmaya değmez bu hayat.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-339480" y="431640"/>
            <a:ext cx="98550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-268200" y="6381720"/>
            <a:ext cx="982008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 rot="16200000">
            <a:off x="4666320" y="3322800"/>
            <a:ext cx="74016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 rot="19856400">
            <a:off x="1051200" y="8884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ff00"/>
                </a:solidFill>
                <a:latin typeface="Arial Black"/>
              </a:rPr>
              <a:t>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n752582647_257908_9984"/>
          <p:cNvPicPr/>
          <p:nvPr/>
        </p:nvPicPr>
        <p:blipFill>
          <a:blip r:embed="rId1"/>
          <a:stretch/>
        </p:blipFill>
        <p:spPr>
          <a:xfrm>
            <a:off x="179280" y="2492280"/>
            <a:ext cx="1722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97080" y="0"/>
            <a:ext cx="841932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0" spc="-1" strike="noStrike">
                <a:solidFill>
                  <a:srgbClr val="ff0000"/>
                </a:solidFill>
                <a:latin typeface="Arial"/>
              </a:rPr>
              <a:t>ADALET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9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0" spc="-1" strike="noStrike">
                <a:solidFill>
                  <a:srgbClr val="ff0000"/>
                </a:solidFill>
                <a:latin typeface="Arial"/>
              </a:rPr>
              <a:t>HANIM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old_women_stove"/>
          <p:cNvPicPr/>
          <p:nvPr/>
        </p:nvPicPr>
        <p:blipFill>
          <a:blip r:embed="rId1"/>
          <a:stretch/>
        </p:blipFill>
        <p:spPr>
          <a:xfrm>
            <a:off x="2987640" y="2276640"/>
            <a:ext cx="3024360" cy="208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526932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şlı kadın yatağından kalkt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0080" y="4148640"/>
            <a:ext cx="690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bah ezanının insan ruhuna huzur veren se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da içinde yankılan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88 yaşından beklenmeyecek bir çeviklik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ye doğru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yi açması ile birlikte odaya ezan sesi ile birli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harın güzel kokusu ve kuş cıvıltıları doluş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2600" y="4075560"/>
            <a:ext cx="674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sinden gözüken Kurtuluş Parkına bakar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ciğerlerini sabahın ılık esintisi ile doldurdu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bdestini aldı, sabah namazını kıldı.  Mutfağa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yla birlikte bir iki lokma bir şeyler atıştı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turma odasına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ski bir fiskos masasının yanındaki koltuğuna il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68120" y="4580280"/>
            <a:ext cx="870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asanın üstü çerçeveler ile doluy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tanesine uzandı, camının üzerinde titreyen parmaklarını dolaştı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erçevenin içindeki fotoğrafta İstiklal madalyalı kara yağız bir adam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akyajsız olmasına rağmen güzelliği göz alan bir kadı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birlerine bakarak gülümsüyorl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15720" y="4291560"/>
            <a:ext cx="786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kadın "Günaydın Anne, Günaydın Baba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Usulca yerine koyduğu çerçeveye bir bakış daha attı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şka bir çerçeveyi eline aldı. Bu siyah beyaz fotoğraft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ubay üniformalı bir adamla bir gelin yan yana duruyorlard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kadın çerçeveyi titreyen dudaklarla öpt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ünaydın Kocacığı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9:06:38Z</dcterms:created>
  <dc:creator>Maco</dc:creator>
  <dc:description/>
  <dc:language>en-US</dc:language>
  <cp:lastModifiedBy>ACER</cp:lastModifiedBy>
  <dcterms:modified xsi:type="dcterms:W3CDTF">2009-02-14T19:09:00Z</dcterms:modified>
  <cp:revision>1</cp:revision>
  <dc:subject/>
  <dc:title>Slayt 1</dc:title>
</cp:coreProperties>
</file>