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Ernesto%20-%20Just%20for%20You%20trecho%2039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3742-B893-4DF1-89EC-BFA59340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9D3-C4A0-41BD-9462-A7D525B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037-B90A-44DC-9D12-AE7A1E44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08A-57C5-4082-8647-605BC02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151-F2CC-4767-97C1-8E638BF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954-540B-4910-994A-C321F412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8A1-A82E-4806-84C0-A20C198C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CDF-2FB4-4AD2-BC97-38DFCD1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536-C9E5-4370-8BCE-F1091E3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25E-FDD5-400B-989A-D55BDF8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033-6007-44AF-A4BD-A7C21C0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0C6-467C-4D17-9B56-750D40F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F9E-B249-43D2-8EED-0508217F54B8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Ernesto%20-%20Just%20for%20You%20trecho%2039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oups.yahoo.com/group/hersey-serbest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0040609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486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1" lang="tr-TR" sz="6000" spc="-1" strike="noStrike">
                <a:solidFill>
                  <a:srgbClr val="ffffff"/>
                </a:solidFill>
                <a:latin typeface="Arial"/>
              </a:rPr>
              <a:t>DAKİKA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Ernesto%20-%20Just%20for%20You%20trecho%203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Hikayede anlatılan efsaneye göre bir kadın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,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ir gün kucağındaki çocuğu ile birlikte bir mağaranın önünden geçerken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içeriden gelen bir ses duyar.Bu ses on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: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“ içeri gir ve ne istersen al, ama en önemli olanı unutm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yrıca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: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sen çıktıktan sonra kapının bir daha asla açılmayacağını da dikkate almalısın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ncak bu fırsatı kaçırma, ama yine de en önemli şeyi unutma” diyordu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Kadın mağaraya girer ve büyük bir servetle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karşılaşı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Masanın üzerindeki altın ve mücevherleri görünce şaşkına döner ve çocuğunu yere bırakarak hemen büyük bir hırsla masanın üzerindekileri toplamaya başla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u sırada o esrarengiz ses yine duyulu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 : "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yalnız sekiz dakikan var” demektedir.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ekiz dakika çabuk geçer, kadın toplamış olduğu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kıymetli taşlar ve altınlarla birlikte mağaranın dışına koşar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kapı kendiliğinden kapan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..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Bu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ırada çocuğunu içerde unutmuş olduğunun farkına varır,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ma kapı bir daha açılmamak üzere kapanmış bulunmaktad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800" spc="-1" strike="noStrike">
                <a:solidFill>
                  <a:srgbClr val="ffffff"/>
                </a:solidFill>
                <a:latin typeface="Lucida Sans"/>
              </a:rPr>
              <a:t>zenginlik uzun sürmez</a:t>
            </a:r>
            <a:r>
              <a:rPr b="1" i="1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800" spc="-1" strike="noStrike">
                <a:solidFill>
                  <a:srgbClr val="ffffff"/>
                </a:solidFill>
                <a:latin typeface="Lucida Sans"/>
              </a:rPr>
              <a:t>, ama ümitsizlik hep yaşar</a:t>
            </a:r>
            <a:r>
              <a:rPr b="1" i="1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ynı şey çoğu zaman bizim başımıza da gelir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Bu dünyada yaklaşık 80 yıllık ömrümüz vardır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bir ses daima bize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"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akın en önemli şeyi unutma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!“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der gibidir.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1388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Önemli olanlar manevi değerle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inançlar, dikkatli olmak, aile, dostlar ve hayattır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Ancak kazanç hırsı, zenginlik, maddi şeyler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izi öylesine büyüler ki, çocuğu zaman en önemli şeyleri bir köşede bırakırız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Böylece zamanımızı bu tür şeylerle tüketir ve </a:t>
            </a: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en önemli olan şe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Ruhun hazinesini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Lucida Sans"/>
              </a:rPr>
              <a:t> bir köşede unuturuz</a:t>
            </a:r>
            <a:r>
              <a:rPr b="0" lang="es-ES_tradnl" sz="3200" spc="-1" strike="noStrike">
                <a:solidFill>
                  <a:srgbClr val="ffffff"/>
                </a:solidFill>
                <a:latin typeface="Lucida San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Asla aklımızdan çıkarmamamız gerekir ki bu dünyadaki yaşam çok çabuk geçer ve ölüm beklenmedik bir zamanda bizi yak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Ve hayatın kapısı bizim için ebediyen kapanmış olacağından son pişmanlık bir fayda vermez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Sorunlarla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acılarla, ahlaksızlık, Vandalizm, adaletsizliklerle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Lucida Sans"/>
              </a:rPr>
              <a:t> dolu, küçücük masum çocukların öldürüldüğü, ailelerin acı çektiği bir dünyada yaşıyoruz.Bir bakıma bunları olması normal gibi gözüküyor.Çünkü biz EN ÖNEMLİ ŞEYLERİ unutmuş durumdayız.</a:t>
            </a:r>
            <a:r>
              <a:rPr b="0" lang="fr-CA" sz="2800" spc="-1" strike="noStrike">
                <a:solidFill>
                  <a:srgbClr val="ffffff"/>
                </a:solidFill>
                <a:latin typeface="Lucida Sans"/>
              </a:rPr>
              <a:t>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eb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90720" y="380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SEVG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238880" y="380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BARI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8600" y="5780160"/>
            <a:ext cx="23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ALÇAK GÖNÜLLÜL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443640" y="57801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SAMİMİ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495288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ÇOCUKLARIN SAFLIĞI,</a:t>
            </a: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200" spc="-1" strike="noStrike">
                <a:solidFill>
                  <a:srgbClr val="333399"/>
                </a:solidFill>
                <a:latin typeface="Arial"/>
              </a:rPr>
              <a:t>ŞEFKATİ VE MASUMİYET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ie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79280" y="457200"/>
            <a:ext cx="835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LÜTFEN HER SANİYE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,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YAŞAMIN HER ANINDA, SORUNLARLA KARŞILAŞTIĞINIZDA DAHİ HEP MUTLU OLUNUZ.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2920" y="4581360"/>
            <a:ext cx="8858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Monotype Corsiva"/>
              </a:rPr>
              <a:t>HAYAT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 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BİR TANEDİR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, 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ONDAN AYRILDIĞINDA PİŞMANLIK DUYMAMAN, ESEF </a:t>
            </a:r>
            <a:r>
              <a:rPr b="0" lang="tr-TR" sz="2400" spc="-1" strike="noStrike">
                <a:solidFill>
                  <a:srgbClr val="ffff00"/>
                </a:solidFill>
                <a:latin typeface="Lucida Sans"/>
              </a:rPr>
              <a:t>E</a:t>
            </a:r>
            <a:r>
              <a:rPr b="0" lang="tr-TR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tr-TR" sz="2400" spc="-1" strike="noStrike">
                <a:solidFill>
                  <a:srgbClr val="ffff00"/>
                </a:solidFill>
                <a:latin typeface="Lucida Sans"/>
              </a:rPr>
              <a:t>MEMEN</a:t>
            </a:r>
            <a:r>
              <a:rPr b="1" lang="tr-TR" sz="2400" spc="-1" strike="noStrike">
                <a:solidFill>
                  <a:srgbClr val="ffff00"/>
                </a:solidFill>
                <a:latin typeface="Lucida Sans"/>
              </a:rPr>
              <a:t> İÇİN ONDAN İSTİFADE ET, ONU KORU VE ONU SEV</a:t>
            </a:r>
            <a:r>
              <a:rPr b="1" lang="fr-CA" sz="2400" spc="-1" strike="noStrike">
                <a:solidFill>
                  <a:srgbClr val="ffff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2" descr="pa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37447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be0e3"/>
                </a:solidFill>
                <a:latin typeface="Arial"/>
              </a:rPr>
              <a:t>Tercüme: Yusuf Haznedaroğ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0"/>
            <a:ext cx="322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ww.gruplar.inf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2:23:50Z</dcterms:created>
  <dc:creator>Romulo Espinar</dc:creator>
  <dc:description/>
  <dc:language>en-US</dc:language>
  <cp:lastModifiedBy>BBBB</cp:lastModifiedBy>
  <dcterms:modified xsi:type="dcterms:W3CDTF">2008-12-14T12:30:16Z</dcterms:modified>
  <cp:revision>31</cp:revision>
  <dc:subject/>
  <dc:title>8 MINUTOS (Autor desconocido)</dc:title>
</cp:coreProperties>
</file>