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Ernesto%20-%20Just%20for%20You%20trecho%2039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98E-C054-48D2-8CD2-C9B3B06D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658-5798-4398-92F8-06F1C7CC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0BB-B4DF-4C75-AA92-1BC78950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96E-D216-4BB1-825A-FA9090AA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4E5-B7F3-435F-83C5-65CA0E27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83F-5674-406A-9F94-E0EB5BE4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56C-6014-4B27-AFE5-63ECA75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212-F880-43E3-8159-2E7C843C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6B0-5194-4EC8-8298-73FCE3B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7A1-D0F0-40EE-9F28-A1C50FE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764-42A5-41C2-87E1-3D8E633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96D-399F-424F-93A6-AEE5C94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193D-AF43-432E-910D-16E99D273C28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Ernesto%20-%20Just%20for%20You%20trecho%2039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oups.yahoo.com/group/hersey-serbes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20040609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486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tr-TR" sz="6000" spc="-1" strike="noStrike">
                <a:solidFill>
                  <a:srgbClr val="ffffff"/>
                </a:solidFill>
                <a:latin typeface="Arial"/>
              </a:rPr>
              <a:t>DAKİKA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Ernesto%20-%20Just%20for%20You%20trecho%203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Hikayede anlatılan efsaneye göre bir kadın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,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ir gün kucağındaki çocuğu ile birlikte bir mağaranın önünden geçerken 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içeriden gelen bir ses duyar.Bu ses ona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: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“ içeri gir ve ne istersen al, ama en önemli olanı unutma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Ayrıca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: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sen çıktıktan sonra kapının bir daha asla açılmayacağını da dikkate almalısın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Ancak bu fırsatı kaçırma, ama yine de en önemli şeyi unutma” diyordu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Kadın mağaraya girer ve büyük bir servetle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karşılaşı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Masanın üzerindeki altın ve mücevherleri görünce şaşkına döner ve çocuğunu yere bırakarak hemen büyük bir hırsla masanın üzerindekileri toplamaya başla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u sırada o esrarengiz ses yine duyulu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 : "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yalnız sekiz dakikan var” demektedir.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507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ekiz dakika çabuk geçer, kadın toplamış olduğu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kıymetli taşlar ve altınlarla birlikte mağaranın dışına koşar 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ve kapı kendiliğinden kapanır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..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Bu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ırada çocuğunu içerde unutmuş olduğunun farkına varır,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ama kapı bir daha açılmamak üzere kapanmış bulunmaktadır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i="1" lang="tr-TR" sz="2800" spc="-1" strike="noStrike">
                <a:solidFill>
                  <a:srgbClr val="ffffff"/>
                </a:solidFill>
                <a:latin typeface="Lucida Sans"/>
              </a:rPr>
              <a:t>zenginlik uzun sürmez</a:t>
            </a:r>
            <a:r>
              <a:rPr b="1" i="1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i="1" lang="tr-TR" sz="2800" spc="-1" strike="noStrike">
                <a:solidFill>
                  <a:srgbClr val="ffffff"/>
                </a:solidFill>
                <a:latin typeface="Lucida Sans"/>
              </a:rPr>
              <a:t>, ama ümitsizlik hep yaşar</a:t>
            </a:r>
            <a:r>
              <a:rPr b="1" i="1" lang="fr-CA" sz="28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Aynı şey çoğu zaman bizim başımıza da gelir 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Bu dünyada yaklaşık 80 yıllık ömrümüz vardır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ve bir ses daima bize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"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akın en önemli şeyi unutma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!“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der gibidir.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Önemli olanlar manevi değerle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,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inançlar, dikkatli olmak, aile, dostlar ve hayattı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Ancak kazanç hırsı, zenginlik, maddi şeyler 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izi öylesine büyüler ki, çocuğu zaman en önemli şeyleri bir köşede bırakırız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öylece zamanımızı bu tür şeylerle tüketir ve 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en önemli olan şe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Ruhun hazinesini</a:t>
            </a:r>
            <a:r>
              <a:rPr b="0" lang="es-ES_tradnl" sz="32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 bir köşede unuturuz</a:t>
            </a:r>
            <a:r>
              <a:rPr b="0" lang="es-ES_tradnl" sz="3200" spc="-1" strike="noStrike">
                <a:solidFill>
                  <a:srgbClr val="ffffff"/>
                </a:solidFill>
                <a:latin typeface="Lucida San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Asla aklımızdan çıkarmamamız gerekir ki bu dünyadaki yaşam çok çabuk geçer ve ölüm beklenmedik bir zamanda bizi yak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Ve hayatın kapısı bizim için ebediyen kapanmış olacağından son pişmanlık bir fayda vermez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orunlarla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acılarla, ahlaksızlık, Vandalizm, adaletsizliklerle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dolu, küçücük masum çocukların öldürüldüğü, ailelerin acı çektiği bir dünyada yaşıyoruz.Bir bakıma bunları olması normal gibi gözüküyor.Çünkü biz EN ÖNEMLİ ŞEYLERİ unutmuş durumdayız.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eb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90720" y="380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SEVG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238880" y="380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BARI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8600" y="5780160"/>
            <a:ext cx="23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ALÇAK GÖNÜLLÜL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443640" y="57801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SAMİMİ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4360" y="495288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ÇOCUKLARIN SAFLIĞI,</a:t>
            </a: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ŞEFKATİ VE MASUMİYET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ie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79280" y="457200"/>
            <a:ext cx="835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LÜTFEN HER SANİYE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,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 YAŞAMIN HER ANINDA, SORUNLARLA KARŞILAŞTIĞINIZDA DAHİ HEP MUTLU OLUNUZ.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2920" y="4581360"/>
            <a:ext cx="8858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Monotype Corsiva"/>
              </a:rPr>
              <a:t>HAYAT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 BİR TANEDİR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, 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ONDAN AYRILDIĞINDA PİŞMANLIK DUYMAMAN, ESEF </a:t>
            </a:r>
            <a:r>
              <a:rPr b="0" lang="tr-TR" sz="2400" spc="-1" strike="noStrike">
                <a:solidFill>
                  <a:srgbClr val="ffff00"/>
                </a:solidFill>
                <a:latin typeface="Lucida Sans"/>
              </a:rPr>
              <a:t>E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tr-TR" sz="2400" spc="-1" strike="noStrike">
                <a:solidFill>
                  <a:srgbClr val="ffff00"/>
                </a:solidFill>
                <a:latin typeface="Lucida Sans"/>
              </a:rPr>
              <a:t>MEMEN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 İÇİN ONDAN İSTİFADE ET, ONU KORU VE ONU SEV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2" descr="pa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7640" y="5516640"/>
            <a:ext cx="37447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be0e3"/>
                </a:solidFill>
                <a:latin typeface="Arial"/>
              </a:rPr>
              <a:t>Tercüme: Yusuf Haznedaroğ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0"/>
            <a:ext cx="32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ww.gruplar.inf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2:23:50Z</dcterms:created>
  <dc:creator>Romulo Espinar</dc:creator>
  <dc:description/>
  <dc:language>en-US</dc:language>
  <cp:lastModifiedBy>BBBB</cp:lastModifiedBy>
  <dcterms:modified xsi:type="dcterms:W3CDTF">2008-12-14T12:30:16Z</dcterms:modified>
  <cp:revision>31</cp:revision>
  <dc:subject/>
  <dc:title>8 MINUTOS (Autor desconocido)</dc:title>
</cp:coreProperties>
</file>