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nge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D19-86CD-4AC2-B89C-7A5E2F44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B1E-59A4-4B67-8504-80E43712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FFE-A4BC-4436-82E0-36113AEF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EB4-D1D5-4560-BDAB-748DC029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6F920-07BB-4F6D-8D86-36364270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048DE-0B4C-4D1F-835C-BC0B367A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F0F25-9CE2-44B4-A7DA-6E60E9CA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2516E-39D4-485C-B4BD-E88097E9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DB5DF-EB4B-4BE7-B1FB-1915F337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FE9F2-70EB-42E5-9E96-6812C7B7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04636-4B14-486F-8B94-F85DC237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1D6-C176-458A-A03C-07154914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B5FDE-152C-4AE7-86B1-18F200F4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F305A-E643-47EC-8356-6AB2179A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A8A1E-A4AB-4192-823A-B6432A49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7F116-1D12-43EE-AF4F-2D6E136A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80271-4CD6-4594-8700-B1DAF7CB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A8A4-54A6-4231-82D0-BA83C54F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A18-0CA2-45F1-82F2-17DB4770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A6B-43DD-40B8-B095-E0B450F6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EF6-E90D-4410-9A66-F94073E7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CFE-92D0-4F3D-8129-72227EFD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13E-5DA9-43E5-B5E9-3B315C7E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463-18D8-41EE-89FC-23475E6F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E3FF-3D0B-426C-AED6-184CC7269B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B98D-E4D0-4651-BECE-F02644ACF8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gel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ffff"/>
                </a:solidFill>
                <a:latin typeface="Tahoma"/>
              </a:rPr>
              <a:t>KUMPULAN TIPS-TIPS</a:t>
            </a:r>
            <a:br>
              <a:rPr sz="4000"/>
            </a:br>
            <a:r>
              <a:rPr b="0" lang="id-ID" sz="4000" spc="-1" strike="noStrike">
                <a:solidFill>
                  <a:srgbClr val="ffffff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3645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MARIO TEGU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40007f"/>
                </a:solidFill>
                <a:latin typeface="Tahoma"/>
              </a:rPr>
              <a:t>Bussiness Efectiveness Consult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  <p:sndAc>
      <p:stSnd>
        <p:snd r:embed="rId2" name="ange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33cccc"/>
                </a:solidFill>
                <a:latin typeface="Bradley Hand ITC"/>
              </a:rPr>
              <a:t>Kita lebih menghormati orang miskin yang berani daripada orang kaya yang penakut. Karena sebetulnya telah jelas perbedaan kualitas masa depan yang akan mereka cap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Bradley Hand ITC"/>
              </a:rPr>
              <a:t>Jika kita hanya mengerjakan yang sudah kita ketahui, kapankah kita akan mendapat pengetahuan yang baru ? Melakukan yang belum kita ketahui adalah pintu menuju pengetahu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66ff"/>
                </a:solidFill>
                <a:latin typeface="Bradley Hand ITC"/>
              </a:rPr>
              <a:t>Jangan hanya menghindari yang tidak mungkin. Dengan mencoba sesuatu yang tidak mungkin,anda akan bisa mencapai yang terbaik dari yang mungkin anda cap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6699"/>
                </a:solidFill>
                <a:latin typeface="Bradley Hand ITC"/>
              </a:rPr>
              <a:t>Salah satu pengkerdilan terkejam dalam hidup adalah membiarkan pikiran yang cemerlang menjadi budak bagi tubuh yang malas, yang mendahulukan istirahat sebelum lela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333399"/>
                </a:solidFill>
                <a:latin typeface="Bradley Hand ITC"/>
              </a:rPr>
              <a:t>Bila anda mencari uang, anda akan dipaksa mengupayakan pelayanan yang terbaik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333399"/>
                </a:solidFill>
                <a:latin typeface="Bradley Hand ITC"/>
              </a:rPr>
              <a:t>Tetapi jika anda mengutamakan pelayanan yang baik, maka andalah yang akan dicari u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99ff"/>
                </a:solidFill>
                <a:latin typeface="Bradley Hand ITC"/>
              </a:rPr>
              <a:t>Waktu ,mengubah semua hal, kecuali kita. Kita mungkin menua dengan berjalanannya waktu, tetapi belum tentu membijak. Kita-lah yang harus mengubah diri kita sendi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6699"/>
                </a:solidFill>
                <a:latin typeface="Bradley Hand ITC"/>
              </a:rPr>
              <a:t>Semua waktu adalah waktu yang tepat untuk melakukan sesuatu yang baik. Jangan menjadi orang tua yang masih melakukan sesuatu yang seharusnya dilakukan saat mu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ffff"/>
                </a:solidFill>
                <a:latin typeface="Bradley Hand ITC"/>
              </a:rPr>
              <a:t>Tidak ada harga atas waktu, tapi waktu sangat berharga. Memilik waktu tidak menjadikan kita kaya, tetapi menggunakannya dengan baik adalah sumber dari semua kekaya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Forwardkan mail ini kepada </a:t>
            </a: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sahabat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 sekeliling kita. </a:t>
            </a: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Mudah-mudahan akan menjadi pemompa semangat buat sahabat yang ingin ma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hi</a:t>
            </a:r>
            <a:r>
              <a:rPr b="0" lang="id-ID" sz="2000" spc="-1" strike="noStrike">
                <a:solidFill>
                  <a:srgbClr val="ffffff"/>
                </a:solidFill>
                <a:latin typeface="Tahoma"/>
              </a:rPr>
              <a:t>-20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97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66ff"/>
                </a:solidFill>
                <a:latin typeface="Bradley Hand ITC"/>
              </a:rPr>
              <a:t>Kita menilai diri dari apa yang kita pikir bisa kita lakukan, padahal orang lain menilai kita dari apa yang sudah kita lakukan. Untuk itu apabila anda berpikir bisa, segeralah lakukan</a:t>
            </a:r>
            <a:r>
              <a:rPr b="1" lang="id-ID" sz="3200" spc="-1" strike="noStrike">
                <a:solidFill>
                  <a:srgbClr val="6666ff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3300"/>
                </a:solidFill>
                <a:latin typeface="Bradley Hand ITC"/>
              </a:rPr>
              <a:t>Bukan pertumbuhan yang lambat yang harus anda takuti. Akan tetapi anda harus lebih takut untuk tidak tumbuh sama sekali. Maka tumbuhkanlah diri anda dengan kecepatan apapun it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66ff"/>
                </a:solidFill>
                <a:latin typeface="Bradley Hand ITC"/>
              </a:rPr>
              <a:t>Jika anda sedang benar, jangan terlalu berani dan bila anda sedang takut, jangan terlalu takut. Karena keseimbangan sikap adalah penentu ketepatan perjalanan kesuksesan and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3300"/>
                </a:solidFill>
                <a:latin typeface="Bradley Hand ITC"/>
              </a:rPr>
              <a:t>Tugas kita bukanlah untuk berhasil. Tugas kita adalah untuk mencoba, karena didalam mencoba itulah kita menemukan dan belajar membangun kesempatan untuk berhas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cc00"/>
                </a:solidFill>
                <a:latin typeface="Bradley Hand ITC"/>
              </a:rPr>
              <a:t>Anda hanya dekat dengan mereka yang anda sukai. Dan seringkali anda menghindari orang yang tidak tidak anda sukai, padahal dari dialah Anda akan mengenal sudut pandang yang baru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0066"/>
                </a:solidFill>
                <a:latin typeface="Bradley Hand ITC"/>
              </a:rPr>
              <a:t>Orang-orang yang berhenti belajar akan menjadi pemilik masa lalu. Orang-orang yang masih terus belajar, akan menjadi pemilik masa dep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cc00"/>
                </a:solidFill>
                <a:latin typeface="Bradley Hand ITC"/>
              </a:rPr>
              <a:t>Tinggalkanlah kesenangan yang menghalangi pencapaian kecemerlangan hidup yang di idamkan. Dan berhati-hatilah, karena beberapa kesenangan adalah cara gembira menuju kegaga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ffff"/>
                </a:solidFill>
                <a:latin typeface="Bradley Hand ITC"/>
              </a:rPr>
              <a:t>Jangan menolak perubahan hanya karena anda takut kehilangan yang telah dimiliki, karena dengannya anda merendahkan nilai yang bisa anda capai melalui perubahan it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Bradley Hand ITC"/>
              </a:rPr>
              <a:t>Anda tidak akan berhasil menjadi pribadi baru bila anda berkeras untuk mempertahankan cara-cara lama anda. Anda akan disebut baru, hanya bila cara-cara anda bar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990099"/>
                </a:solidFill>
                <a:latin typeface="Bradley Hand ITC"/>
              </a:rPr>
              <a:t>Ketepatan sikap adalah dasar semua ketepatan. Tidak ada penghalang keberhasilan bila sikap anda tepat, dan tidak ada yang bisa menolong bila sikap anda sal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66ff"/>
                </a:solidFill>
                <a:latin typeface="Bradley Hand ITC"/>
              </a:rPr>
              <a:t>Orang lanjut usia yang berorientasi pada kesempatan adalah orang muda yang tidak pernah menua ; tetapi pemuda yang berorientasi pada keamanan, telah menua sejak mu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6699"/>
                </a:solidFill>
                <a:latin typeface="Bradley Hand ITC"/>
              </a:rPr>
              <a:t>Hanya orang takut yang bisa berani, karena keberanian adalah melakukan sesuatu yang ditakutinya. Maka, bila merasa takut, anda akan punya kesempatan untuk bersikap bera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99ff"/>
                </a:solidFill>
                <a:latin typeface="Bradley Hand ITC"/>
              </a:rPr>
              <a:t>Kekuatan terbesar yang mampu mengalahkan stress adalah kemampuan memilih pikiran yang tepat. Anda akan menjadi lebih damai bila yang anda pikirkan adalah jalan keluar masala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6699"/>
                </a:solidFill>
                <a:latin typeface="Bradley Hand ITC"/>
              </a:rPr>
              <a:t>Jangan pernah merobohkan pagar tanpa mengetahui mengapa didirikan. Jangan pernah mengabaikan tuntunan kebaikan tanpa mengetahui keburukan yang kemudian anda dap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990099"/>
                </a:solidFill>
                <a:latin typeface="Bradley Hand ITC"/>
              </a:rPr>
              <a:t>Seseorang yang menolak memperbarui cara-cara kerjanya yang tidak lagi menghasilkan, berlaku seperti orang yang terus memeras jerami untuk mendapatkan san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6699"/>
                </a:solidFill>
                <a:latin typeface="Bradley Hand ITC"/>
              </a:rPr>
              <a:t>Bila anda belum menemkan pekerjaan yang sesuai dengan bakat anda, bakatilah apapun pekerjaan anda sekarang. Anda akan tampil secemerlang yang berbak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15:36:13Z</dcterms:created>
  <dc:creator>Tusse Fant</dc:creator>
  <dc:description/>
  <dc:language>en-US</dc:language>
  <cp:lastModifiedBy>PANWASLU</cp:lastModifiedBy>
  <dcterms:modified xsi:type="dcterms:W3CDTF">2009-05-29T08:48:01Z</dcterms:modified>
  <cp:revision>25</cp:revision>
  <dc:subject/>
  <dc:title>Feilen med kvinner</dc:title>
</cp:coreProperties>
</file>