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ange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E76-42DF-431F-AC74-B9EB5843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27F2-D2F9-4C42-9BC8-CB9AB219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A2EC-8BC9-4DB9-9830-CB0296FB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00BF-BAD3-4665-8847-F011EBB0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E151F-8630-4EA7-814C-816E05EE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BB53B-864A-4542-8CA6-7EB9F2A0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D8780-5BEE-4EF6-A933-7AA66579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66E34-73B8-4060-879D-3D5F6A5B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D73A1-4CFA-4E7C-B702-76D420F0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879FB-86D2-41CC-B980-0F8FD72A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17EE6-E031-45B0-AE6E-CA74DE06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E0C-D69B-4758-A534-1B3CC6E1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39485-C472-4D5D-A1EA-D787CA0B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3794F-3E4E-426D-AEA4-58E62E3F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BC648-C2B7-4849-8C7E-4540D28B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1EA4C-B5E5-4589-9B89-9099097D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4C6E7-EB8A-4D12-8123-ABE233B9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479C-A3AB-49DA-BFEB-DCF4AD36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B9E-6EDC-47DE-BC7F-69F1B564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636-41CC-4796-86DB-DB49CF5A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82B3-493A-441B-B6CB-B3B94B37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EAB-E1C8-458A-B10C-FB5C19D2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9302-8BEB-442E-BD18-C75AE4DC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EA1-BC17-40C4-8B05-A357A92F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319C-A5E1-4E3B-A917-77A0B05CF3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18DC-51A2-4652-BC86-D2347879C4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gel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ffff"/>
                </a:solidFill>
                <a:latin typeface="Tahoma"/>
              </a:rPr>
              <a:t>KUMPULAN TIPS-TIPS</a:t>
            </a:r>
            <a:br>
              <a:rPr sz="4000"/>
            </a:br>
            <a:r>
              <a:rPr b="0" lang="id-ID" sz="4000" spc="-1" strike="noStrike">
                <a:solidFill>
                  <a:srgbClr val="ffffff"/>
                </a:solidFill>
                <a:latin typeface="Tahoma"/>
              </a:rPr>
              <a:t>MOTIV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364500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MARIO TEGU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40007f"/>
                </a:solidFill>
                <a:latin typeface="Tahoma"/>
              </a:rPr>
              <a:t>Bussiness Efectiveness Consulta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  <p:sndAc>
      <p:stSnd>
        <p:snd r:embed="rId2" name="ange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072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33cccc"/>
                </a:solidFill>
                <a:latin typeface="Bradley Hand ITC"/>
              </a:rPr>
              <a:t>Kita lebih menghormati orang miskin yang berani daripada orang kaya yang penakut. Karena sebetulnya telah jelas perbedaan kualitas masa depan yang akan mereka cap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Bradley Hand ITC"/>
              </a:rPr>
              <a:t>Jika kita hanya mengerjakan yang sudah kita ketahui, kapankah kita akan mendapat pengetahuan yang baru ? Melakukan yang belum kita ketahui adalah pintu menuju pengetahu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072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66ff"/>
                </a:solidFill>
                <a:latin typeface="Bradley Hand ITC"/>
              </a:rPr>
              <a:t>Jangan hanya menghindari yang tidak mungkin. Dengan mencoba sesuatu yang tidak mungkin,anda akan bisa mencapai yang terbaik dari yang mungkin anda cap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666699"/>
                </a:solidFill>
                <a:latin typeface="Bradley Hand ITC"/>
              </a:rPr>
              <a:t>Salah satu pengkerdilan terkejam dalam hidup adalah membiarkan pikiran yang cemerlang menjadi budak bagi tubuh yang malas, yang mendahulukan istirahat sebelum lela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072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333399"/>
                </a:solidFill>
                <a:latin typeface="Bradley Hand ITC"/>
              </a:rPr>
              <a:t>Bila anda mencari uang, anda akan dipaksa mengupayakan pelayanan yang terbaik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333399"/>
                </a:solidFill>
                <a:latin typeface="Bradley Hand ITC"/>
              </a:rPr>
              <a:t>Tetapi jika anda mengutamakan pelayanan yang baik, maka andalah yang akan dicari ua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6699ff"/>
                </a:solidFill>
                <a:latin typeface="Bradley Hand ITC"/>
              </a:rPr>
              <a:t>Waktu ,mengubah semua hal, kecuali kita. Kita mungkin menua dengan berjalanannya waktu, tetapi belum tentu membijak. Kita-lah yang harus mengubah diri kita sendi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072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666699"/>
                </a:solidFill>
                <a:latin typeface="Bradley Hand ITC"/>
              </a:rPr>
              <a:t>Semua waktu adalah waktu yang tepat untuk melakukan sesuatu yang baik. Jangan menjadi orang tua yang masih melakukan sesuatu yang seharusnya dilakukan saat mu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ffff"/>
                </a:solidFill>
                <a:latin typeface="Bradley Hand ITC"/>
              </a:rPr>
              <a:t>Tidak ada harga atas waktu, tapi waktu sangat berharga. Memilik waktu tidak menjadikan kita kaya, tetapi menggunakannya dengan baik adalah sumber dari semua kekaya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Forwardkan mail ini kepada </a:t>
            </a: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sahabat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i sekeliling kita. </a:t>
            </a: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Mudah-mudahan akan menjadi pemompa semangat buat sahabat yang ingin maj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hi</a:t>
            </a:r>
            <a:r>
              <a:rPr b="0" lang="id-ID" sz="2000" spc="-1" strike="noStrike">
                <a:solidFill>
                  <a:srgbClr val="ffffff"/>
                </a:solidFill>
                <a:latin typeface="Tahoma"/>
              </a:rPr>
              <a:t>-200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497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6666ff"/>
                </a:solidFill>
                <a:latin typeface="Bradley Hand ITC"/>
              </a:rPr>
              <a:t>Kita menilai diri dari apa yang kita pikir bisa kita lakukan, padahal orang lain menilai kita dari apa yang sudah kita lakukan. Untuk itu apabila anda berpikir bisa, segeralah lakukan</a:t>
            </a:r>
            <a:r>
              <a:rPr b="1" lang="id-ID" sz="3200" spc="-1" strike="noStrike">
                <a:solidFill>
                  <a:srgbClr val="6666ff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663300"/>
                </a:solidFill>
                <a:latin typeface="Bradley Hand ITC"/>
              </a:rPr>
              <a:t>Bukan pertumbuhan yang lambat yang harus anda takuti. Akan tetapi anda harus lebih takut untuk tidak tumbuh sama sekali. Maka tumbuhkanlah diri anda dengan kecepatan apapun it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6666ff"/>
                </a:solidFill>
                <a:latin typeface="Bradley Hand ITC"/>
              </a:rPr>
              <a:t>Jika anda sedang benar, jangan terlalu berani dan bila anda sedang takut, jangan terlalu takut. Karena keseimbangan sikap adalah penentu ketepatan perjalanan kesuksesan and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663300"/>
                </a:solidFill>
                <a:latin typeface="Bradley Hand ITC"/>
              </a:rPr>
              <a:t>Tugas kita bukanlah untuk berhasil. Tugas kita adalah untuk mencoba, karena didalam mencoba itulah kita menemukan dan belajar membangun kesempatan untuk berhas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072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cc00"/>
                </a:solidFill>
                <a:latin typeface="Bradley Hand ITC"/>
              </a:rPr>
              <a:t>Anda hanya dekat dengan mereka yang anda sukai. Dan seringkali anda menghindari orang yang tidak tidak anda sukai, padahal dari dialah Anda akan mengenal sudut pandang yang baru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0066"/>
                </a:solidFill>
                <a:latin typeface="Bradley Hand ITC"/>
              </a:rPr>
              <a:t>Orang-orang yang berhenti belajar akan menjadi pemilik masa lalu. Orang-orang yang masih terus belajar, akan menjadi pemilik masa dep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072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cc00"/>
                </a:solidFill>
                <a:latin typeface="Bradley Hand ITC"/>
              </a:rPr>
              <a:t>Tinggalkanlah kesenangan yang menghalangi pencapaian kecemerlangan hidup yang di idamkan. Dan berhati-hatilah, karena beberapa kesenangan adalah cara gembira menuju kegaga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ffff"/>
                </a:solidFill>
                <a:latin typeface="Bradley Hand ITC"/>
              </a:rPr>
              <a:t>Jangan menolak perubahan hanya karena anda takut kehilangan yang telah dimiliki, karena dengannya anda merendahkan nilai yang bisa anda capai melalui perubahan it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072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Bradley Hand ITC"/>
              </a:rPr>
              <a:t>Anda tidak akan berhasil menjadi pribadi baru bila anda berkeras untuk mempertahankan cara-cara lama anda. Anda akan disebut baru, hanya bila cara-cara anda bar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990099"/>
                </a:solidFill>
                <a:latin typeface="Bradley Hand ITC"/>
              </a:rPr>
              <a:t>Ketepatan sikap adalah dasar semua ketepatan. Tidak ada penghalang keberhasilan bila sikap anda tepat, dan tidak ada yang bisa menolong bila sikap anda sal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072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66ff"/>
                </a:solidFill>
                <a:latin typeface="Bradley Hand ITC"/>
              </a:rPr>
              <a:t>Orang lanjut usia yang berorientasi pada kesempatan adalah orang muda yang tidak pernah menua ; tetapi pemuda yang berorientasi pada keamanan, telah menua sejak mu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666699"/>
                </a:solidFill>
                <a:latin typeface="Bradley Hand ITC"/>
              </a:rPr>
              <a:t>Hanya orang takut yang bisa berani, karena keberanian adalah melakukan sesuatu yang ditakutinya. Maka, bila merasa takut, anda akan punya kesempatan untuk bersikap bera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072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6699ff"/>
                </a:solidFill>
                <a:latin typeface="Bradley Hand ITC"/>
              </a:rPr>
              <a:t>Kekuatan terbesar yang mampu mengalahkan stress adalah kemampuan memilih pikiran yang tepat. Anda akan menjadi lebih damai bila yang anda pikirkan adalah jalan keluar masala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666699"/>
                </a:solidFill>
                <a:latin typeface="Bradley Hand ITC"/>
              </a:rPr>
              <a:t>Jangan pernah merobohkan pagar tanpa mengetahui mengapa didirikan. Jangan pernah mengabaikan tuntunan kebaikan tanpa mengetahui keburukan yang kemudian anda dap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072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990099"/>
                </a:solidFill>
                <a:latin typeface="Bradley Hand ITC"/>
              </a:rPr>
              <a:t>Seseorang yang menolak memperbarui cara-cara kerjanya yang tidak lagi menghasilkan, berlaku seperti orang yang terus memeras jerami untuk mendapatkan san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666699"/>
                </a:solidFill>
                <a:latin typeface="Bradley Hand ITC"/>
              </a:rPr>
              <a:t>Bila anda belum menemkan pekerjaan yang sesuai dengan bakat anda, bakatilah apapun pekerjaan anda sekarang. Anda akan tampil secemerlang yang berbak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9T15:36:13Z</dcterms:created>
  <dc:creator>Tusse Fant</dc:creator>
  <dc:description/>
  <dc:language>en-US</dc:language>
  <cp:lastModifiedBy>Information Technology Group</cp:lastModifiedBy>
  <dcterms:modified xsi:type="dcterms:W3CDTF">2008-10-16T08:31:40Z</dcterms:modified>
  <cp:revision>25</cp:revision>
  <dc:subject/>
  <dc:title>Feilen med kvinner</dc:title>
</cp:coreProperties>
</file>