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0.jpeg" ContentType="image/jpeg"/>
  <Override PartName="/ppt/media/image64.png" ContentType="image/png"/>
  <Override PartName="/ppt/media/image21.jpeg" ContentType="image/jpeg"/>
  <Override PartName="/ppt/media/image17.jpeg" ContentType="image/jpeg"/>
  <Override PartName="/ppt/media/image19.jpeg" ContentType="image/jpeg"/>
  <Override PartName="/ppt/media/image16.jpeg" ContentType="image/jpeg"/>
  <Override PartName="/ppt/media/image22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42.jpeg" ContentType="image/jpeg"/>
  <Override PartName="/ppt/media/image59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50.jpeg" ContentType="image/jpeg"/>
  <Override PartName="/ppt/media/Fractalvogels.wav" ContentType="audio/x-wav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739-A1F5-4B5C-892E-29381A91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A8A-875F-48C6-AE37-052B5382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673-4BB0-479B-A2F9-5D6B5E45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E6A-4733-4A57-ACF9-994A3865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B91-D7D8-4344-9B0B-CD22F3A7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79A-5F0A-40E1-B1A1-891B9314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155-EE62-4B10-AF9A-64B72E22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7E1-861C-4BDB-A7AE-0D142758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41C-F18B-4C35-B90E-2B4F172F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D4A-516E-4E33-B0AA-A4F69507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51DC-7CCA-40BC-A6BC-B4A2D2D3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D0D-2CDB-4A1B-B00C-1FD9A1CF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1256-81BB-4E9F-9E7F-0151F90D1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Fractalvogel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453360"/>
            <a:ext cx="3960720" cy="40464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252360" y="1844640"/>
            <a:ext cx="3851280" cy="5013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619280" y="1557360"/>
            <a:ext cx="6337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CRISTAIS GIGANT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6158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440" y="4937040"/>
            <a:ext cx="900756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o  fotógrafo acostumado a trabalhar em ambientes escuros e perigosos, fui convidado para esta experiência   original. Um ser humano só pode permanecer neste ambiente por cerca de seis a dez minutos, antes que ocorra uma perda severa das funções mentais. Eu estava excitado  e realmente tive que   me concentrar intensamente para  fotografar os cristais, me mantendo no começo,  cerca de trinta a quarenta pés afastado deles”. (Javier T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4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530064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"Andar em qualquer uma destas cavernas é como pisar sobre um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geod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espécie de drusa) gigantesco," disse Richard D. Fisher, consultor americano contratado pela companhia de mineração para transformar as  descobertas numa atração  turística. Segundo ele, a maioria das pessoas só poderia resistir  alguns minutos nas cavernas, devido à suas altas temperatu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6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1360" y="5486400"/>
            <a:ext cx="8702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a menor das duas cavernas, do tamanho de um apartamento de 2 quartos, a temperatura é de 100 Fahrenheit  (40°C).  Na câmara maior, que   Fisher descreveu como tendo o tamanho de uma catedral, é de 150 F (60ºC). Ambos ficam situadas aproximadamente, a 290 metros abaixo da superfíc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5546880"/>
            <a:ext cx="9828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Os maiores cristais   foram encontrados na “Gruta das Espadas", que faz parte do sistem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avernas da mesma mina. Alguns deles estão agora em exposição na instituição Smithsoni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egundo Fisher, os proprietários da mina e o  governo local, esperam evitar a remoção de peç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essa descoberta,  para exposições em museus ou coleções particula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56610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tualmente, a companhia de mineração limitou  a visitação das cavernas aos peritos e cientistas. Caçadores de minerais destruíram passagens e quebraram as câmaras por duas vezes, desde que foram descobertas. Além do calor, o ambiente é perigoso. De acordo com o Fisher, um minerador  tentava levar  um cristal gigantesco para fora, quado  um outro caiu e o mato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4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546880"/>
            <a:ext cx="862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"Nós necessitamos de maior proteção nas cavernas da mina”, disse a geóloga Carol A.Hill, co-autora do livro "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A caverna dos maiores cristais do mund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", no qual relatou essas  novas descobertas. "Eu sempre ouvi falar de cristais de selenita grandes assim...Mas não pensei que existissem…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6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4000" y="5546880"/>
            <a:ext cx="8397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escritora é favorável a um plano para a exploração do turismo. Sem ele, a companhia de mineração provavelmente destruiria as cavernas. Os museus têm bastante cristais, disse. É importante preservar descobertas como estas, onde ocorr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5589720"/>
            <a:ext cx="847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companhia de mineração planeja colocar ar-condicionado nas cavernas antes que sejam abertas ao grande público, Fisher disse. Acrescenta  que, reduzindo o calor gradualmente, os cristais não serão prejudic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1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516640"/>
            <a:ext cx="947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s oficiais da  Companhia Penoles  que possui a mina, mantiveram as descobertas em segredo, temendo o vandalismo. Não muitas pessoas entretanto, se arriscariam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cinto cuja temperatura paira em 60 graus C, com 100 % de umidade. Pode-se permanecer dentro da caverna por apenas seis a dez minutos antes de se ficar desorien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6237360"/>
            <a:ext cx="619272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6237360"/>
            <a:ext cx="614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Mas, qual o segredo dos cristais giga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816360" cy="5516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39640" y="333360"/>
            <a:ext cx="8305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33cc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33cc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ICA - A Gruta dos Cristais Gigantes   </a:t>
            </a:r>
            <a:endParaRPr b="0" lang="en-US" sz="2400" spc="1" strike="noStrike">
              <a:ln w="19080">
                <a:solidFill>
                  <a:srgbClr val="33cc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876920" y="1371600"/>
            <a:ext cx="3886200" cy="5143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6524640"/>
            <a:ext cx="3960720" cy="33336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29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6200" y="5562720"/>
            <a:ext cx="893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589720"/>
            <a:ext cx="95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stas montanhas de  pedra calcária com mais de 200 milhões de anos, hospedam redes de cavernas cortadas por águas térmicas quentes e mineralizadas, muito profund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248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661000"/>
            <a:ext cx="914400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s águas subterrâneas nestas cavernas, ricas em enxôfre dos depósitos adjacentes, começaram a dissolver as paredes de pedra calcária, liberando grandes quantidades  de cálcio. Este cálcio, por sua vez, combinou-se com o enxôfre para dar forma a cristais em uma escala jamais vista antes, por seres human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38520" y="0"/>
            <a:ext cx="550548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35280" cy="5643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670720"/>
            <a:ext cx="109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As condições eram perfeitas! Se a temperatura se  mantem estável,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pouco menos de 58ºC, e por muito tempo,formam-se cristais m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grandes!” - disse Juan M.Garcia Ruiz, da Univ.de Granada, na Espan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801720"/>
            <a:ext cx="9144000" cy="605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333360"/>
            <a:ext cx="914400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lém das colunas de cristais com   3 metros de diâmetro e 11 metros de comprimento, a caverna contêm várias fileiras de cristais no teto e no chão, lembrando a forma de dentes de tubarão, ajustadas em ângulos impares. Esta formação mineral de cristal  conhecida  como  selenita, é uma homenagem à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elene,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o deus grego da lu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4411800"/>
            <a:ext cx="3257640" cy="2446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00400" y="4411800"/>
            <a:ext cx="3257640" cy="2446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400800" y="44197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838080" y="0"/>
            <a:ext cx="491472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571680" y="3429000"/>
            <a:ext cx="5143680" cy="3463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733920" y="0"/>
            <a:ext cx="5410080" cy="3449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038480" y="3459240"/>
            <a:ext cx="510552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5296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5149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75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869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86400" y="0"/>
            <a:ext cx="4557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0000" y="615240"/>
            <a:ext cx="446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esta época em que poucos acontecimentos nos assombram, a natureza nos brinda co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ma extraordinaria e única oportunidad para admir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hecer e proteger, um local excepcional, uma maravilha única de nosso planeta por sua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leza, valor geológico e científico: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rutas de Naic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localizadas numa  área de exploração Mineral, no estado de Chihuahua ao norte de México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643280" cy="6524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02920" y="587700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Times New Roman"/>
              </a:rPr>
              <a:t>(Clique para passar slides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578808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ando a extração dos minérios de Naica   já não for viável, a mina será fechada e as cavernas serão submergidas - e os cristais começarão a crescer outr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1484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89720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617220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0" y="2590920"/>
            <a:ext cx="3657600" cy="1942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733920" y="2360520"/>
            <a:ext cx="2857320" cy="2136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3886200" y="0"/>
            <a:ext cx="3009960" cy="225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6561000" y="2971800"/>
            <a:ext cx="2583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08680" y="2332080"/>
            <a:ext cx="323532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-228600" y="4686480"/>
            <a:ext cx="3246480" cy="2171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-22860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971800" y="228600"/>
            <a:ext cx="6172200" cy="243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803680" y="2666880"/>
            <a:ext cx="3139920" cy="4191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0" y="2666880"/>
            <a:ext cx="2819520" cy="20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33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33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4920" y="3429000"/>
            <a:ext cx="4537080" cy="3406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5121360" cy="3622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0" y="2819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Times New Roman"/>
              </a:rPr>
              <a:t>Flash with backligh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895480"/>
            <a:ext cx="329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Times New Roman"/>
              </a:rPr>
              <a:t>Picture with flash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79132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cidade de Chihuahua é a capital  do estado mexicano de Chihuahua, com uma população de aproximadamente 748.551. A atividade predominant é a indústr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mina de Naica encontra-se a 100km ao N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3504960" y="0"/>
            <a:ext cx="1523880" cy="15238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48690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sas grutas, com   temperatura de até 60° C  e humidade de 100%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 berço dos cristais gigantes! Uma floresta de cristai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s maiores do  Planeta. Um lugar além da imaginação, além de qualquer  sonh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5516640"/>
            <a:ext cx="923616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hihuahua, México, lar de duas cavernas quentes que contêm os maiores cristais naturais do mundo... O primeiro cristal  de selenita retirado da caverna para estudos, tem 11 metros de comprimento e pesa 55 tone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71640" y="3284640"/>
            <a:ext cx="741672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onte: REVISTA GE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atéria e Fotos: JAVIER TRUE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(Madrid Scientific film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radução e adaptação do texto: OLGA MENDO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ntato: </a:t>
            </a:r>
            <a:r>
              <a:rPr b="1" lang="en-US" sz="2400" spc="-1" strike="noStrike" u="sng">
                <a:solidFill>
                  <a:srgbClr val="6600ff"/>
                </a:solidFill>
                <a:uFillTx/>
                <a:latin typeface="Times New Roman"/>
              </a:rPr>
              <a:t>terapeutaolga@yahoo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úsica: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Fractavogel.w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cife, Junho d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484360" y="-316080"/>
            <a:ext cx="41655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445000"/>
            <a:ext cx="8931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MS Sans Serif"/>
              </a:rPr>
              <a:t>Cristais naturais, os maiores da terra, foram descobertos em duas cavernas de uma mina da prata e   zinco, em Naica, estado de Chihuahua, México. Alcançando comprimentos de até 14 metros, os cristais facetados são composto de selenita,  um tipo de gesso translúcido, cristalino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00600" y="1182600"/>
            <a:ext cx="4343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Uma das maiores jazidas de zinco e  prata   do mundo, 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as minas de Naica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, no  México, está trabalhando   para que os seus cristais extraordinários sejam conhecidos. Nelas, existem grandes câmaras a vácuo, onde  foram encontrados  cristais de selenita (gypsum) gigantes, medindo de 3 a 4 metros de diâmetro e de 11 a 14 metros de altura. A câmara que abriga estes cristais ficou conhecida como "A Gruta dos Cristais  Gigantes" e localiza-se  aproximadamente a 290 metros abaixo da rocha de pedra calcária da mina. Os cristais foram   formados pelos líquidos hidrotermais que emanaram das câmaras de magma abaixo. A caverna foi descoberta quando os mineiros estavam perfurando a  falha de Naica,   preocupados que  a mina fosse inundada. "A Gruta das Espadas" é uma outra câmara na mina de Naica, contendo cristais  simila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84760" y="0"/>
            <a:ext cx="43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Os maiores cristais de Selenita do mun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53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6440" y="6032520"/>
            <a:ext cx="900756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440" y="5013360"/>
            <a:ext cx="900756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Em abril de 2000, os irmãos Eloy e Javier Delgado encontraram o que peritos acreditam ser os maiores cristais do mundo, ao explodirem um novo túnel,  a quase 300 metros  abaixo da mina de prata de Naica, em Chihuahua do sul. Eloy, que tem quarenta anos de idade, escalou  uma pequena abertura  entre as rochas,  até atingir a   caverna, bloqueada com cristais imensos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"Era bonito, como a luz  refletida por um espelho quebrado", disse e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57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548640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“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visão dos cristais translúcidos  entrelaçados uns sobre os outros, era fantástica! Como se estivessem ali apenas aguardando  que lhe examinassem o peso e  a substância”. Um mês depois, uma outra equipe de mineiros de Naica, encontrou uma caverna maior, ao lado da primeir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440" y="5908680"/>
            <a:ext cx="900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92160" y="4384800"/>
            <a:ext cx="900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241960"/>
            <a:ext cx="937260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ão foi fácil conseguir as primeiras fotografias dos cristais gigantes. Era necessário encontrar  um fotógrafo profissional especializado em ambientes extremos,  gargantas difíceis, estreitas e molhadas, capaz de enfrentar a temperatura da caverna, de 150 graus Fahrenheit  (60°C) e 100 % de humid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7:11:16Z</dcterms:created>
  <dc:creator>LongstreetsInAlberta</dc:creator>
  <dc:description>Music-Enya-Celts</dc:description>
  <dc:language>en-US</dc:language>
  <cp:lastModifiedBy>Olga Mendonça</cp:lastModifiedBy>
  <dcterms:modified xsi:type="dcterms:W3CDTF">2007-06-29T00:18:17Z</dcterms:modified>
  <cp:revision>10</cp:revision>
  <dc:subject>NaturalWonder</dc:subject>
  <dc:title>NaicaCrystalCave</dc:title>
</cp:coreProperties>
</file>