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40.jpeg" ContentType="image/jpeg"/>
  <Override PartName="/ppt/media/image13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60.jpeg" ContentType="image/jpeg"/>
  <Override PartName="/ppt/media/image64.png" ContentType="image/png"/>
  <Override PartName="/ppt/media/image21.jpeg" ContentType="image/jpeg"/>
  <Override PartName="/ppt/media/image17.jpeg" ContentType="image/jpeg"/>
  <Override PartName="/ppt/media/image19.jpeg" ContentType="image/jpeg"/>
  <Override PartName="/ppt/media/image16.jpeg" ContentType="image/jpeg"/>
  <Override PartName="/ppt/media/image22.jpeg" ContentType="image/jpeg"/>
  <Override PartName="/ppt/media/image20.jpeg" ContentType="image/jpeg"/>
  <Override PartName="/ppt/media/image63.jpeg" ContentType="image/jpeg"/>
  <Override PartName="/ppt/media/image6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42.jpeg" ContentType="image/jpeg"/>
  <Override PartName="/ppt/media/image59.jpeg" ContentType="image/jpeg"/>
  <Override PartName="/ppt/media/image62.jpeg" ContentType="image/jpeg"/>
  <Override PartName="/ppt/media/image5.jpeg" ContentType="image/jpeg"/>
  <Override PartName="/ppt/media/image18.jpeg" ContentType="image/jpeg"/>
  <Override PartName="/ppt/media/image50.jpeg" ContentType="image/jpeg"/>
  <Override PartName="/ppt/media/Fractalvogels.wav" ContentType="audio/x-wav"/>
  <Override PartName="/ppt/media/image51.jpeg" ContentType="image/jpeg"/>
  <Override PartName="/ppt/media/image7.jpeg" ContentType="image/jpeg"/>
  <Override PartName="/ppt/media/image38.jpeg" ContentType="image/jpeg"/>
  <Override PartName="/ppt/media/image27.jpeg" ContentType="image/jpeg"/>
  <Override PartName="/ppt/media/image10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29.jpeg" ContentType="image/jpeg"/>
  <Override PartName="/ppt/media/image1.png" ContentType="image/png"/>
  <Override PartName="/ppt/media/image52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F265-DE6F-4EE7-A948-6FDA01EBE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9092-C6D1-4547-BBD8-5D747AEC8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E80E-B2C0-4DAE-BBA8-2F04D9F3A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7C78-6F91-4407-8D21-D8D4EEF35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AEBF-C766-47E3-B168-D36F4F8F1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0718-3918-4AC0-A91E-3E91DBABB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1F61-95F7-4829-A141-3DC3E9CF8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5FE1-B064-4861-B994-29627D50A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E01E-F017-43EA-A2F8-D2693F731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8720-A1F5-4720-89FF-57CC5FEF9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12CC-D43B-443E-88E9-196E7D26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3D8D-7397-44F6-8826-62CC1A27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15C0B-78F9-49DA-A6A7-10FEC0BFA6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audio" Target="../media/Fractalvogels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image" Target="../media/image53.jpeg"/><Relationship Id="rId6" Type="http://schemas.openxmlformats.org/officeDocument/2006/relationships/image" Target="../media/image54.jpeg"/><Relationship Id="rId7" Type="http://schemas.openxmlformats.org/officeDocument/2006/relationships/image" Target="../media/image55.jpeg"/><Relationship Id="rId8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image" Target="../media/image60.jpeg"/><Relationship Id="rId6" Type="http://schemas.openxmlformats.org/officeDocument/2006/relationships/image" Target="../media/image61.jpeg"/><Relationship Id="rId7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6453360"/>
            <a:ext cx="3960720" cy="404640"/>
          </a:xfrm>
          <a:prstGeom prst="rect">
            <a:avLst/>
          </a:prstGeom>
          <a:solidFill>
            <a:srgbClr val="0808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-252360" y="1844640"/>
            <a:ext cx="3851280" cy="5013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1619280" y="1557360"/>
            <a:ext cx="6337440" cy="33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 Black"/>
              </a:rPr>
              <a:t>CRISTAIS GIGANTES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-603360"/>
            <a:ext cx="9144000" cy="6158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36440" y="4937040"/>
            <a:ext cx="9007560" cy="192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omo  fotógrafo acostumado a trabalhar em ambientes escuros e perigosos, fui convidado para esta experiência   original. Um ser humano só pode permanecer neste ambiente por cerca de seis a dez minutos, antes que ocorra uma perda severa das funções mentais. Eu estava excitado  e realmente tive que   me concentrar intensamente para  fotografar os cristais, me mantendo no começo,  cerca de trinta a quarenta pés afastado deles”. (Javier Trueb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148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0" y="5300640"/>
            <a:ext cx="9144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"Andar em qualquer uma destas cavernas é como pisar sobre um 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geodo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(espécie de drusa) gigantesco," disse Richard D. Fisher, consultor americano contratado pela companhia de mineração para transformar as  descobertas numa atração  turística. Segundo ele, a maioria das pessoas só poderia resistir  alguns minutos nas cavernas, devido à suas altas temperatur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864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41360" y="5486400"/>
            <a:ext cx="8702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Na menor das duas cavernas, do tamanho de um apartamento de 2 quartos, a temperatura é de 100 Fahrenheit  (40°C).  Na câmara maior, que   Fisher descreveu como tendo o tamanho de uma catedral, é de 150 F (60ºC). Ambos ficam situadas aproximadamente, a 290 metros abaixo da superfíci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450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5546880"/>
            <a:ext cx="98283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Os maiores cristais   foram encontrados na “Gruta das Espadas", que faz parte do sistema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cavernas da mesma mina. Alguns deles estão agora em exposição na instituição Smithsonia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Segundo Fisher, os proprietários da mina e o  governo local, esperam evitar a remoção de peç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dessa descoberta,  para exposições em museus ou coleções particular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450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56610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Atualmente, a companhia de mineração limitou  a visitação das cavernas aos peritos e cientistas. Caçadores de minerais destruíram passagens e quebraram as câmaras por duas vezes, desde que foram descobertas. Além do calor, o ambiente é perigoso. De acordo com o Fisher, um minerador  tentava levar  um cristal gigantesco para fora, quado  um outro caiu e o matou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148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0" y="5546880"/>
            <a:ext cx="8626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"Nós necessitamos de maior proteção nas cavernas da mina”, disse a geóloga Carol A.Hill, co-autora do livro "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A caverna dos maiores cristais do mundo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", no qual relatou essas  novas descobertas. "Eu sempre ouvi falar de cristais de selenita grandes assim...Mas não pensei que existissem…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864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24000" y="5546880"/>
            <a:ext cx="8397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A escritora é favorável a um plano para a exploração do turismo. Sem ele, a companhia de mineração provavelmente destruiria as cavernas. Os museus têm bastante cristais, disse. É importante preservar descobertas como estas, onde ocorre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720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24000" y="5589720"/>
            <a:ext cx="8474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A companhia de mineração planeja colocar ar-condicionado nas cavernas antes que sejam abertas ao grande público, Fisher disse. Acrescenta  que, reduzindo o calor gradualmente, os cristais não serão prejudicad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119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5516640"/>
            <a:ext cx="947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Os oficiais da  Companhia Penoles  que possui a mina, mantiveram as descobertas em segredo, temendo o vandalismo. Não muitas pessoas entretanto, se arriscariam 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recinto cuja temperatura paira em 60 graus C, com 100 % de umidade. Pode-se permanecer dentro da caverna por apenas seis a dez minutos antes de se ficar desorient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971640" y="6237360"/>
            <a:ext cx="619272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71640" y="6237360"/>
            <a:ext cx="614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Mas, qual o segredo dos cristais gigan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3816360" cy="55166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539640" y="333360"/>
            <a:ext cx="83059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33cccc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19080">
                  <a:solidFill>
                    <a:srgbClr val="33cccc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AICA - A Gruta dos Cristais Gigantes   </a:t>
            </a:r>
            <a:endParaRPr b="0" lang="en-US" sz="2400" spc="1" strike="noStrike">
              <a:ln w="19080">
                <a:solidFill>
                  <a:srgbClr val="33cccc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4876920" y="1371600"/>
            <a:ext cx="3886200" cy="5143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11280" y="6524640"/>
            <a:ext cx="3960720" cy="333360"/>
          </a:xfrm>
          <a:prstGeom prst="rect">
            <a:avLst/>
          </a:prstGeom>
          <a:solidFill>
            <a:srgbClr val="0808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0"/>
                            </p:stCondLst>
                            <p:childTnLst>
                              <p:par>
                                <p:cTn id="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6000"/>
                            </p:stCondLst>
                            <p:childTnLst>
                              <p:par>
                                <p:cTn id="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292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06200" y="5562720"/>
            <a:ext cx="8931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5589720"/>
            <a:ext cx="95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Estas montanhas de  pedra calcária com mais de 200 milhões de anos, hospedam redes de cavernas cortadas por águas térmicas quentes e mineralizadas, muito profund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62485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5661000"/>
            <a:ext cx="9144000" cy="192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As águas subterrâneas nestas cavernas, ricas em enxôfre dos depósitos adjacentes, começaram a dissolver as paredes de pedra calcária, liberando grandes quantidades  de cálcio. Este cálcio, por sua vez, combinou-se com o enxôfre para dar forma a cristais em uma escala jamais vista antes, por seres human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638520" y="0"/>
            <a:ext cx="550548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635280" cy="56437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5805360"/>
            <a:ext cx="9144000" cy="10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5670720"/>
            <a:ext cx="109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As condições eram perfeitas! Se a temperatura se  mantem estável,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pouco menos de 58ºC, e por muito tempo,formam-se cristais mu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grandes!” - disse Juan M.Garcia Ruiz, da Univ.de Granada, na Espanh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801720"/>
            <a:ext cx="9144000" cy="60562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333360"/>
            <a:ext cx="9144000" cy="1313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Além das colunas de cristais com   3 metros de diâmetro e 11 metros de comprimento, a caverna contêm várias fileiras de cristais no teto e no chão, lembrando a forma de dentes de tubarão, ajustadas em ângulos impares. Esta formação mineral de cristal  conhecida  como  selenita, é uma homenagem à 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Selene,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o deus grego da lu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4411800"/>
            <a:ext cx="3257640" cy="24462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3200400" y="4411800"/>
            <a:ext cx="3257640" cy="2446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6400800" y="4419720"/>
            <a:ext cx="3276720" cy="24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-838080" y="0"/>
            <a:ext cx="4914720" cy="3429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-571680" y="3429000"/>
            <a:ext cx="5143680" cy="34639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3733920" y="0"/>
            <a:ext cx="5410080" cy="34495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4038480" y="3459240"/>
            <a:ext cx="5105520" cy="339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5296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51498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2752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869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5760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586400" y="0"/>
            <a:ext cx="45576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680000" y="615240"/>
            <a:ext cx="446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esta época em que poucos acontecimentos nos assombram, a natureza nos brinda com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uma extraordinaria e única oportunidad para admira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nhecer e proteger, um local excepcional, uma maravilha única de nosso planeta por sua gra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eleza, valor geológico e científico: as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Grutas de Naica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, localizadas numa  área de exploração Mineral, no estado de Chihuahua ao norte de México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4643280" cy="6524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002920" y="5877000"/>
            <a:ext cx="35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cc"/>
                </a:solidFill>
                <a:latin typeface="Times New Roman"/>
              </a:rPr>
              <a:t>(Clique para passar slides</a:t>
            </a: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0" y="5788080"/>
            <a:ext cx="914400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Quando a extração dos minérios de Naica   já não for viável, a mina será fechada e as cavernas serão submergidas - e os cristais começarão a crescer outra ve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714840" cy="25718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897200" cy="28576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0" y="4572000"/>
            <a:ext cx="6172200" cy="2286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0" y="2590920"/>
            <a:ext cx="3657600" cy="19429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3733920" y="2360520"/>
            <a:ext cx="2857320" cy="21369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3886200" y="0"/>
            <a:ext cx="3009960" cy="2251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7"/>
          <a:stretch/>
        </p:blipFill>
        <p:spPr>
          <a:xfrm>
            <a:off x="6561000" y="2971800"/>
            <a:ext cx="258300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908680" y="2332080"/>
            <a:ext cx="3235320" cy="45259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-228600" y="4686480"/>
            <a:ext cx="3246480" cy="21715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-228600" y="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2971800" y="228600"/>
            <a:ext cx="6172200" cy="24382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2803680" y="2666880"/>
            <a:ext cx="3139920" cy="4191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6"/>
          <a:stretch/>
        </p:blipFill>
        <p:spPr>
          <a:xfrm>
            <a:off x="0" y="2666880"/>
            <a:ext cx="2819520" cy="200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4336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4336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34920" y="3429000"/>
            <a:ext cx="4537080" cy="34066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4572000" y="3429000"/>
            <a:ext cx="5121360" cy="36226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572000" y="281952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Times New Roman"/>
              </a:rPr>
              <a:t>Flash with backlight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2895480"/>
            <a:ext cx="329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Times New Roman"/>
              </a:rPr>
              <a:t>Picture with flash on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5791320"/>
            <a:ext cx="91440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A cidade de Chihuahua é a capital  do estado mexicano de Chihuahua, com uma população de aproximadamente 748.551. A atividade predominant é a indústria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A mina de Naica encontra-se a 100km ao N.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38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 flipH="1">
            <a:off x="3504960" y="0"/>
            <a:ext cx="1523880" cy="152388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24000" y="486900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ssas grutas, com   temperatura de até 60° C  e humidade de 100%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 berço dos cristais gigantes! Uma floresta de cristais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os maiores do  Planeta. Um lugar além da imaginação, além de qualquer  sonho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0" y="5516640"/>
            <a:ext cx="9236160" cy="1313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hihuahua, México, lar de duas cavernas quentes que contêm os maiores cristais naturais do mundo... O primeiro cristal  de selenita retirado da caverna para estudos, tem 11 metros de comprimento e pesa 55 tonelad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971640" y="3284640"/>
            <a:ext cx="7416720" cy="33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Fonte: REVISTA GEOLOG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Matéria e Fotos: JAVIER TRUEB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(Madrid Scientific film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Tradução e adaptação do texto: OLGA MENDONÇ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Contato: </a:t>
            </a:r>
            <a:r>
              <a:rPr b="1" lang="en-US" sz="2400" spc="-1" strike="noStrike" u="sng">
                <a:solidFill>
                  <a:srgbClr val="6600ff"/>
                </a:solidFill>
                <a:uFillTx/>
                <a:latin typeface="Times New Roman"/>
              </a:rPr>
              <a:t>terapeutaolga@yahoo.com.b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Música: </a:t>
            </a: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Fractavogel.wa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Recife, Junho de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484360" y="-316080"/>
            <a:ext cx="416556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00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5445000"/>
            <a:ext cx="89312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MS Sans Serif"/>
              </a:rPr>
              <a:t>Cristais naturais, os maiores da terra, foram descobertos em duas cavernas de uma mina da prata e   zinco, em Naica, estado de Chihuahua, México. Alcançando comprimentos de até 14 metros, os cristais facetados são composto de selenita,  um tipo de gesso translúcido, cristalino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576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800600" y="1182600"/>
            <a:ext cx="4343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Uma das maiores jazidas de zinco e  prata   do mundo, </a:t>
            </a:r>
            <a:r>
              <a:rPr b="1" lang="en-US" sz="1800" spc="-1" strike="noStrike">
                <a:solidFill>
                  <a:srgbClr val="ffffcc"/>
                </a:solidFill>
                <a:latin typeface="Times New Roman"/>
              </a:rPr>
              <a:t>as minas de Naica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, no  México, está trabalhando   para que os seus cristais extraordinários sejam conhecidos. Nelas, existem grandes câmaras a vácuo, onde  foram encontrados  cristais de selenita (gypsum) gigantes, medindo de 3 a 4 metros de diâmetro e de 11 a 14 metros de altura. A câmara que abriga estes cristais ficou conhecida como "A Gruta dos Cristais  Gigantes" e localiza-se  aproximadamente a 290 metros abaixo da rocha de pedra calcária da mina. Os cristais foram   formados pelos líquidos hidrotermais que emanaram das câmaras de magma abaixo. A caverna foi descoberta quando os mineiros estavam perfurando a  falha de Naica,   preocupados que  a mina fosse inundada. "A Gruta das Espadas" é uma outra câmara na mina de Naica, contendo cristais  similar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84760" y="0"/>
            <a:ext cx="435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Os maiores cristais de Selenita do mundo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653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36440" y="6032520"/>
            <a:ext cx="9007560" cy="33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6440" y="5013360"/>
            <a:ext cx="9007560" cy="1465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Em abril de 2000, os irmãos Eloy e Javier Delgado encontraram o que peritos acreditam ser os maiores cristais do mundo, ao explodirem um novo túnel,  a quase 300 metros  abaixo da mina de prata de Naica, em Chihuahua do sul. Eloy, que tem quarenta anos de idade, escalou  uma pequena abertura  entre as rochas,  até atingir a   caverna, bloqueada com cristais imensos!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"Era bonito, como a luz  refletida por um espelho quebrado", disse e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4579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28600" y="5486400"/>
            <a:ext cx="8915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“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A visão dos cristais translúcidos  entrelaçados uns sobre os outros, era fantástica! Como se estivessem ali apenas aguardando  que lhe examinassem o peso e  a substância”. Um mês depois, uma outra equipe de mineiros de Naica, encontrou uma caverna maior, ao lado da primeira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36440" y="5908680"/>
            <a:ext cx="900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-92160" y="4384800"/>
            <a:ext cx="900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5241960"/>
            <a:ext cx="9372600" cy="1313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Não foi fácil conseguir as primeiras fotografias dos cristais gigantes. Era necessário encontrar  um fotógrafo profissional especializado em ambientes extremos,  gargantas difíceis, estreitas e molhadas, capaz de enfrentar a temperatura da caverna, de 150 graus Fahrenheit  (60°C) e 100 % de humidad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2T17:11:16Z</dcterms:created>
  <dc:creator>LongstreetsInAlberta</dc:creator>
  <dc:description>Music-Enya-Celts</dc:description>
  <dc:language>en-US</dc:language>
  <cp:lastModifiedBy>Olga Mendonça</cp:lastModifiedBy>
  <dcterms:modified xsi:type="dcterms:W3CDTF">2007-06-29T00:18:17Z</dcterms:modified>
  <cp:revision>10</cp:revision>
  <dc:subject>NaturalWonder</dc:subject>
  <dc:title>NaicaCrystalCave</dc:title>
</cp:coreProperties>
</file>