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008-_PARIS_21.WAV" ContentType="audio/x-wav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7A3-63FF-4206-B6C3-8242BD7C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AB6-BEB0-4257-96BF-8CE3F5CD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25D-D958-4CE2-9636-F9CBC75D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A58-7106-4389-BEFF-5D36DAB6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B7C-A13B-45DA-9D6C-AC9AF013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082-C627-4E56-9D4A-089BAD29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94D-EE8F-4567-A336-E0233656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870-B465-4BBA-8D81-40F781EE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77D-85CD-4ECE-A59D-99035998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E95-F6F6-4FDD-B443-4F8227D1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6F0-88C4-4A60-A257-326B9344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C5E-F4D1-45BD-AA76-98635C40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E2F1-D536-4063-B1EA-98E1BA3C830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audio" Target="../media/008-_PARIS_21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fundo rosa-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689040" y="2220840"/>
            <a:ext cx="2209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99"/>
                </a:solidFill>
                <a:latin typeface="Arial"/>
              </a:rPr>
              <a:t>qua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99"/>
                </a:solidFill>
                <a:latin typeface="Arial"/>
              </a:rPr>
              <a:t>voc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99"/>
                </a:solidFill>
                <a:latin typeface="Arial"/>
              </a:rPr>
              <a:t>v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689040" y="2205000"/>
            <a:ext cx="2209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qua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voc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v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som001"/>
          <p:cNvPicPr/>
          <p:nvPr/>
        </p:nvPicPr>
        <p:blipFill>
          <a:blip r:embed="rId2"/>
          <a:stretch/>
        </p:blipFill>
        <p:spPr>
          <a:xfrm>
            <a:off x="4211640" y="5992920"/>
            <a:ext cx="863640" cy="4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space023"/>
          <p:cNvPicPr/>
          <p:nvPr/>
        </p:nvPicPr>
        <p:blipFill>
          <a:blip r:embed="rId3"/>
          <a:stretch/>
        </p:blipFill>
        <p:spPr>
          <a:xfrm>
            <a:off x="3589200" y="1481040"/>
            <a:ext cx="5086440" cy="3819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4382640" y="60879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1320" y="6014880"/>
            <a:ext cx="30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clique                  cliqu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4" name="008-_PARIS_2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fundo 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971640" y="1557360"/>
            <a:ext cx="691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or isso, não tem outro jei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eja o melhor divulgador de você mes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alorize-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steja sempre pronto para dar o seu melh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 seu melhor sorri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 sua melhor roup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 seu melhor sentimen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 suas melhores intençõ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 sua gentil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empre pronta para entrar em 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fundo violet 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1258920" y="2276640"/>
            <a:ext cx="624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eja Omo, Brastemp, Lux de lux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se for chocolate, que seja logo Godiv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uíço e car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orque gente especial igual a voc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não existe em nenhum merc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tem que valer sempre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fundo azul-espraiado (WinCE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908000" y="2565360"/>
            <a:ext cx="5305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valorize-s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não importa o que você fa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importa sim como você fa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isso sim, faz toda a difere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Com carinh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Cr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árvore004555 (WinCE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411280" y="2225520"/>
            <a:ext cx="58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ça para um publicitário desc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um botão de cami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cê ficará deslumbrado com tan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funcionalidades que ele vai ach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ara o botão e vai até mud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seu conceito sobre o pobre botãoz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fundo 0066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809640" y="1706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ça para uma pessoa apaixon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escrever a pessoa ama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quela pessoa bem "feiazinha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que você conhece desde a inf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vai até pensar que 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stá falando de outra pesso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apaixonado enche a descrição de delicadez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oçura e gentilez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transformando a fera em bela em in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undo 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68360" y="1928880"/>
            <a:ext cx="754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ça para o poeta descrever o sol e a lu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você vai se encan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los poderes apaixonantes da lu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la beleza do sol que irradia seus ra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o se fossem gotas do milagre div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no arrebalde da tarde qu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nde o amor convida os apaixo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ara viver a vida intens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árvore004555 (WinCE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900000" y="191628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ça para um economista falar da economia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tome uma lição de números e merc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bolsas e câmbios oscilan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inflação e mercados emergen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se não sair de perto, vai acreditar que, em breve, teremos a maior recessão da histó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que a Ch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é o melhor lugar do mundo para se v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undo marrom-escuro for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763640" y="1700280"/>
            <a:ext cx="64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gora, peça para uma pessoa desanim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u depress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falar da vida, do sol, da lua, dos botõ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as rosas e do amor para você 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gue um banquinho e um lenç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sente-se para chor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é só reclamaçã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frustração, dores, misér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desconfiança g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fundo violet 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755640" y="1557360"/>
            <a:ext cx="631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cê sente a energia lhe contaminan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ai fazendo m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ai lhe deixando sem forç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orque os desanim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s reclamões e depres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tem o poder vampire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e sugar energias do b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transformar em me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o medo paralisa as pessoas de tal for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que fica difícil até o mais simples pen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fundo-wallpapers-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1189080" y="1336680"/>
            <a:ext cx="676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você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o é que você descreve a sua vida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quem é você para você mesmo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o seria um comercial da sua vida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o você venderia o produto "você"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cê é barato, tem custo acess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u é daquelas figuras car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aquelas que não tem t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ara perder com a tristeza e com o passado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cê tem 1001 utilidades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liás, você vive em que século me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árvore004555 (WinCE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900000" y="2298600"/>
            <a:ext cx="70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ão os seus olhos que refle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que vai na sua al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o que vai na sua al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e reflete na qualidade de vida que você le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é o seu trabalho que representa o seu talen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u nã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7:59:34Z</dcterms:created>
  <dc:creator>ADÃO LUIZ</dc:creator>
  <dc:description/>
  <dc:language>en-US</dc:language>
  <cp:lastModifiedBy>Jessica</cp:lastModifiedBy>
  <dcterms:modified xsi:type="dcterms:W3CDTF">2008-09-01T14:16:55Z</dcterms:modified>
  <cp:revision>7</cp:revision>
  <dc:subject/>
  <dc:title>quanto você vale</dc:title>
</cp:coreProperties>
</file>