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Zamphir%20-%20Candle%20In%20The%20Wind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98C-2362-4772-8045-6B8A66C4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ED4-831C-42F7-8029-5BB881B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A25-9FDE-4EB8-8813-08461C2B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7F3-C0C8-49FE-BE49-B96D974B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6CC-11F6-42C7-AA94-B9EF60E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9DC-0322-480A-A70A-DE3968E9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03E-FA87-4DD3-877D-0CC1955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B9C-4F47-4EBA-A011-CCA4452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EBE-EDE1-4F14-93B4-D580F56A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AF0-152F-4CE7-BDD8-20E9DF3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7C7-4A7F-4C7D-8268-5594911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5D5-D458-4B97-A764-F9A750D7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A46-AF14-436F-BAFE-DC9E4E51AEC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audio" Target="../media/Zamphir%20-%20Candle%20In%20The%20Wind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hyperlink" Target="http://www.leticiathompson.net/" TargetMode="External"/><Relationship Id="rId11" Type="http://schemas.openxmlformats.org/officeDocument/2006/relationships/hyperlink" Target="mailto:bethnorling@globo.com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64000" y="206064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UMA JANELA</a:t>
            </a:r>
            <a:endParaRPr b="0" i="1" lang="en-US" sz="18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NOS CÉUS</a:t>
            </a:r>
            <a:endParaRPr b="0" i="1" lang="en-US" sz="18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96000" y="4076640"/>
            <a:ext cx="2523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5e5aae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5e5aae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76720" y="2060640"/>
            <a:ext cx="3765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Há e haverá sempre uma janela aberta nos céus para nos acolher e o caminho talvez não seja o mais fácil, mas é certamente aquele que vai ter feito nossa vida valer 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2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842472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 rot="10800000">
            <a:off x="707688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 rot="5400000">
            <a:off x="7791120" y="5505480"/>
            <a:ext cx="2066760" cy="638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87280" y="1989000"/>
            <a:ext cx="66456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1b3"/>
                </a:solidFill>
                <a:uFillTx/>
                <a:latin typeface="Verdana"/>
                <a:hlinkClick r:id="rId1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Música: Zamphir - </a:t>
            </a: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Candle in the wind</a:t>
            </a: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1b3"/>
                </a:solidFill>
                <a:uFillTx/>
                <a:latin typeface="Verdana"/>
                <a:hlinkClick r:id="rId11"/>
              </a:rPr>
              <a:t>bethnorling@globo.com</a:t>
            </a: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773360"/>
            <a:ext cx="383724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As etapas que atravessamos na vida nada mais são que degraus que subimos ou descemos, segundo os caminhos que nós mesmos escolhemos, os atalhos que preferimos e onde decidimos deitar nossa cabe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56200" y="1413000"/>
            <a:ext cx="376380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Padecem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Sim... de vez em quando precisamos dessa parada que nos dá a consciência que nada somos aqui além de filhos em busca de uma terra prometida. Porém sabemos que nosso maná nunca faltará, seja qual for o caminho percorrido e o quanto falta ainda pela f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27480" y="1268280"/>
            <a:ext cx="369252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positamos demais nossa confiança naquilo que somos e no que nos cremos capazes e vez ou outra precisamos dessa ducha fria que nos faz acordar para que tenhamos a humildade de orar de cabeça baixa e a grandeza de abandonar nosso mais profundo eu aos pés da Cru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03640" y="907920"/>
            <a:ext cx="383724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amos importância demasiada a certas coisas como se a própria razão da vida dependesse delas. É assim com um pequeno corte no dedo ou uma ferida na alma que fica doendo as vinte e quatro horas do dia. Não importa se o sol brilha, se a chuva sacia, se a comida está boa ou a saúde perfeita. Isso prova nossa insaciedade diante d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randomBa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76720" y="1628640"/>
            <a:ext cx="376416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1b3"/>
                </a:solidFill>
                <a:latin typeface="Verdana"/>
              </a:rPr>
              <a:t>Não há ninguém para quem tudo dá sempre errado e ninguém para quem dá tudo certo. Tudo são fases que atravessamos, caminhos às vezes que parecem longos e intermináveis, principalmente quando é o lado dolorido da vida que se apres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48360" y="1341360"/>
            <a:ext cx="36925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M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O importante não é não  se perder, nunca errar, não pecar, não tomar decisões erradas e ser alguém exemplar. Essas coisas são objetivos  que tentamos alcançar e quanto mais degraus subimos, mais nos aproximamos da perfe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56200" y="1268280"/>
            <a:ext cx="376380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O importante mesmo é saber levantar, erguer a cabeça, olhar para frente; é ter coragem de admitir as falhas, a humildade de pedir perdão, calar na hora certa e falar quando o silêncio parecer insustentável; o importante é deixar as lágrimas caírem e nem por isso se sentir diminuíd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20640"/>
            <a:ext cx="914400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260280"/>
            <a:ext cx="4681440" cy="633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3360"/>
            <a:ext cx="4535280" cy="6191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5e5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 rot="16200000">
            <a:off x="-713880" y="71388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 rot="10800000">
            <a:off x="2916000" y="6219360"/>
            <a:ext cx="2066760" cy="63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rot="5400000">
            <a:off x="3786120" y="5505480"/>
            <a:ext cx="2066760" cy="63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76720" y="1484280"/>
            <a:ext cx="37656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a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us não conta os degraus que subimos ou des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Nossa vida é que conta, sofre ou se aleg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1b3"/>
                </a:solidFill>
                <a:latin typeface="Verdana"/>
              </a:rPr>
              <a:t>Deus é Aquele que está no mais alto degrau estendendo a mão e é o mesmo que está na terra com os braços eternamente abertos e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1:06:40Z</dcterms:created>
  <dc:creator>Beth Norling</dc:creator>
  <dc:description/>
  <dc:language>en-US</dc:language>
  <cp:lastModifiedBy>Beth Norling</cp:lastModifiedBy>
  <dcterms:modified xsi:type="dcterms:W3CDTF">2008-03-30T16:55:49Z</dcterms:modified>
  <cp:revision>14</cp:revision>
  <dc:subject/>
  <dc:title>Uma_janela_nos_ceus</dc:title>
</cp:coreProperties>
</file>