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.gif" ContentType="image/gif"/>
  <Override PartName="/ppt/media/image3.jpeg" ContentType="image/jpeg"/>
  <Override PartName="/ppt/media/image4.jpeg" ContentType="image/jpeg"/>
  <Override PartName="/ppt/media/image14.jpeg" ContentType="image/jpeg"/>
  <Override PartName="/ppt/media/image5.gif" ContentType="image/gif"/>
  <Override PartName="/ppt/media/Zamphir%20-%20Candle%20In%20The%20Wind.wav" ContentType="audio/x-wav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3372-2F79-4200-ABA8-132723585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A747-C58E-4FAD-98C5-3E1C9F594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A902-B4A7-42C2-98F8-89D876111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FA31-1CAB-487F-A73E-A3254A750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7419-E095-44AE-92AD-D9A7A691F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1C1C-D745-4EE7-BCAD-3B9B93671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C249-BC5A-4856-B855-55249AD1F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0AD6-77F9-48AF-A77D-3956F9371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A4A8-F70B-4F8F-B98F-2E291FA8E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CAA6-CDDD-44A8-8994-7AC14AD3F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4876-99A1-4695-8969-2037156B4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1C25-1BF1-42E0-AEA6-0FA4EC1E2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AB0F5-E818-47D9-88C8-1495B5FEC075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image" Target="../media/image2.gif"/><Relationship Id="rId5" Type="http://schemas.openxmlformats.org/officeDocument/2006/relationships/image" Target="../media/image3.jpeg"/><Relationship Id="rId6" Type="http://schemas.openxmlformats.org/officeDocument/2006/relationships/image" Target="../media/image4.jpeg"/><Relationship Id="rId7" Type="http://schemas.openxmlformats.org/officeDocument/2006/relationships/image" Target="../media/image5.gif"/><Relationship Id="rId8" Type="http://schemas.openxmlformats.org/officeDocument/2006/relationships/image" Target="../media/image5.gif"/><Relationship Id="rId9" Type="http://schemas.openxmlformats.org/officeDocument/2006/relationships/image" Target="../media/image5.gif"/><Relationship Id="rId10" Type="http://schemas.openxmlformats.org/officeDocument/2006/relationships/image" Target="../media/image5.gif"/><Relationship Id="rId11" Type="http://schemas.openxmlformats.org/officeDocument/2006/relationships/image" Target="../media/image2.gif"/><Relationship Id="rId12" Type="http://schemas.openxmlformats.org/officeDocument/2006/relationships/image" Target="../media/image2.gif"/><Relationship Id="rId13" Type="http://schemas.openxmlformats.org/officeDocument/2006/relationships/image" Target="../media/image2.gif"/><Relationship Id="rId14" Type="http://schemas.openxmlformats.org/officeDocument/2006/relationships/image" Target="../media/image2.gif"/><Relationship Id="rId15" Type="http://schemas.openxmlformats.org/officeDocument/2006/relationships/image" Target="../media/image2.gif"/><Relationship Id="rId16" Type="http://schemas.openxmlformats.org/officeDocument/2006/relationships/image" Target="../media/image2.gif"/><Relationship Id="rId17" Type="http://schemas.openxmlformats.org/officeDocument/2006/relationships/audio" Target="../media/Zamphir%20-%20Candle%20In%20The%20Wind.wav"/><Relationship Id="rId1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image" Target="../media/image2.gif"/><Relationship Id="rId5" Type="http://schemas.openxmlformats.org/officeDocument/2006/relationships/image" Target="../media/image3.jpeg"/><Relationship Id="rId6" Type="http://schemas.openxmlformats.org/officeDocument/2006/relationships/image" Target="../media/image14.jpeg"/><Relationship Id="rId7" Type="http://schemas.openxmlformats.org/officeDocument/2006/relationships/image" Target="../media/image5.gif"/><Relationship Id="rId8" Type="http://schemas.openxmlformats.org/officeDocument/2006/relationships/image" Target="../media/image5.gif"/><Relationship Id="rId9" Type="http://schemas.openxmlformats.org/officeDocument/2006/relationships/image" Target="../media/image5.gif"/><Relationship Id="rId10" Type="http://schemas.openxmlformats.org/officeDocument/2006/relationships/image" Target="../media/image5.gif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image" Target="../media/image2.gif"/><Relationship Id="rId5" Type="http://schemas.openxmlformats.org/officeDocument/2006/relationships/image" Target="../media/image3.jpeg"/><Relationship Id="rId6" Type="http://schemas.openxmlformats.org/officeDocument/2006/relationships/image" Target="../media/image5.gif"/><Relationship Id="rId7" Type="http://schemas.openxmlformats.org/officeDocument/2006/relationships/image" Target="../media/image5.gif"/><Relationship Id="rId8" Type="http://schemas.openxmlformats.org/officeDocument/2006/relationships/image" Target="../media/image5.gif"/><Relationship Id="rId9" Type="http://schemas.openxmlformats.org/officeDocument/2006/relationships/image" Target="../media/image5.gif"/><Relationship Id="rId10" Type="http://schemas.openxmlformats.org/officeDocument/2006/relationships/hyperlink" Target="http://www.leticiathompson.net/" TargetMode="External"/><Relationship Id="rId11" Type="http://schemas.openxmlformats.org/officeDocument/2006/relationships/hyperlink" Target="mailto:bethnorling@globo.com" TargetMode="External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image" Target="../media/image2.gif"/><Relationship Id="rId5" Type="http://schemas.openxmlformats.org/officeDocument/2006/relationships/image" Target="../media/image3.jpeg"/><Relationship Id="rId6" Type="http://schemas.openxmlformats.org/officeDocument/2006/relationships/image" Target="../media/image6.jpeg"/><Relationship Id="rId7" Type="http://schemas.openxmlformats.org/officeDocument/2006/relationships/image" Target="../media/image5.gif"/><Relationship Id="rId8" Type="http://schemas.openxmlformats.org/officeDocument/2006/relationships/image" Target="../media/image5.gif"/><Relationship Id="rId9" Type="http://schemas.openxmlformats.org/officeDocument/2006/relationships/image" Target="../media/image5.gif"/><Relationship Id="rId10" Type="http://schemas.openxmlformats.org/officeDocument/2006/relationships/image" Target="../media/image5.gif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image" Target="../media/image2.gif"/><Relationship Id="rId5" Type="http://schemas.openxmlformats.org/officeDocument/2006/relationships/image" Target="../media/image3.jpeg"/><Relationship Id="rId6" Type="http://schemas.openxmlformats.org/officeDocument/2006/relationships/image" Target="../media/image7.jpeg"/><Relationship Id="rId7" Type="http://schemas.openxmlformats.org/officeDocument/2006/relationships/image" Target="../media/image5.gif"/><Relationship Id="rId8" Type="http://schemas.openxmlformats.org/officeDocument/2006/relationships/image" Target="../media/image5.gif"/><Relationship Id="rId9" Type="http://schemas.openxmlformats.org/officeDocument/2006/relationships/image" Target="../media/image5.gif"/><Relationship Id="rId10" Type="http://schemas.openxmlformats.org/officeDocument/2006/relationships/image" Target="../media/image5.gif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image" Target="../media/image2.gif"/><Relationship Id="rId5" Type="http://schemas.openxmlformats.org/officeDocument/2006/relationships/image" Target="../media/image3.jpeg"/><Relationship Id="rId6" Type="http://schemas.openxmlformats.org/officeDocument/2006/relationships/image" Target="../media/image8.jpeg"/><Relationship Id="rId7" Type="http://schemas.openxmlformats.org/officeDocument/2006/relationships/image" Target="../media/image5.gif"/><Relationship Id="rId8" Type="http://schemas.openxmlformats.org/officeDocument/2006/relationships/image" Target="../media/image5.gif"/><Relationship Id="rId9" Type="http://schemas.openxmlformats.org/officeDocument/2006/relationships/image" Target="../media/image5.gif"/><Relationship Id="rId10" Type="http://schemas.openxmlformats.org/officeDocument/2006/relationships/image" Target="../media/image5.gif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image" Target="../media/image2.gif"/><Relationship Id="rId5" Type="http://schemas.openxmlformats.org/officeDocument/2006/relationships/image" Target="../media/image3.jpeg"/><Relationship Id="rId6" Type="http://schemas.openxmlformats.org/officeDocument/2006/relationships/image" Target="../media/image9.jpeg"/><Relationship Id="rId7" Type="http://schemas.openxmlformats.org/officeDocument/2006/relationships/image" Target="../media/image5.gif"/><Relationship Id="rId8" Type="http://schemas.openxmlformats.org/officeDocument/2006/relationships/image" Target="../media/image5.gif"/><Relationship Id="rId9" Type="http://schemas.openxmlformats.org/officeDocument/2006/relationships/image" Target="../media/image5.gif"/><Relationship Id="rId10" Type="http://schemas.openxmlformats.org/officeDocument/2006/relationships/image" Target="../media/image5.gif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image" Target="../media/image2.gif"/><Relationship Id="rId5" Type="http://schemas.openxmlformats.org/officeDocument/2006/relationships/image" Target="../media/image3.jpeg"/><Relationship Id="rId6" Type="http://schemas.openxmlformats.org/officeDocument/2006/relationships/image" Target="../media/image10.jpeg"/><Relationship Id="rId7" Type="http://schemas.openxmlformats.org/officeDocument/2006/relationships/image" Target="../media/image5.gif"/><Relationship Id="rId8" Type="http://schemas.openxmlformats.org/officeDocument/2006/relationships/image" Target="../media/image5.gif"/><Relationship Id="rId9" Type="http://schemas.openxmlformats.org/officeDocument/2006/relationships/image" Target="../media/image5.gif"/><Relationship Id="rId10" Type="http://schemas.openxmlformats.org/officeDocument/2006/relationships/image" Target="../media/image5.gif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image" Target="../media/image2.gif"/><Relationship Id="rId5" Type="http://schemas.openxmlformats.org/officeDocument/2006/relationships/image" Target="../media/image3.jpeg"/><Relationship Id="rId6" Type="http://schemas.openxmlformats.org/officeDocument/2006/relationships/image" Target="../media/image11.jpeg"/><Relationship Id="rId7" Type="http://schemas.openxmlformats.org/officeDocument/2006/relationships/image" Target="../media/image5.gif"/><Relationship Id="rId8" Type="http://schemas.openxmlformats.org/officeDocument/2006/relationships/image" Target="../media/image5.gif"/><Relationship Id="rId9" Type="http://schemas.openxmlformats.org/officeDocument/2006/relationships/image" Target="../media/image5.gif"/><Relationship Id="rId10" Type="http://schemas.openxmlformats.org/officeDocument/2006/relationships/image" Target="../media/image5.gif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image" Target="../media/image2.gif"/><Relationship Id="rId5" Type="http://schemas.openxmlformats.org/officeDocument/2006/relationships/image" Target="../media/image3.jpeg"/><Relationship Id="rId6" Type="http://schemas.openxmlformats.org/officeDocument/2006/relationships/image" Target="../media/image12.jpeg"/><Relationship Id="rId7" Type="http://schemas.openxmlformats.org/officeDocument/2006/relationships/image" Target="../media/image5.gif"/><Relationship Id="rId8" Type="http://schemas.openxmlformats.org/officeDocument/2006/relationships/image" Target="../media/image5.gif"/><Relationship Id="rId9" Type="http://schemas.openxmlformats.org/officeDocument/2006/relationships/image" Target="../media/image5.gif"/><Relationship Id="rId10" Type="http://schemas.openxmlformats.org/officeDocument/2006/relationships/image" Target="../media/image5.gif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image" Target="../media/image2.gif"/><Relationship Id="rId5" Type="http://schemas.openxmlformats.org/officeDocument/2006/relationships/image" Target="../media/image3.jpeg"/><Relationship Id="rId6" Type="http://schemas.openxmlformats.org/officeDocument/2006/relationships/image" Target="../media/image13.jpeg"/><Relationship Id="rId7" Type="http://schemas.openxmlformats.org/officeDocument/2006/relationships/image" Target="../media/image5.gif"/><Relationship Id="rId8" Type="http://schemas.openxmlformats.org/officeDocument/2006/relationships/image" Target="../media/image5.gif"/><Relationship Id="rId9" Type="http://schemas.openxmlformats.org/officeDocument/2006/relationships/image" Target="../media/image5.gif"/><Relationship Id="rId10" Type="http://schemas.openxmlformats.org/officeDocument/2006/relationships/image" Target="../media/image5.gi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549360"/>
            <a:ext cx="9144000" cy="5759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e5a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20640"/>
            <a:ext cx="9144000" cy="5616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5e5a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50920" y="260280"/>
            <a:ext cx="4681440" cy="63374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5e5a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4000" y="333360"/>
            <a:ext cx="4535280" cy="61912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5e5a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333360"/>
            <a:ext cx="4535280" cy="619128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5e5a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>
            <a:off x="0" y="0"/>
            <a:ext cx="2066760" cy="6382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8"/>
          <a:stretch/>
        </p:blipFill>
        <p:spPr>
          <a:xfrm rot="16200000">
            <a:off x="-713880" y="713880"/>
            <a:ext cx="2066760" cy="6382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9"/>
          <a:stretch/>
        </p:blipFill>
        <p:spPr>
          <a:xfrm rot="10800000">
            <a:off x="2916000" y="6219360"/>
            <a:ext cx="2066760" cy="6382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10"/>
          <a:stretch/>
        </p:blipFill>
        <p:spPr>
          <a:xfrm rot="5400000">
            <a:off x="3786120" y="5505480"/>
            <a:ext cx="2066760" cy="6379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5364000" y="2060640"/>
            <a:ext cx="3343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5e5aae">
                      <a:alpha val="80000"/>
                    </a:srgbClr>
                  </a:outerShdw>
                </a:effectLst>
                <a:latin typeface="Arial Black"/>
              </a:rPr>
              <a:t>UMA JANELA</a:t>
            </a:r>
            <a:endParaRPr b="0" i="1" lang="en-US" sz="1800" spc="1" strike="noStrike">
              <a:ln w="0">
                <a:noFill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5e5aae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blipFill rotWithShape="0">
                  <a:blip r:embed="rId13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5e5aae">
                      <a:alpha val="80000"/>
                    </a:srgbClr>
                  </a:outerShdw>
                </a:effectLst>
                <a:latin typeface="Arial Black"/>
              </a:rPr>
              <a:t>NOS CÉUS</a:t>
            </a:r>
            <a:endParaRPr b="0" i="1" lang="en-US" sz="1800" spc="1" strike="noStrike">
              <a:ln w="0">
                <a:noFill/>
              </a:ln>
              <a:blipFill rotWithShape="0">
                <a:blip r:embed="rId14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5e5aae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796000" y="4076640"/>
            <a:ext cx="2523960" cy="3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0">
                  <a:noFill/>
                </a:ln>
                <a:blipFill rotWithShape="0">
                  <a:blip r:embed="rId15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5e5aae">
                      <a:alpha val="80000"/>
                    </a:srgbClr>
                  </a:outerShdw>
                </a:effectLst>
                <a:latin typeface="Arial Black"/>
              </a:rPr>
              <a:t>Letícia Thompson</a:t>
            </a:r>
            <a:endParaRPr b="0" i="1" lang="en-US" sz="2000" spc="1" strike="noStrike">
              <a:ln w="0">
                <a:noFill/>
              </a:ln>
              <a:blipFill rotWithShape="0">
                <a:blip r:embed="rId16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5e5aae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3000"/>
                            </p:stCondLst>
                            <p:childTnLst>
                              <p:par>
                                <p:cTn id="1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549360"/>
            <a:ext cx="9144000" cy="5759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e5a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620640"/>
            <a:ext cx="9144000" cy="5616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5e5a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50920" y="260280"/>
            <a:ext cx="4681440" cy="63374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5e5a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4000" y="333360"/>
            <a:ext cx="4535280" cy="61912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5e5a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24000" y="333360"/>
            <a:ext cx="4535280" cy="619128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5e5a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7"/>
          <a:stretch/>
        </p:blipFill>
        <p:spPr>
          <a:xfrm>
            <a:off x="0" y="0"/>
            <a:ext cx="2066760" cy="6382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8"/>
          <a:stretch/>
        </p:blipFill>
        <p:spPr>
          <a:xfrm rot="16200000">
            <a:off x="-713880" y="713880"/>
            <a:ext cx="2066760" cy="63828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9"/>
          <a:stretch/>
        </p:blipFill>
        <p:spPr>
          <a:xfrm rot="10800000">
            <a:off x="2916000" y="6219360"/>
            <a:ext cx="2066760" cy="6382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10"/>
          <a:stretch/>
        </p:blipFill>
        <p:spPr>
          <a:xfrm rot="5400000">
            <a:off x="3786120" y="5505480"/>
            <a:ext cx="2066760" cy="63792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5076720" y="2060640"/>
            <a:ext cx="3765600" cy="222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e5aa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1b3"/>
                </a:solidFill>
                <a:latin typeface="Verdana"/>
              </a:rPr>
              <a:t>Há e haverá sempre uma janela aberta nos céus para nos acolher e o caminho talvez não seja o mais fácil, mas é certamente aquele que vai ter feito nossa vida valer a pe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4000">
    <p:randomBar dir="vert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3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3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000"/>
                            </p:stCondLst>
                            <p:childTnLst>
                              <p:par>
                                <p:cTn id="142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2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549360"/>
            <a:ext cx="9144000" cy="5759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e5a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620640"/>
            <a:ext cx="9144000" cy="5616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5e5a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50920" y="260280"/>
            <a:ext cx="8569080" cy="63374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5e5a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24000" y="333360"/>
            <a:ext cx="8424720" cy="61912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5e5a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6"/>
          <a:stretch/>
        </p:blipFill>
        <p:spPr>
          <a:xfrm>
            <a:off x="0" y="0"/>
            <a:ext cx="2066760" cy="6382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7"/>
          <a:stretch/>
        </p:blipFill>
        <p:spPr>
          <a:xfrm rot="16200000">
            <a:off x="-713880" y="713880"/>
            <a:ext cx="2066760" cy="6382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8"/>
          <a:stretch/>
        </p:blipFill>
        <p:spPr>
          <a:xfrm rot="10800000">
            <a:off x="7076880" y="6219360"/>
            <a:ext cx="2066760" cy="63828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9"/>
          <a:stretch/>
        </p:blipFill>
        <p:spPr>
          <a:xfrm rot="5400000">
            <a:off x="7791120" y="5505480"/>
            <a:ext cx="2066760" cy="6382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1187280" y="1989000"/>
            <a:ext cx="6645600" cy="26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1b3"/>
                </a:solidFill>
                <a:latin typeface="Verdana"/>
              </a:rPr>
              <a:t>Crédit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1b3"/>
                </a:solidFill>
                <a:latin typeface="Verdana"/>
              </a:rPr>
              <a:t>Texto: Letícia Thomp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fff1b3"/>
                </a:solidFill>
                <a:uFillTx/>
                <a:latin typeface="Verdana"/>
                <a:hlinkClick r:id="rId10"/>
              </a:rPr>
              <a:t>www.leticiathompson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1b3"/>
                </a:solidFill>
                <a:latin typeface="Verdana"/>
              </a:rPr>
              <a:t>Imagens: 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1b3"/>
                </a:solidFill>
                <a:latin typeface="Verdana"/>
              </a:rPr>
              <a:t>Música: Zamphir - </a:t>
            </a:r>
            <a:r>
              <a:rPr b="1" lang="en-US" sz="2000" spc="-1" strike="noStrike">
                <a:solidFill>
                  <a:srgbClr val="fff1b3"/>
                </a:solidFill>
                <a:latin typeface="Verdana"/>
              </a:rPr>
              <a:t>Candle in the wind</a:t>
            </a:r>
            <a:r>
              <a:rPr b="1" lang="pt-BR" sz="2000" spc="-1" strike="noStrike">
                <a:solidFill>
                  <a:srgbClr val="fff1b3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1b3"/>
                </a:solidFill>
                <a:latin typeface="Verdana"/>
              </a:rPr>
              <a:t>Formatação: Beth Nor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1b3"/>
                </a:solidFill>
                <a:latin typeface="Verdana"/>
              </a:rPr>
              <a:t>E-mail: </a:t>
            </a:r>
            <a:r>
              <a:rPr b="0" lang="pt-BR" sz="2000" spc="-1" strike="noStrike" u="sng">
                <a:solidFill>
                  <a:srgbClr val="fff1b3"/>
                </a:solidFill>
                <a:uFillTx/>
                <a:latin typeface="Verdana"/>
                <a:hlinkClick r:id="rId11"/>
              </a:rPr>
              <a:t>bethnorling@globo.com</a:t>
            </a:r>
            <a:r>
              <a:rPr b="1" lang="pt-BR" sz="2000" spc="-1" strike="noStrike">
                <a:solidFill>
                  <a:srgbClr val="fff1b3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549360"/>
            <a:ext cx="9144000" cy="5759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e5a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620640"/>
            <a:ext cx="9144000" cy="5616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5e5a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50920" y="260280"/>
            <a:ext cx="4681440" cy="63374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5e5a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4000" y="333360"/>
            <a:ext cx="4535280" cy="61912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5e5a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333360"/>
            <a:ext cx="4535280" cy="619128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5e5a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7"/>
          <a:stretch/>
        </p:blipFill>
        <p:spPr>
          <a:xfrm>
            <a:off x="0" y="0"/>
            <a:ext cx="2066760" cy="6382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8"/>
          <a:stretch/>
        </p:blipFill>
        <p:spPr>
          <a:xfrm rot="16200000">
            <a:off x="-713880" y="713880"/>
            <a:ext cx="2066760" cy="6382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9"/>
          <a:stretch/>
        </p:blipFill>
        <p:spPr>
          <a:xfrm rot="10800000">
            <a:off x="2916000" y="6219360"/>
            <a:ext cx="2066760" cy="6382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10"/>
          <a:stretch/>
        </p:blipFill>
        <p:spPr>
          <a:xfrm rot="5400000">
            <a:off x="3786120" y="5505480"/>
            <a:ext cx="2066760" cy="6379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003640" y="1773360"/>
            <a:ext cx="3837240" cy="2838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e5aa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1b3"/>
                </a:solidFill>
                <a:latin typeface="Verdana"/>
              </a:rPr>
              <a:t>As etapas que atravessamos na vida nada mais são que degraus que subimos ou descemos, segundo os caminhos que nós mesmos escolhemos, os atalhos que preferimos e onde decidimos deitar nossa cabeç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6000">
    <p:randomBar dir="vert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549360"/>
            <a:ext cx="9144000" cy="5759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e5a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620640"/>
            <a:ext cx="9144000" cy="5616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5e5a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0920" y="260280"/>
            <a:ext cx="4681440" cy="63374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5e5a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333360"/>
            <a:ext cx="4535280" cy="61912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5e5a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4000" y="333360"/>
            <a:ext cx="4535280" cy="619128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5e5a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7"/>
          <a:stretch/>
        </p:blipFill>
        <p:spPr>
          <a:xfrm>
            <a:off x="0" y="0"/>
            <a:ext cx="2066760" cy="6382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8"/>
          <a:stretch/>
        </p:blipFill>
        <p:spPr>
          <a:xfrm rot="16200000">
            <a:off x="-713880" y="713880"/>
            <a:ext cx="2066760" cy="6382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9"/>
          <a:stretch/>
        </p:blipFill>
        <p:spPr>
          <a:xfrm rot="10800000">
            <a:off x="2916000" y="6219360"/>
            <a:ext cx="2066760" cy="6382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10"/>
          <a:stretch/>
        </p:blipFill>
        <p:spPr>
          <a:xfrm rot="5400000">
            <a:off x="3786120" y="5505480"/>
            <a:ext cx="2066760" cy="6379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5056200" y="1413000"/>
            <a:ext cx="3763800" cy="375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e5aa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1b3"/>
                </a:solidFill>
                <a:latin typeface="Verdana"/>
              </a:rPr>
              <a:t>Padecemos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1b3"/>
                </a:solidFill>
                <a:latin typeface="Verdana"/>
              </a:rPr>
              <a:t>Sim... de vez em quando precisamos dessa parada que nos dá a consciência que nada somos aqui além de filhos em busca de uma terra prometida. Porém sabemos que nosso maná nunca faltará, seja qual for o caminho percorrido e o quanto falta ainda pela fr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9000">
    <p:randomBar dir="vert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3000"/>
                            </p:stCondLst>
                            <p:childTnLst>
                              <p:par>
                                <p:cTn id="44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549360"/>
            <a:ext cx="9144000" cy="5759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e5a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620640"/>
            <a:ext cx="9144000" cy="5616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5e5a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0920" y="260280"/>
            <a:ext cx="4681440" cy="63374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5e5a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4000" y="333360"/>
            <a:ext cx="4535280" cy="61912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5e5a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333360"/>
            <a:ext cx="4535280" cy="619128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5e5a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7"/>
          <a:stretch/>
        </p:blipFill>
        <p:spPr>
          <a:xfrm>
            <a:off x="0" y="0"/>
            <a:ext cx="2066760" cy="6382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8"/>
          <a:stretch/>
        </p:blipFill>
        <p:spPr>
          <a:xfrm rot="16200000">
            <a:off x="-713880" y="713880"/>
            <a:ext cx="2066760" cy="6382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9"/>
          <a:stretch/>
        </p:blipFill>
        <p:spPr>
          <a:xfrm rot="10800000">
            <a:off x="2916000" y="6219360"/>
            <a:ext cx="2066760" cy="6382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10"/>
          <a:stretch/>
        </p:blipFill>
        <p:spPr>
          <a:xfrm rot="5400000">
            <a:off x="3786120" y="5505480"/>
            <a:ext cx="2066760" cy="6379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5127480" y="1268280"/>
            <a:ext cx="3692520" cy="375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e5aa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1b3"/>
                </a:solidFill>
                <a:latin typeface="Verdana"/>
              </a:rPr>
              <a:t>Depositamos demais nossa confiança naquilo que somos e no que nos cremos capazes e vez ou outra precisamos dessa ducha fria que nos faz acordar para que tenhamos a humildade de orar de cabeça baixa e a grandeza de abandonar nosso mais profundo eu aos pés da Cruz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0">
    <p:randomBar dir="vert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3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3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3000"/>
                            </p:stCondLst>
                            <p:childTnLst>
                              <p:par>
                                <p:cTn id="58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549360"/>
            <a:ext cx="9144000" cy="5759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e5a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620640"/>
            <a:ext cx="9144000" cy="5616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5e5a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50920" y="260280"/>
            <a:ext cx="4681440" cy="63374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5e5a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333360"/>
            <a:ext cx="4535280" cy="61912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5e5a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333360"/>
            <a:ext cx="4535280" cy="619128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5e5a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7"/>
          <a:stretch/>
        </p:blipFill>
        <p:spPr>
          <a:xfrm>
            <a:off x="0" y="0"/>
            <a:ext cx="2066760" cy="6382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8"/>
          <a:stretch/>
        </p:blipFill>
        <p:spPr>
          <a:xfrm rot="16200000">
            <a:off x="-713880" y="713880"/>
            <a:ext cx="2066760" cy="6382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9"/>
          <a:stretch/>
        </p:blipFill>
        <p:spPr>
          <a:xfrm rot="10800000">
            <a:off x="2916000" y="6219360"/>
            <a:ext cx="2066760" cy="6382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10"/>
          <a:stretch/>
        </p:blipFill>
        <p:spPr>
          <a:xfrm rot="5400000">
            <a:off x="3786120" y="5505480"/>
            <a:ext cx="2066760" cy="6379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5003640" y="907920"/>
            <a:ext cx="3837240" cy="4057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e5aa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1b3"/>
                </a:solidFill>
                <a:latin typeface="Verdana"/>
              </a:rPr>
              <a:t>Damos importância demasiada a certas coisas como se a própria razão da vida dependesse delas. É assim com um pequeno corte no dedo ou uma ferida na alma que fica doendo as vinte e quatro horas do dia. Não importa se o sol brilha, se a chuva sacia, se a comida está boa ou a saúde perfeita. Isso prova nossa insaciedade diante da vid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5000">
    <p:randomBar dir="vert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3000"/>
                            </p:stCondLst>
                            <p:childTnLst>
                              <p:par>
                                <p:cTn id="72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549360"/>
            <a:ext cx="9144000" cy="5759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e5a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620640"/>
            <a:ext cx="9144000" cy="5616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5e5a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50920" y="260280"/>
            <a:ext cx="4681440" cy="63374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5e5a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4000" y="333360"/>
            <a:ext cx="4535280" cy="61912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5e5a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333360"/>
            <a:ext cx="4535280" cy="619128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5e5a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7"/>
          <a:stretch/>
        </p:blipFill>
        <p:spPr>
          <a:xfrm>
            <a:off x="0" y="0"/>
            <a:ext cx="2066760" cy="6382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8"/>
          <a:stretch/>
        </p:blipFill>
        <p:spPr>
          <a:xfrm rot="16200000">
            <a:off x="-713880" y="713880"/>
            <a:ext cx="2066760" cy="6382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9"/>
          <a:stretch/>
        </p:blipFill>
        <p:spPr>
          <a:xfrm rot="10800000">
            <a:off x="2916000" y="6219360"/>
            <a:ext cx="2066760" cy="6382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10"/>
          <a:stretch/>
        </p:blipFill>
        <p:spPr>
          <a:xfrm rot="5400000">
            <a:off x="3786120" y="5505480"/>
            <a:ext cx="2066760" cy="637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5076720" y="1628640"/>
            <a:ext cx="3764160" cy="344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e5aa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1b3"/>
                </a:solidFill>
                <a:latin typeface="Verdana"/>
              </a:rPr>
              <a:t>Não há ninguém para quem tudo dá sempre errado e ninguém para quem dá tudo certo. Tudo são fases que atravessamos, caminhos às vezes que parecem longos e intermináveis, principalmente quando é o lado dolorido da vida que se apresen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8000">
    <p:randomBar dir="vert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3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3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549360"/>
            <a:ext cx="9144000" cy="5759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e5a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620640"/>
            <a:ext cx="9144000" cy="5616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5e5a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50920" y="260280"/>
            <a:ext cx="4681440" cy="63374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5e5a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4000" y="333360"/>
            <a:ext cx="4535280" cy="61912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5e5a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4000" y="333360"/>
            <a:ext cx="4535280" cy="619128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5e5a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7"/>
          <a:stretch/>
        </p:blipFill>
        <p:spPr>
          <a:xfrm>
            <a:off x="0" y="0"/>
            <a:ext cx="2066760" cy="6382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8"/>
          <a:stretch/>
        </p:blipFill>
        <p:spPr>
          <a:xfrm rot="16200000">
            <a:off x="-713880" y="713880"/>
            <a:ext cx="2066760" cy="6382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9"/>
          <a:stretch/>
        </p:blipFill>
        <p:spPr>
          <a:xfrm rot="10800000">
            <a:off x="2916000" y="6219360"/>
            <a:ext cx="2066760" cy="6382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10"/>
          <a:stretch/>
        </p:blipFill>
        <p:spPr>
          <a:xfrm rot="5400000">
            <a:off x="3786120" y="5505480"/>
            <a:ext cx="2066760" cy="6379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5148360" y="1341360"/>
            <a:ext cx="3692520" cy="344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e5aa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1b3"/>
                </a:solidFill>
                <a:latin typeface="Verdana"/>
              </a:rPr>
              <a:t>Mas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1b3"/>
                </a:solidFill>
                <a:latin typeface="Verdana"/>
              </a:rPr>
              <a:t>O importante não é não  se perder, nunca errar, não pecar, não tomar decisões erradas e ser alguém exemplar. Essas coisas são objetivos  que tentamos alcançar e quanto mais degraus subimos, mais nos aproximamos da perfeiçã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8000">
    <p:randomBar dir="vert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3000"/>
                            </p:stCondLst>
                            <p:childTnLst>
                              <p:par>
                                <p:cTn id="100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549360"/>
            <a:ext cx="9144000" cy="5759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e5a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620640"/>
            <a:ext cx="9144000" cy="5616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5e5a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50920" y="260280"/>
            <a:ext cx="4681440" cy="63374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5e5a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24000" y="333360"/>
            <a:ext cx="4535280" cy="61912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5e5a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4000" y="333360"/>
            <a:ext cx="4535280" cy="619128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5e5a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7"/>
          <a:stretch/>
        </p:blipFill>
        <p:spPr>
          <a:xfrm>
            <a:off x="0" y="0"/>
            <a:ext cx="2066760" cy="6382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8"/>
          <a:stretch/>
        </p:blipFill>
        <p:spPr>
          <a:xfrm rot="16200000">
            <a:off x="-713880" y="713880"/>
            <a:ext cx="2066760" cy="6382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9"/>
          <a:stretch/>
        </p:blipFill>
        <p:spPr>
          <a:xfrm rot="10800000">
            <a:off x="2916000" y="6219360"/>
            <a:ext cx="2066760" cy="6382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10"/>
          <a:stretch/>
        </p:blipFill>
        <p:spPr>
          <a:xfrm rot="5400000">
            <a:off x="3786120" y="5505480"/>
            <a:ext cx="2066760" cy="6379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5056200" y="1268280"/>
            <a:ext cx="3763800" cy="375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e5aa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1b3"/>
                </a:solidFill>
                <a:latin typeface="Verdana"/>
              </a:rPr>
              <a:t>O importante mesmo é saber levantar, erguer a cabeça, olhar para frente; é ter coragem de admitir as falhas, a humildade de pedir perdão, calar na hora certa e falar quando o silêncio parecer insustentável; o importante é deixar as lágrimas caírem e nem por isso se sentir diminuído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2000">
    <p:randomBar dir="vert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3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3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3000"/>
                            </p:stCondLst>
                            <p:childTnLst>
                              <p:par>
                                <p:cTn id="114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549360"/>
            <a:ext cx="9144000" cy="5759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e5a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620640"/>
            <a:ext cx="9144000" cy="5616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5e5a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50920" y="260280"/>
            <a:ext cx="4681440" cy="63374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5e5a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4000" y="333360"/>
            <a:ext cx="4535280" cy="61912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5e5a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24000" y="333360"/>
            <a:ext cx="4535280" cy="619128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5e5a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7"/>
          <a:stretch/>
        </p:blipFill>
        <p:spPr>
          <a:xfrm>
            <a:off x="0" y="0"/>
            <a:ext cx="2066760" cy="6382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8"/>
          <a:stretch/>
        </p:blipFill>
        <p:spPr>
          <a:xfrm rot="16200000">
            <a:off x="-713880" y="713880"/>
            <a:ext cx="2066760" cy="6382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9"/>
          <a:stretch/>
        </p:blipFill>
        <p:spPr>
          <a:xfrm rot="10800000">
            <a:off x="2916000" y="6219360"/>
            <a:ext cx="2066760" cy="6382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10"/>
          <a:stretch/>
        </p:blipFill>
        <p:spPr>
          <a:xfrm rot="5400000">
            <a:off x="3786120" y="5505480"/>
            <a:ext cx="2066760" cy="6379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5076720" y="1484280"/>
            <a:ext cx="3765600" cy="3143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e5aa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1b3"/>
                </a:solidFill>
                <a:latin typeface="Verdana"/>
              </a:rPr>
              <a:t>Deus não conta os degraus que subimos ou descem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1b3"/>
                </a:solidFill>
                <a:latin typeface="Verdana"/>
              </a:rPr>
              <a:t>Nossa vida é que conta, sofre ou se alegr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1b3"/>
                </a:solidFill>
                <a:latin typeface="Verdana"/>
              </a:rPr>
              <a:t>Deus é Aquele que está no mais alto degrau estendendo a mão e é o mesmo que está na terra com os braços eternamente abertos e pron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8000">
    <p:randomBar dir="vert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3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3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3000"/>
                            </p:stCondLst>
                            <p:childTnLst>
                              <p:par>
                                <p:cTn id="128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21:06:40Z</dcterms:created>
  <dc:creator>Beth Norling</dc:creator>
  <dc:description/>
  <dc:language>en-US</dc:language>
  <cp:lastModifiedBy>Beth Norling</cp:lastModifiedBy>
  <dcterms:modified xsi:type="dcterms:W3CDTF">2008-03-30T16:55:49Z</dcterms:modified>
  <cp:revision>14</cp:revision>
  <dc:subject/>
  <dc:title>Uma_janela_nos_ceus</dc:title>
</cp:coreProperties>
</file>