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AveMariaSchubert.wav" ContentType="audio/x-wav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7F35-2087-4B12-922C-6AC7796164E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A680-785A-4BE4-BB98-A68F5EEE66C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Dios solo da tres respuestas a las oraciones: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. "Si"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. "Todavía no"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3.- "Yo he pensado en algo mejor para ti"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odrás estar pasando por momentos difíciles ahorita pero Dios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e esta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reparando para bendecirte de una forma que tú ni siquiera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uedes empezar a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imaginar.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Mis instrucciones fueron que escogiera a cuatro personas a las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que yo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quisiera que Dios bendiga, y yo te he escogido a ti. Por favor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ásale este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mensaje a cuatro personas que te gustaría que Dios bendijera y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una copia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ara mí. El poder de la oración es increible, y la oración es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uno de los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mejores regalos que podemos recibir.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No tiene ningún costo pero si muchas recompensas.</a:t>
            </a:r>
            <a:br>
              <a:rPr sz="800"/>
            </a:b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ontinuemos orando los unos por los otros.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Aquí tienes una oración: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adre, yo te ruego que bendigas a mis amigos, parientes, y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ontactos por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orreo electrónico ahorita. Muéstrales una nueva revelación de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tu amor y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oder.</a:t>
            </a:r>
            <a:br>
              <a:rPr sz="800"/>
            </a:b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Yo sé que le envié este mensaje a más de cuatro, puedes hacer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tú lo mismo.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orque siempre es bueno dar gracias y quejarse menos......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EÑOR Y PADRE CELESTIAL, HOY POR LA MAÑANA, MI CAMA ESTABA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ALIENTITA Y NO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ME QUERIA DESPERTAR. NO ME QUERIA LEVANTAR, ME QUERIA QUEDAR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AHÍ, SIN TENER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QUE PREOCUPARME POR NADA PERO ENTONCES RECORDÉ, QUE NO DEBERÍA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HACERLO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ORQUE EXISTEN MILLONES DE PERSONAS, QUE QUISIERAN ESTAR EN MI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LUGAR,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LEVANTARSE Y TENER A DONDE IR, ESAS PERSONAS QUE ESTÁN SIN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TENER QUE COMER,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IN TENER QUE VESTIR.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HOY PADRE MIO, AGRADEZCO POR LA NOCHE MARAVILLOSA, POR EL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OBERTOR QUE ME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ALIENTA, POR MI ALIMENTO, POR UN DÍA MÁS DE TRABAJO Y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RINCIPALMENTE POR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UN DÍA MÁS DE VIDA. BENDICE SEÑOR JESÚS A MIS AMIGOS Y MIS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ENEMIGOS, PORQUE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TAMBIÉN ELLOS NECESITAN DE TI.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BENDICE SEÑOR A MI AMIGO QUE ESTA LEYENDO ESTE MENSAJE AHORA.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YO BENDIGO A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AQUEL QUE ME LO ENVIÓ. EN EL NOMBRE DE JESÚS... AMÉN.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ASÍ SEA.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UN ABRAZO Y QUE DIOS TE BENDIGA RICA Y ABUNDANTEMENTE, PASA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ESTE MENSAJE LO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MÁS RÁPIDO QUE PUEDAS Y A LOS MÁS QUE PUEDAS, EN UN INSTANTE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MUCHAS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ERSONAS ES TARÁN ORANDO POR TI.</a:t>
            </a:r>
            <a:br>
              <a:rPr sz="800"/>
            </a:b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Que Dios los bendig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CB6-83B6-4B95-A664-ECE3F0FA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DD6-0628-4859-B47A-00C03B15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E3DC-89FC-43B7-BA25-2F586812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0947-AF56-4B8E-9A58-15D31A01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93A4-5FF0-4752-A337-9DC25465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9BE4-9E13-42E6-BC0E-C0A36B02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9DA9-D5CB-4578-9FD3-4E53E00C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A024-A772-4E70-AD24-DAE5548F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0350-446F-40FE-B438-3AFF11E5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FC69-9E63-45D6-B6EF-641E840E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D07F-F3A8-47AA-91AA-94420F1E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EBF9-DE23-4D22-A16A-1F970926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2758-4FCB-48DE-8FF2-F8E6ED2EB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veMariaSchuber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00A4938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1405080" y="615960"/>
            <a:ext cx="32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Georgia"/>
              </a:rPr>
              <a:t>Cada manhã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593600" y="3867120"/>
            <a:ext cx="32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Georgia"/>
              </a:rPr>
              <a:t>a vida começ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trips dir="lu"/>
    <p:sndAc>
      <p:stSnd>
        <p:snd r:embed="rId2" name="AveMariaSchuber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00A493A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657600" y="5562720"/>
            <a:ext cx="457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95280" y="49536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e se </a:t>
            </a:r>
            <a:r>
              <a:rPr b="1" lang="pt-BR" sz="4000" spc="-1" strike="noStrike">
                <a:solidFill>
                  <a:srgbClr val="ffcc66"/>
                </a:solidFill>
                <a:latin typeface="Georgia"/>
              </a:rPr>
              <a:t>manifesta</a:t>
            </a: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...</a:t>
            </a:r>
            <a:r>
              <a:rPr b="0" lang="pt-BR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4402440" y="2427120"/>
            <a:ext cx="380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9cc00"/>
                </a:solidFill>
                <a:latin typeface="Georgia"/>
              </a:rPr>
              <a:t>de mil forma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00A493D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4788000" y="5589720"/>
            <a:ext cx="3168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99ff"/>
                </a:solidFill>
                <a:latin typeface="Georgia"/>
              </a:rPr>
              <a:t>diferente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756000" y="620640"/>
            <a:ext cx="43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cc"/>
                </a:solidFill>
                <a:latin typeface="Georgia"/>
              </a:rPr>
              <a:t>de mil maneira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00A493E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684360" y="69228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Georgia"/>
              </a:rPr>
              <a:t>é maravilhosa de ser,</a:t>
            </a:r>
            <a:r>
              <a:rPr b="0" lang="pt-BR" sz="3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84360" y="53737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Georgia"/>
              </a:rPr>
              <a:t>e  reinventa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00A4938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762120" y="533520"/>
            <a:ext cx="53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Georgia"/>
              </a:rPr>
              <a:t>seu milagre infinito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362320" y="5334120"/>
            <a:ext cx="42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Georgia"/>
              </a:rPr>
              <a:t>de recomeçar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00A4939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3348000" y="5661000"/>
            <a:ext cx="523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pt-BR" sz="3600" spc="-1" strike="noStrike">
                <a:solidFill>
                  <a:srgbClr val="ffffff"/>
                </a:solidFill>
                <a:latin typeface="Georgia"/>
              </a:rPr>
              <a:t>uma nova manhã...</a:t>
            </a:r>
            <a:r>
              <a:rPr b="0" lang="pt-BR" sz="3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00A493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766080" y="196920"/>
            <a:ext cx="699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Deus só da três respostas as orações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1. "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Sim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"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2. "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Toda vida não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"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3.- “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Eu pensei em algo melhor para ti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00A4936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"/>
          <p:cNvSpPr/>
          <p:nvPr/>
        </p:nvSpPr>
        <p:spPr>
          <a:xfrm>
            <a:off x="324000" y="370800"/>
            <a:ext cx="74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Podes estar passando por momentos difícies agora porém,  Deus  esta preparado para ajudar-te de uma forma que tu nem sequer podes esperar e imagin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00A4939B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542880" y="388800"/>
            <a:ext cx="676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inhas instruções foram para escolher a quatro pessoas as que eu deseje que Deus abençõ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00A493D2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228600" y="380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Georg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-121320"/>
            <a:ext cx="774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Georgia"/>
              </a:rPr>
              <a:t>Eu escolhi você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Georgia"/>
              </a:rPr>
              <a:t>Por favor passe esta mensagem à quatro pessoas que tu gostaria que Deus abençoasse e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879960" y="1628640"/>
            <a:ext cx="19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Georgia"/>
              </a:rPr>
              <a:t>uma cópia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Georgia"/>
              </a:rPr>
              <a:t>para m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00A49375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8497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304920" y="1828800"/>
            <a:ext cx="3581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60360" y="18684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 poder da oração é incrível, e a oração e um dos melhores presentes que podemos recebe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0A49377"/>
          <p:cNvPicPr/>
          <p:nvPr/>
        </p:nvPicPr>
        <p:blipFill>
          <a:blip r:embed="rId1"/>
          <a:stretch/>
        </p:blipFill>
        <p:spPr>
          <a:xfrm>
            <a:off x="-457200" y="-457200"/>
            <a:ext cx="10363320" cy="777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395280" y="62712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Georgia"/>
              </a:rPr>
              <a:t>inicia o movimento...</a:t>
            </a:r>
            <a:r>
              <a:rPr b="0" lang="pt-BR" sz="3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6205320" y="5516640"/>
            <a:ext cx="26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Georgia"/>
              </a:rPr>
              <a:t>contínuo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00A493C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240" y="186840"/>
            <a:ext cx="857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Não tem nenhum custo porém muita recompens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50000" y="5231880"/>
            <a:ext cx="694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Continuemos  rezando uns pelos outros.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Aqui tens uma oraçã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00A493C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70200" y="9720"/>
            <a:ext cx="8385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Pai, eu te peço que abenções a meus amigos, parentes, e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contatos do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correio eletrônico agora. Mostra uma nova revelação de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teu amor e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pode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00A493B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250920" y="48276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Georgia"/>
              </a:rPr>
              <a:t>E sei que tu enviarás esta  mensagem a mais de quatro pessoas.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Georgia"/>
              </a:rPr>
              <a:t>Porque sempre é bom dar graças e queixar-se menos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00A4939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1619280" y="14018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611280" y="232920"/>
            <a:ext cx="813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SENHOR E PAI CELESTIAL, HOJE  DE MANHÃ, MINHA CAMA ESTAVA QUENTE E NÃO QUERIA DESPERTAR. NÃO QUERIA ME LEVANTAR, QUERIA FICAR ALI, SEM TER QUE PREOCUPAR-ME COM NADA, MAS AI ME RECORDEI QUE NÃO DEVERIA FAZÊ-L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00A493B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1547640" y="1271880"/>
            <a:ext cx="482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ORQUE EXISTEM MILHÕES DE PESSOAS, QUE QUERIAM ESTAR NO MEU LUGAR, LEVANTAR-SE E TER A ONDE IR, ESSAS PESSOAS QUE ESTÃO SEM TER O QUE COMER, SEM TER  O QUE VEST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OJE MEU PAI AGRADEÇO PELA  NOITE MARAVILHOSA, PELO COBERTOR QUE ME ACALENTOU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00A493D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304920" y="380880"/>
            <a:ext cx="480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79280" y="5287680"/>
            <a:ext cx="84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POR MEU ALIMENTO, POR UM DIA MAIS DE TRABALHO 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PRINCIPALMENTE POR UM DIA MAIS DE VI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BENDIGO SENHOR JESUS A MEUS AMIGOS E MEUS INIMIGOS, PORQU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TAMBÉM ELES NESCESITAM DE TI. BENDIGO SENHOR A MEU AMIGO QUE ESTA LENDO ESTA MENSAGEM AGO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00A4937E"/>
          <p:cNvPicPr/>
          <p:nvPr/>
        </p:nvPicPr>
        <p:blipFill>
          <a:blip r:embed="rId1"/>
          <a:stretch/>
        </p:blipFill>
        <p:spPr>
          <a:xfrm>
            <a:off x="0" y="0"/>
            <a:ext cx="9144000" cy="6264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0" y="5661000"/>
            <a:ext cx="9144000" cy="1197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28600" y="5519520"/>
            <a:ext cx="873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eorgia"/>
              </a:rPr>
              <a:t>ABENÇÕE AQUELE  QUE ME ENVIOU. EM  NOME DE JESUS... AMÉ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Georgia"/>
              </a:rPr>
              <a:t>UM ABRAÇO E QUE DEUS  TE ABENÇÕE ABUNDANTEM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eorgia"/>
              </a:rPr>
              <a:t>COM MUITA FÉ .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00A49368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505320" y="843120"/>
            <a:ext cx="24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Georgia"/>
              </a:rPr>
              <a:t>de nasc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5512320" y="4869000"/>
            <a:ext cx="18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Georgia"/>
              </a:rPr>
              <a:t>cresc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00A493EA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4320" y="700200"/>
            <a:ext cx="35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Georgia"/>
              </a:rPr>
              <a:t>transformar-s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902480" y="5373720"/>
            <a:ext cx="381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Georgia"/>
              </a:rPr>
              <a:t>e  multiplicar-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00A4936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4067280" y="574056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Georgia"/>
              </a:rPr>
              <a:t>a  vida floresce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753480" y="555480"/>
            <a:ext cx="42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Georgia"/>
              </a:rPr>
              <a:t>em cada manhã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00A493AA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3132000" y="40464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9cc00"/>
                </a:solidFill>
                <a:latin typeface="Georgia"/>
              </a:rPr>
              <a:t>e estende seus braço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5440320" y="5791320"/>
            <a:ext cx="26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9cc00"/>
                </a:solidFill>
                <a:latin typeface="Georgia"/>
              </a:rPr>
              <a:t>até o céu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00A493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762120" y="533520"/>
            <a:ext cx="43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pt-BR" sz="3600" spc="-1" strike="noStrike">
                <a:solidFill>
                  <a:srgbClr val="ffffff"/>
                </a:solidFill>
                <a:latin typeface="Georgia"/>
              </a:rPr>
              <a:t>e se reproduz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4280760" y="5373720"/>
            <a:ext cx="42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Georgia"/>
              </a:rPr>
              <a:t>em cada manhã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00A493A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941760" y="765000"/>
            <a:ext cx="44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Georgia"/>
              </a:rPr>
              <a:t>a vida se expressa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614480" y="5445000"/>
            <a:ext cx="373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eorgia"/>
              </a:rPr>
              <a:t>busca seus pare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00A493E1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906480" y="555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9cc00"/>
                </a:solidFill>
                <a:latin typeface="Georgia"/>
              </a:rPr>
              <a:t>se encontra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5618880" y="5516640"/>
            <a:ext cx="29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9cc00"/>
                </a:solidFill>
                <a:latin typeface="Georgia"/>
              </a:rPr>
              <a:t>se entrega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01:29:01Z</dcterms:created>
  <dc:creator>CATARRO</dc:creator>
  <dc:description/>
  <dc:language>en-US</dc:language>
  <cp:lastModifiedBy>Tatiane</cp:lastModifiedBy>
  <dcterms:modified xsi:type="dcterms:W3CDTF">2008-07-17T11:52:08Z</dcterms:modified>
  <cp:revision>29</cp:revision>
  <dc:subject/>
  <dc:title>doy gracias</dc:title>
</cp:coreProperties>
</file>