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Pearl%20Jam%20-%20Alive%20som%208.wav" ContentType="audio/x-wav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A65-8FD4-4770-A707-186B7250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0F8-04D6-48DD-B71A-0A00A05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C51-4155-4C31-8ED8-B965D439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DC6-6ACB-486F-8AD2-0775A097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056-9E9E-48DA-9D76-14B71DCF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942-AAC6-46B1-8980-0077F1A3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C08-136B-4CFD-8D20-83C22314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0B2-9228-4733-B3FA-C4CBA86E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CBD-9B7B-4821-8902-85F0959A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63D-DC71-4C0A-B812-66C3FF3B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132-7040-4F59-9C6B-296026D9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890-9718-41A7-936B-766FE1BA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28F-51DB-476E-9D63-EA75DCE792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earl%20Jam%20-%20Alive%20som%20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380880"/>
            <a:ext cx="845820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empo perdid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Deixei os amores pelas esqu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m copos sujos de bar, perdi muitos a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alvez os melhores anos da minha vida...</a:t>
            </a: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inha alegre juventude joguei ao v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ão percebi a maldade daqueles ami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Que me levaram ao fundo do poç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Ao mundo imundo das bestial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Das cordas cruéis que me amarra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me jogaram ao abismo do ví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  <p:sndAc>
      <p:stSnd>
        <p:snd r:embed="rId2" name="Pearl%20Jam%20-%20Alive%20som%20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457200"/>
            <a:ext cx="8001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inha família... oh... meus p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Quanta tristeza sentiram quando vi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O trapo imundo em que me transform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Sentado em sarjetas quebr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Cheirando a esgoto de vielas podres!!!</a:t>
            </a: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inha vida joguei ao v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O amor que insistiu em me quer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Cuspi-lhe na face e ri de sua c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Suas lágrimas puras não me comove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Gargalhadas horrendas partiam de m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este amor não se conteve e desabou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8580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odos que tentaram mostrar-me o caminh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iveram suas costas apunhaladas por m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stavam todos errados... só eu estava cert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u sabia o quanto todos eram ridícu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u e meus amigos quase morríamos de rir entre um trago e outro da bebida ardida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Ao contar daquelas pessoas que tenta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Tirar-nos do abismo profundo em que caí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Até que elas desistiram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E nos deixaram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457200"/>
            <a:ext cx="7239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Que delírio... entregues ao prazer da carne que delícia...  A noite fria entrar pelos ossos e uma bebida quente fazer o corpo suportar e em casa... Os cobertores dobrados num canto se empoeiraram no inverno da minha vida. Sei que não vivi tudo que devia Sei que sentei-me num canto e lastimei  Sei que não lutei pela minha vida Sei que teria tido outro destino mais feli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Se tivesse tido coragem de enfrentar Se tivesse tido um pouco mais de audácia Ao invés da covardia que cometi com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685800"/>
            <a:ext cx="762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Hoje meus ossos se desmanc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eus pâncreas... acho que já os per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eu fígado... estou em uma fila de morte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eus olhos não mais enxergam o horizo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Meu sorriso mostra dentes destruíd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Só restou meu coração... coit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Cheio de esperança na vida!!!</a:t>
            </a: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Não sei se ainda a tenho.</a:t>
            </a: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5562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Copperplate Gothic Light"/>
                <a:ea typeface="Times New Roman"/>
              </a:rPr>
              <a:t>(Lúcia Resen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3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cc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22860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Times New Roman"/>
              </a:rPr>
              <a:t>Pearl Jam -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4479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590920"/>
            <a:ext cx="702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cc99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495680"/>
            <a:ext cx="77724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cc99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825"/>
                            </p:stCondLst>
                            <p:childTnLst>
                              <p:par>
                                <p:cTn id="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125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01:27:43Z</dcterms:created>
  <dc:creator>ssoliver@terra.com.br </dc:creator>
  <dc:description/>
  <dc:language>en-US</dc:language>
  <cp:lastModifiedBy>Leticia Thompson</cp:lastModifiedBy>
  <dcterms:modified xsi:type="dcterms:W3CDTF">2004-11-02T22:04:15Z</dcterms:modified>
  <cp:revision>4</cp:revision>
  <dc:subject/>
  <dc:title>Tempo Perdido</dc:title>
</cp:coreProperties>
</file>