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Pearl%20Jam%20-%20Alive%20som%208.wav" ContentType="audio/x-wav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846-EF71-441F-9049-11AD89E2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C79-1EB6-42DD-B0F7-BCB4E543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408-9960-4788-98A4-6ECC8084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457-9CB4-4F2C-B607-568ECA3E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22C-8EED-4AA7-8E44-DEAB9E8A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7FA-B045-4C31-B245-B97E873E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3CC-0445-4DB3-8BF4-FE04A0D9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959-0CD7-4DEC-88A0-07F74E7D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1CF-A143-41D9-88FB-D7C5E1A5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A5A-3152-40A6-BE01-49FB658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9F0-2186-467D-92CB-C74AB365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089-5FF8-4DBF-8EF6-3B70F8FA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8A56-E122-4065-9888-9C5E1798B4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earl%20Jam%20-%20Alive%20som%20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380880"/>
            <a:ext cx="845820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empo perdid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Deixei os amores pelas esqu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m copos sujos de bar, perdi muitos a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alvez os melhores anos da minha vida...</a:t>
            </a: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inha alegre juventude joguei ao v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ão percebi a maldade daqueles ami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Que me levaram ao fundo do poç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Ao mundo imundo das bestial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Das cordas cruéis que me amarra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me jogaram ao abismo do ví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  <p:sndAc>
      <p:stSnd>
        <p:snd r:embed="rId2" name="Pearl%20Jam%20-%20Alive%20som%20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457200"/>
            <a:ext cx="8001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inha família... oh... meus p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Quanta tristeza sentiram quando vi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O trapo imundo em que me transform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Sentado em sarjetas quebr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Cheirando a esgoto de vielas podres!!!</a:t>
            </a: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inha vida joguei ao v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O amor que insistiu em me quer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Cuspi-lhe na face e ri de sua c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Suas lágrimas puras não me comove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Gargalhadas horrendas partiam de m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este amor não se conteve e desabou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8580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odos que tentaram mostrar-me o camin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iveram suas costas apunhaladas por m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stavam todos errados... só eu estava cert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u sabia o quanto todos eram ridícu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u e meus amigos quase morríamos de rir entre um trago e outro da bebida ardida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Ao contar daquelas pessoas que tenta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irar-nos do abismo profundo em que caí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Até que elas desistiram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nos deixaram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457200"/>
            <a:ext cx="7239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Que delírio... entregues ao prazer da carne que delícia...  A noite fria entrar pelos ossos e uma bebida quente fazer o corpo suportar e em casa... Os cobertores dobrados num canto se empoeiraram no inverno da minha vida. Sei que não vivi tudo que devia Sei que sentei-me num canto e lastimei  Sei que não lutei pela minha vida Sei que teria tido outro destino mais feli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Se tivesse tido coragem de enfrentar Se tivesse tido um pouco mais de audácia Ao invés da covardia que cometi com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685800"/>
            <a:ext cx="762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Hoje meus ossos se desmanc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eus pâncreas... acho que já os per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eu fígado... estou em uma fila de morte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eus olhos não mais enxergam o horizo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eu sorriso mostra dentes destruíd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Só restou meu coração... coit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Cheio de esperança na vida!!!</a:t>
            </a: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ão sei se ainda a tenho.</a:t>
            </a: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5562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(Lúcia Resen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3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cc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22860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Pearl Jam -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4479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590920"/>
            <a:ext cx="702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cc99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495680"/>
            <a:ext cx="77724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cc99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825"/>
                            </p:stCondLst>
                            <p:childTnLst>
                              <p:par>
                                <p:cTn id="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125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01:27:43Z</dcterms:created>
  <dc:creator>ssoliver@terra.com.br </dc:creator>
  <dc:description/>
  <dc:language>en-US</dc:language>
  <cp:lastModifiedBy>Leticia Thompson</cp:lastModifiedBy>
  <dcterms:modified xsi:type="dcterms:W3CDTF">2004-11-02T22:04:15Z</dcterms:modified>
  <cp:revision>4</cp:revision>
  <dc:subject/>
  <dc:title>Tempo Perdido</dc:title>
</cp:coreProperties>
</file>