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Zamphir%20-%20Annie's%20Song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948-1155-4BB5-B616-0E414B45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555-35AF-46F9-BF15-9D3509E4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DBE-F167-4CA5-B5B8-B8F240E5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2BA-CFA0-4D4E-BF11-500CCCB1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93B-3DE0-47C6-B5C5-67E40193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D77-BF89-46C2-A899-F22C63D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D33-8FFF-44C4-B2AB-8E91A14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18A-00CA-45BB-A850-B5E71D5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0E7-3E9C-4821-A165-31A1687F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104-69CB-4F33-982C-A93C00A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E9B-4D60-40DA-BDC3-CFCC497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3DB-BFEC-4A31-B78E-2EB2CA95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A465-7BA9-4A9C-8430-B48B1D10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audio" Target="../media/Zamphir%20-%20Annie&apos;s%20Song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8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9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10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11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1341360"/>
            <a:ext cx="4400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COMUNICAÇÃO</a:t>
            </a:r>
            <a:endParaRPr b="0" i="1" lang="en-US" sz="18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48360" y="530064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4724280"/>
            <a:ext cx="705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Queremos guardar preciosamente em nós tudo aquilo que almejamos e, principalmente, alcançamos. Mas muitas vezes não consegu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3429000"/>
            <a:ext cx="7074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Quando os problemas surg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agimos de forma errada, querendo acertar. Pensamos que fazendo de conta que tudo está bem as coisas se tornarão melhores, que o tempo pode remediar tudo, que amar significa se inclinar e esperar que as coisas se acertem por elas mesmas. Isso nem sempre e mesmo raramente acont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4221000"/>
            <a:ext cx="72453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Mágoas não desaparecem num passe de má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Palavras jogadas e recebidas gravam-se em nós até mesmo quando dizemos que não, querendo consertar uma situ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O tempo passa e o coração continua 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16000" y="4797360"/>
            <a:ext cx="70074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Pequeninas coisas vão se acumulando, até que um dia não podemos mais respirar, explodimos ou morremos sufo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4724280"/>
            <a:ext cx="7120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A comunicação no dia-a-dia, na hora certa, com maturidade, apesar das dores, vai eliminando os lixos que envenenam pouco a pouco os relacion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eadd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4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6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8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9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0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66760" y="3500280"/>
            <a:ext cx="7005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dd8e"/>
                </a:solidFill>
                <a:latin typeface="Verdana"/>
              </a:rPr>
              <a:t>Saber o que o outro pensa, o que sente, não sabemos. Mas quando as coisas são ditas, de maneira adulta, elas tornam-se menos importantes e as relações tornam-se saudáveis. Adivinhamos e sabemos que o amor do outro não é aquele que nos suporta, mas o que nos acolhe, mesmo se somos quem e o que somos. E vice-vers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dd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499640" y="-4239360"/>
            <a:ext cx="14436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0"/>
            <a:ext cx="144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499640" y="1953360"/>
            <a:ext cx="1443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0"/>
            <a:ext cx="1447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49360"/>
            <a:ext cx="7632720" cy="575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620640"/>
            <a:ext cx="7488360" cy="5616720"/>
          </a:xfrm>
          <a:prstGeom prst="rect">
            <a:avLst/>
          </a:prstGeom>
          <a:gradFill rotWithShape="0">
            <a:gsLst>
              <a:gs pos="0">
                <a:srgbClr val="0d2a42"/>
              </a:gs>
              <a:gs pos="50000">
                <a:srgbClr val="1d5c90"/>
              </a:gs>
              <a:gs pos="100000">
                <a:srgbClr val="0d2a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7885080" y="5751360"/>
            <a:ext cx="1258920" cy="110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0" y="1052640"/>
            <a:ext cx="826920" cy="726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8277120" y="5084640"/>
            <a:ext cx="86688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7236000" y="6095880"/>
            <a:ext cx="8665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395280" y="40464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1403280" y="260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6"/>
          <a:stretch/>
        </p:blipFill>
        <p:spPr>
          <a:xfrm>
            <a:off x="324000" y="1268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8244000" y="609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8648640" y="522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7596360" y="6419880"/>
            <a:ext cx="495000" cy="438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384200" y="1835280"/>
            <a:ext cx="6500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Música: Zamphir – Annie’s so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28a"/>
                </a:solidFill>
                <a:latin typeface="Verdana"/>
              </a:rPr>
              <a:t>E-mail: </a:t>
            </a: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0" lang="en-US" sz="2000" spc="-1" strike="noStrike" u="sng">
                <a:solidFill>
                  <a:srgbClr val="eee28a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0:19:20Z</dcterms:created>
  <dc:creator>Beth Norling</dc:creator>
  <dc:description/>
  <dc:language>en-US</dc:language>
  <cp:lastModifiedBy>Beth Norling</cp:lastModifiedBy>
  <dcterms:modified xsi:type="dcterms:W3CDTF">2007-07-10T01:39:55Z</dcterms:modified>
  <cp:revision>10</cp:revision>
  <dc:subject/>
  <dc:title>A_comunicacao</dc:title>
</cp:coreProperties>
</file>