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Zamphir%20-%20Annie's%20Song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192-B9D5-4A08-B335-88A2AB07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B3D-1C5F-469D-ADD1-0E4899FF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F14-616A-47AB-911C-D6D02380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28C-802E-4E40-BCAA-A3026F6D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8B5-D4C6-46F3-8257-4A8157BB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983-B3F4-44BE-B3D9-B6DFE622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559-6FC3-4BEB-8738-9D1FAA9D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49A-2E34-407D-B24C-E859B8E9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57D-C066-46DC-8A86-9B27AA87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C7C-45FD-49EE-A1D4-D92BBFA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383-B962-475F-9C2E-4D47C4DB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5FF-09A3-47B4-93AF-D700222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CB17-34C3-4BBC-8A48-27E476A50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audio" Target="../media/Zamphir%20-%20Annie&apos;s%20Song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6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8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9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10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11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hyperlink" Target="http://www.leticiathompson.net/" TargetMode="External"/><Relationship Id="rId21" Type="http://schemas.openxmlformats.org/officeDocument/2006/relationships/hyperlink" Target="mailto:bethnorling@globo.com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16000" y="1341360"/>
            <a:ext cx="4400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 COMUNICAÇÃO</a:t>
            </a:r>
            <a:endParaRPr b="0" i="1" lang="en-US" sz="1800" spc="1" strike="noStrike">
              <a:ln w="0">
                <a:noFill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48360" y="530064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4724280"/>
            <a:ext cx="7056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Queremos guardar preciosamente em nós tudo aquilo que almejamos e, principalmente, alcançamos. Mas muitas vezes não consegu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3429000"/>
            <a:ext cx="70740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Quando os problemas surg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agimos de forma errada, querendo acertar. Pensamos que fazendo de conta que tudo está bem as coisas se tornarão melhores, que o tempo pode remediar tudo, que amar significa se inclinar e esperar que as coisas se acertem por elas mesmas. Isso nem sempre e mesmo raramente acont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4221000"/>
            <a:ext cx="724536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Mágoas não desaparecem num passe de má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Palavras jogadas e recebidas gravam-se em nós até mesmo quando dizemos que não, querendo consertar uma situ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O tempo passa e o coração continua o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16000" y="4797360"/>
            <a:ext cx="70074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Pequeninas coisas vão se acumulando, até que um dia não podemos mais respirar, explodimos ou morremos sufo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4724280"/>
            <a:ext cx="71200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A comunicação no dia-a-dia, na hora certa, com maturidade, apesar das dores, vai eliminando os lixos que envenenam pouco a pouco os relacion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66760" y="3500280"/>
            <a:ext cx="70056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Saber o que o outro pensa, o que sente, não sabemos. Mas quando as coisas são ditas, de maneira adulta, elas tornam-se menos importantes e as relações tornam-se saudáveis. Adivinhamos e sabemos que o amor do outro não é aquele que nos suporta, mas o que nos acolhe, mesmo se somos quem e o que somos. E vice-vers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d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gradFill rotWithShape="0">
            <a:gsLst>
              <a:gs pos="0">
                <a:srgbClr val="0d2a42"/>
              </a:gs>
              <a:gs pos="50000">
                <a:srgbClr val="1d5c90"/>
              </a:gs>
              <a:gs pos="100000">
                <a:srgbClr val="0d2a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5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6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7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8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9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384200" y="1835280"/>
            <a:ext cx="6500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e28a"/>
                </a:solidFill>
                <a:uFillTx/>
                <a:latin typeface="Verdana"/>
                <a:hlinkClick r:id="rId2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Música: Zamphir – Annie’s so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E-mail: </a:t>
            </a:r>
            <a:r>
              <a:rPr b="0" lang="en-US" sz="2000" spc="-1" strike="noStrike" u="sng">
                <a:solidFill>
                  <a:srgbClr val="eee28a"/>
                </a:solidFill>
                <a:uFillTx/>
                <a:latin typeface="Verdana"/>
                <a:hlinkClick r:id="rId21"/>
              </a:rPr>
              <a:t>bethnorling@globo.com</a:t>
            </a:r>
            <a:r>
              <a:rPr b="0" lang="en-US" sz="2000" spc="-1" strike="noStrike" u="sng">
                <a:solidFill>
                  <a:srgbClr val="eee28a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00:19:20Z</dcterms:created>
  <dc:creator>Beth Norling</dc:creator>
  <dc:description/>
  <dc:language>en-US</dc:language>
  <cp:lastModifiedBy>Beth Norling</cp:lastModifiedBy>
  <dcterms:modified xsi:type="dcterms:W3CDTF">2007-07-10T01:39:55Z</dcterms:modified>
  <cp:revision>10</cp:revision>
  <dc:subject/>
  <dc:title>A_comunicacao</dc:title>
</cp:coreProperties>
</file>