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Toni%20Braxton%20-%20Unbreak%20my%20Heart3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3AA-9EB5-4CD9-BF9B-D24DB56D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373-8A29-4EFF-B89D-5ABB806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91B-A9BB-433A-838E-204C7AD3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3D4-0838-4757-8613-812E9641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247-C7C6-4DB9-8766-F852E089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984-EE5A-4ECE-AE53-A207EC37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164-1C7E-42EB-A080-5DDD165D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8BD-84AE-4975-9D1F-FA637234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FC3-6D78-4356-B6C4-73B55488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241-8E50-467F-B0CA-98399D7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A36-7E8F-4328-A9DF-199A85CC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81D-A6BF-4A60-A4F8-E4CAEC0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A4A0-7A36-4B3F-8BA4-B7DE77ABD7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oni%20Braxton%20-%20Unbreak%20my%20Heart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04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Copperplate Gothic Light"/>
              </a:rPr>
              <a:t>Preciso Tanto de Voc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Preciso tanto de você, quando me torno rarefeita, e você não sabe, nem suspeita... Preciso tanto de você, quando falo tudo incompreensível, enquanto você pensa o que é possível... Preciso tanto de você, quando o mundo parece me sufocar, e você se diz cansado, vai deitar... Preciso tanto de você, quando busco sua alma, ao      me entregar, enquanto você nem sonha acordar...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randomBar dir="vert"/>
    <p:sndAc>
      <p:stSnd>
        <p:snd r:embed="rId2" name="Toni%20Braxton%20-%20Unbreak%20my%20Heart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76212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Preciso tanto de você, quando faço do silêncio, realidade, e você se perde em banalidade... Preciso tanto de você, quando perco o sono, sem porquê, enquanto você dorme para esquecer... Preciso tanto de você, quando busco sintonia,</a:t>
            </a:r>
            <a:br>
              <a:rPr sz="2800"/>
            </a:b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E você quer saber da TV como companhia... Preciso tanto de você, quando, ao encontro, corro atrasada, e você repete: "maluca, destrambelhada"..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685800"/>
            <a:ext cx="7620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Preciso tanto de você, quando me visita a depressão, e você tem mais o que fazer, com o jornal na mão... Preciso tanto de você, quando revelo uma realidade só minha, e você conclui porque sempre fui sozinha... Preciso tanto de você, desta sua ausência definitiva  - fatal, para eu saber da minha vida louca, “banal”...  Preciso tanto de você, assim, sem me enxergar, distante, para eu me reconhecer livre o basta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762120"/>
            <a:ext cx="7162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reciso tanto de você, longe do meu caminhar... Por favor - só agora, permita-me sonhar... Preciso tanto de você, fazendo tudo para sempre fugir...</a:t>
            </a:r>
            <a:br>
              <a:rPr sz="2800"/>
            </a:b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ode ter certeza: para lá, não quero ir... Preciso tanto de você, para jamais lhe dizer: - Continuo doida varrida, mais silenciosa, um tanto recolhid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762120"/>
            <a:ext cx="76201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Às vezes até pareço "normal"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- Como, bebo, durmo...</a:t>
            </a:r>
            <a:br>
              <a:rPr sz="2800"/>
            </a:b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Mas ainda sonho acordada, falo sozinha, continuo destrambelhada, e minha alma segue a luzinha do que não é visível, explicável, compreensível, vulnerável...</a:t>
            </a:r>
            <a:br>
              <a:rPr sz="2800"/>
            </a:br>
            <a:r>
              <a:rPr b="1" lang="pt-BR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Preciso de mim!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pperplate Gothic Light"/>
                <a:ea typeface="Arial"/>
              </a:rPr>
              <a:t>Dora Br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4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a9db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22860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a9dbe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a9dbe"/>
                </a:solidFill>
                <a:latin typeface="Times New Roman"/>
              </a:rPr>
              <a:t>Toni Braxton - Unbreak My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137160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9dbe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9dbe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7432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8a9dbe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343400"/>
            <a:ext cx="68580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a9dbe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425"/>
                            </p:stCondLst>
                            <p:childTnLst>
                              <p:par>
                                <p:cTn id="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725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3:52:34Z</dcterms:created>
  <dc:creator>ssoliver@terra.com.br </dc:creator>
  <dc:description/>
  <dc:language>en-US</dc:language>
  <cp:lastModifiedBy>Leticia Thompson</cp:lastModifiedBy>
  <dcterms:modified xsi:type="dcterms:W3CDTF">2004-11-02T21:11:11Z</dcterms:modified>
  <cp:revision>4</cp:revision>
  <dc:subject/>
  <dc:title>Preciso tanto de você</dc:title>
</cp:coreProperties>
</file>