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Toni%20Braxton%20-%20Unbreak%20my%20Heart3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549-01CA-410A-A35B-AA1C4C2E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2AB-E18A-47E1-9259-C0989153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67F-AD7D-4D24-9AEC-496E7CB6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BBE-71CA-4432-99DF-F6C3A996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03C-BAEF-4807-A608-6FD4F78E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AA1-E955-4847-BB6E-AB8C4F2D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4A9-CF11-450F-BE6F-95D30F40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7A0-DED2-49D7-9A34-F28847A6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545-187E-40F7-8310-9D8B6657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F45-E54E-4D38-8905-51BB538C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17B-09E5-4AEC-91C5-2B6E8872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060-4D32-44CA-A347-DDAFAC5F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3D6E-7F3B-4EB1-8FC1-EA1FC4F00D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oni%20Braxton%20-%20Unbreak%20my%20Heart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04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Copperplate Gothic Light"/>
              </a:rPr>
              <a:t>Preciso Tanto de Voc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Preciso tanto de você, quando me torno rarefeita, e você não sabe, nem suspeita... Preciso tanto de você, quando falo tudo incompreensível, enquanto você pensa o que é possível... Preciso tanto de você, quando o mundo parece me sufocar, e você se diz cansado, vai deitar... Preciso tanto de você, quando busco sua alma, ao      me entregar, enquanto você nem sonha acordar...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  <p:sndAc>
      <p:stSnd>
        <p:snd r:embed="rId2" name="Toni%20Braxton%20-%20Unbreak%20my%20Heart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76212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Preciso tanto de você, quando faço do silêncio, realidade, e você se perde em banalidade... Preciso tanto de você, quando perco o sono, sem porquê, enquanto você dorme para esquecer... Preciso tanto de você, quando busco sintonia,</a:t>
            </a:r>
            <a:br>
              <a:rPr sz="2800"/>
            </a:b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E você quer saber da TV como companhia... Preciso tanto de você, quando, ao encontro, corro atrasada, e você repete: "maluca, destrambelhada"..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68580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Preciso tanto de você, quando me visita a depressão, e você tem mais o que fazer, com o jornal na mão... Preciso tanto de você, quando revelo uma realidade só minha, e você conclui porque sempre fui sozinha... Preciso tanto de você, desta sua ausência definitiva  - fatal, para eu saber da minha vida louca, “banal”...  Preciso tanto de você, assim, sem me enxergar, distante, para eu me reconhecer livre o basta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762120"/>
            <a:ext cx="7162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reciso tanto de você, longe do meu caminhar... Por favor - só agora, permita-me sonhar... Preciso tanto de você, fazendo tudo para sempre fugir...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ode ter certeza: para lá, não quero ir... Preciso tanto de você, para jamais lhe dizer: - Continuo doida varrida, mais silenciosa, um tanto recolhid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762120"/>
            <a:ext cx="76201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Às vezes até pareço "normal"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- Como, bebo, durmo...</a:t>
            </a:r>
            <a:br>
              <a:rPr sz="2800"/>
            </a:b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Mas ainda sonho acordada, falo sozinha, continuo destrambelhada, e minha alma segue a luzinha do que não é visível, explicável, compreensível, vulnerável...</a:t>
            </a:r>
            <a:br>
              <a:rPr sz="2800"/>
            </a:b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reciso de mim!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Dora Br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4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a9db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22860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a9dbe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a9dbe"/>
                </a:solidFill>
                <a:latin typeface="Times New Roman"/>
              </a:rPr>
              <a:t>Toni Braxton - Unbreak My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137160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9dbe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9dbe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7432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8a9dbe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343400"/>
            <a:ext cx="68580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a9dbe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425"/>
                            </p:stCondLst>
                            <p:childTnLst>
                              <p:par>
                                <p:cTn id="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725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3:52:34Z</dcterms:created>
  <dc:creator>ssoliver@terra.com.br </dc:creator>
  <dc:description/>
  <dc:language>en-US</dc:language>
  <cp:lastModifiedBy>Leticia Thompson</cp:lastModifiedBy>
  <dcterms:modified xsi:type="dcterms:W3CDTF">2004-11-02T21:11:11Z</dcterms:modified>
  <cp:revision>4</cp:revision>
  <dc:subject/>
  <dc:title>Preciso tanto de você</dc:title>
</cp:coreProperties>
</file>