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20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AD%C3%81GIO.wav" ContentType="audio/x-wav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0476-189A-4483-87FD-E740643A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2360-8791-4EC0-9171-98DE69B8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9A8-E699-4574-8ED4-0B94F8FA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0D5-15BD-4F66-ABFB-34D22120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C5A-6BF8-4577-86FF-683906EE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24A-4692-4AAA-9BDB-383B5563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5E4-2CEF-46A7-A0F8-3D80DCC8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EFF-8D24-4FC5-A59D-E4C02E46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700C-CC89-4749-90A9-5740AC5F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C87-1637-4EBD-BEDF-3D3F0A8F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35DD-19DC-4B7E-82F4-5D4541A9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C26-FBB8-4288-B1E8-08B307F1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4649-3687-4049-9E3B-C2F8CA023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AD&#193;GIO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4360" y="2924280"/>
            <a:ext cx="78102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5560">
                  <a:solidFill>
                    <a:srgbClr val="333333"/>
                  </a:solidFill>
                  <a:miter/>
                </a:ln>
                <a:solidFill>
                  <a:srgbClr val="969696"/>
                </a:solidFill>
                <a:latin typeface="Arial Black"/>
              </a:rPr>
              <a:t>ALÉM DA MORTE</a:t>
            </a:r>
            <a:endParaRPr b="0" lang="en-US" sz="6600" spc="1" strike="noStrike">
              <a:ln w="25560">
                <a:solidFill>
                  <a:srgbClr val="333333"/>
                </a:solidFill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08360" y="5516640"/>
            <a:ext cx="172872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95640" y="260280"/>
            <a:ext cx="69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Em toda parte e sem cessar, amigos espirituais amparam todos os seus irmãos, refletindo a paternal Providência Divina.    Morrer, longe de ser o descansar nas mansões celestes ou expurgar sem remissão nas zonas infelizes, é, pura e simplesmente recomeçar a viv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85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A morte a todos aguarda.                                          Preparar-se para tal acontecimento é tarefa inadiável. Apenas as almas esclarecidas e experimentadas na batalha redentora serão capazes de transpor a barreira do túmulo e caminhar em liber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20940600">
            <a:off x="6940080" y="6165360"/>
            <a:ext cx="2016360" cy="28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602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A reencarnação é uma bendita oportunidade de evolução.                                  A matéria em que nos encontramos imersos, por hora, é abençoado campo de luta e de aprimoramento pessoal.                         Cada dia que dispomos na carne é nova chance de recomeç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260280"/>
            <a:ext cx="741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Tal benefício deve ser aproveitado para       aquisição dos verdadeiros valores                    que resistem à própria morte.                          Na contabilidade Divina a soma de ações     nobres anula a coletânea                   equivalente de atos indig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79640" y="4869000"/>
            <a:ext cx="691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Todo amor dedicado ao próximo,                               em serviço educativo à humanidade,                          é degrau de ascensã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82560" y="4203720"/>
            <a:ext cx="7561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Franklin Gothic Medium"/>
              </a:rPr>
              <a:t>Quando o véu da morte fechar os nossos olhos nesta existência, continuaremos vivendo em outro plano e em condições diversas.         Estaremos, no entanto, imbuídos dos mesmos defeitos e das mesmas qualidades que nos movimentavam antes do transe da m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89000"/>
            <a:ext cx="77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A adaptação a essa nova realidade dependerá da forma como nos tivermos preparado para ela. Semeamos a partir de hoje a colheitas de venturas, ou de desdita, do amanhã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4019400" cy="4208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308720" y="5157720"/>
            <a:ext cx="870120" cy="860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6948360" y="6021360"/>
            <a:ext cx="165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969696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reitos Autorais</a:t>
            </a:r>
            <a:endParaRPr b="0" lang="en-US" sz="1200" spc="1" strike="noStrike">
              <a:ln w="9360">
                <a:solidFill>
                  <a:srgbClr val="969696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732720" y="6308640"/>
            <a:ext cx="20811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oberto Rodrigues Neto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020000" y="6638760"/>
            <a:ext cx="14954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2 de março de 2011</a:t>
            </a:r>
            <a:endParaRPr b="0" lang="en-US" sz="1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/>
          <p:nvPr/>
        </p:nvSpPr>
        <p:spPr>
          <a:xfrm>
            <a:off x="3240000" y="476280"/>
            <a:ext cx="59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Mensagem psicografada por           Divaldo Pereira Franco                         Pelo Espírito de Otília Gonça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4720" y="3141720"/>
            <a:ext cx="3381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ORMATAÇÃO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716360" y="3789360"/>
            <a:ext cx="23716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oberto Rodrigues Neto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68360" y="333360"/>
            <a:ext cx="640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a00"/>
                </a:solidFill>
                <a:latin typeface="Franklin Gothic Medium"/>
              </a:rPr>
              <a:t>Cumprida mais uma jornada na Terra, seguem os espíritos para a Pátria Espiritual, conduzindo a bagagem dos feitos acumulados em suas existênc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799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765000"/>
            <a:ext cx="88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Aportam no plano espiritual,                                                       nem anjos, nem demônios. São homens,                               almas em aprendizagem despojadas da carne.               São os mesmos homens que eram antes da m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260280"/>
            <a:ext cx="806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A desencarnação não lhes modifica                    hábitos nem costumes.                                          Não lhes outorga títulos, nem conquistas.                  Não lhes retira méritos, nem realiz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3860640"/>
            <a:ext cx="727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Cada um se apresenta após a morte                                 como sempre viveu.                                            Não ocorre nenhum milagre de transformação para aqueles que atinge o grande porto.      Raros são aqueles que despertam com               a consciência livre, após a inevitável travessia.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005360"/>
            <a:ext cx="781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A grande maioria, vinculada de forma intensa               às sensações da matéria, demora-se, infeliz,        ignorando a nova realidade.                                   Muitos agem como turistas confusos em visita           a grande cidade, buscando incessantemente endereços que não conseguem loca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4437000"/>
            <a:ext cx="71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Sentem a alma visitada por aflições e           remorsos, receios e ansiedades.                                Se refletissem um pouco perceberiam que            a vida prossegue sem grandes modific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89000"/>
            <a:ext cx="831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</a:rPr>
              <a:t>Os escravos do prazer prosseguem inquietos.          Os servos do ódio demoram-se em aflição.               Os companheiros da ilusão permanecem enganados. Os aficionados da mentira dementam-se                   sob imagens desordenadas.                                         Os amigos da ignorância continuam perturb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3860640"/>
            <a:ext cx="73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Além disso, a maior parte dos seres não                      é capaz de perceber o apoio dispensado                     pelos Espíritos Superiores.                                       Sim, porque mesmo os seres mais infelizes           e voltados ao mal não são esquecidos ou abandonados pelo auxílio Divi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1:54:54Z</dcterms:created>
  <dc:creator>Roberto</dc:creator>
  <dc:description/>
  <dc:language>en-US</dc:language>
  <cp:lastModifiedBy>Roberto</cp:lastModifiedBy>
  <dcterms:modified xsi:type="dcterms:W3CDTF">2011-03-23T16:38:43Z</dcterms:modified>
  <cp:revision>3</cp:revision>
  <dc:subject/>
  <dc:title>Slide 1</dc:title>
</cp:coreProperties>
</file>