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5.jpeg" ContentType="image/jpeg"/>
  <Override PartName="/ppt/media/image4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3.jpeg" ContentType="image/jpeg"/>
  <Override PartName="/ppt/media/image20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AD%C3%81GIO.wav" ContentType="audio/x-wav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750C-BB14-4665-82A0-CFFBCD811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18C8-36F6-49DD-8C25-DF2E152D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82D0-A8FE-47BB-B717-3C33E7DE3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99AE-1E85-4A95-BBB3-E00A55237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8130-A33A-4C03-81D8-1C84A4D1A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EE11-410B-4B29-AE1F-B608781CD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CAFE-DD4F-4D26-9F3B-5BDC29443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D9CA-C3CA-484F-B6DE-69E7A1E5F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0088-F906-4C9E-900A-5E8C394C5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843F-6BF9-443B-B1E1-F714A53B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1D8A-E654-4CD4-9806-EE9CC4D8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E796-2C86-406E-8236-954285FA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D48AE-E814-4FAF-B264-066D596B3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AD&#193;GIO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84360" y="2924280"/>
            <a:ext cx="781020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25560">
                  <a:solidFill>
                    <a:srgbClr val="333333"/>
                  </a:solidFill>
                  <a:miter/>
                </a:ln>
                <a:solidFill>
                  <a:srgbClr val="969696"/>
                </a:solidFill>
                <a:latin typeface="Arial Black"/>
              </a:rPr>
              <a:t>ALÉM DA MORTE</a:t>
            </a:r>
            <a:endParaRPr b="0" lang="en-US" sz="6600" spc="1" strike="noStrike">
              <a:ln w="25560">
                <a:solidFill>
                  <a:srgbClr val="333333"/>
                </a:solidFill>
                <a:miter/>
              </a:ln>
              <a:solidFill>
                <a:srgbClr val="969696"/>
              </a:solidFill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708360" y="5516640"/>
            <a:ext cx="1728720" cy="115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195640" y="260280"/>
            <a:ext cx="6948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Medium"/>
              </a:rPr>
              <a:t>Em toda parte e sem cessar, amigos espirituais amparam todos os seus irmãos, refletindo a paternal Providência Divina.    Morrer, longe de ser o descansar nas mansões celestes ou expurgar sem remissão nas zonas infelizes, é, pura e simplesmente recomeçar a viv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0"/>
            <a:ext cx="8532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Medium"/>
              </a:rPr>
              <a:t>A morte a todos aguarda.                                          Preparar-se para tal acontecimento é tarefa inadiável. Apenas as almas esclarecidas e experimentadas na batalha redentora serão capazes de transpor a barreira do túmulo e caminhar em liberd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 rot="20940600">
            <a:off x="6940080" y="6165360"/>
            <a:ext cx="2016360" cy="287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26028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Medium"/>
              </a:rPr>
              <a:t>A reencarnação é uma bendita oportunidade de evolução.                                  A matéria em que nos encontramos imersos, por hora, é abençoado campo de luta e de aprimoramento pessoal.                         Cada dia que dispomos na carne é nova chance de recomeç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900000" y="260280"/>
            <a:ext cx="7417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Medium"/>
              </a:rPr>
              <a:t>Tal benefício deve ser aproveitado para       aquisição dos verdadeiros valores                    que resistem à própria morte.                          Na contabilidade Divina a soma de ações     nobres anula a coletânea                   equivalente de atos indign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979640" y="4869000"/>
            <a:ext cx="691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Medium"/>
              </a:rPr>
              <a:t>Todo amor dedicado ao próximo,                               em serviço educativo à humanidade,                          é degrau de ascensã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582560" y="4203720"/>
            <a:ext cx="7561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Franklin Gothic Medium"/>
              </a:rPr>
              <a:t>Quando o véu da morte fechar os nossos olhos nesta existência, continuaremos vivendo em outro plano e em condições diversas.         Estaremos, no entanto, imbuídos dos mesmos defeitos e das mesmas qualidades que nos movimentavam antes do transe da mor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189000"/>
            <a:ext cx="7705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Medium"/>
              </a:rPr>
              <a:t>A adaptação a essa nova realidade dependerá da forma como nos tivermos preparado para ela. Semeamos a partir de hoje a colheitas de venturas, ou de desdita, do amanhã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50920" y="2421000"/>
            <a:ext cx="4019400" cy="4208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308720" y="5157720"/>
            <a:ext cx="870120" cy="8604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6948360" y="6021360"/>
            <a:ext cx="165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969696"/>
                  </a:solidFill>
                  <a:miter/>
                </a:ln>
                <a:solidFill>
                  <a:srgbClr val="00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Direitos Autorais</a:t>
            </a:r>
            <a:endParaRPr b="0" lang="en-US" sz="1200" spc="1" strike="noStrike">
              <a:ln w="9360">
                <a:solidFill>
                  <a:srgbClr val="969696"/>
                </a:solidFill>
                <a:miter/>
              </a:ln>
              <a:solidFill>
                <a:srgbClr val="00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732720" y="6308640"/>
            <a:ext cx="20811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Roberto Rodrigues Neto</a:t>
            </a:r>
            <a:endParaRPr b="0" lang="en-US" sz="1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7020000" y="6638760"/>
            <a:ext cx="149544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2 de março de 2011</a:t>
            </a:r>
            <a:endParaRPr b="0" lang="en-US" sz="1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" name=""/>
          <p:cNvSpPr/>
          <p:nvPr/>
        </p:nvSpPr>
        <p:spPr>
          <a:xfrm>
            <a:off x="3240000" y="476280"/>
            <a:ext cx="590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Medium"/>
              </a:rPr>
              <a:t>Mensagem psicografada por           Divaldo Pereira Franco                         Pelo Espírito de Otília Gonçal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284720" y="3141720"/>
            <a:ext cx="3381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FORMATAÇÃO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716360" y="3789360"/>
            <a:ext cx="23716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Roberto Rodrigues Neto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268360" y="333360"/>
            <a:ext cx="6407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ea00"/>
                </a:solidFill>
                <a:latin typeface="Franklin Gothic Medium"/>
              </a:rPr>
              <a:t>Cumprida mais uma jornada na Terra, seguem os espíritos para a Pátria Espiritual, conduzindo a bagagem dos feitos acumulados em suas existênci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-531720"/>
            <a:ext cx="9144000" cy="7993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765000"/>
            <a:ext cx="8893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Medium"/>
              </a:rPr>
              <a:t>Aportam no plano espiritual,                                                       nem anjos, nem demônios. São homens,                               almas em aprendizagem despojadas da carne.               São os mesmos homens que eram antes da mor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50920" y="260280"/>
            <a:ext cx="8066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Medium"/>
              </a:rPr>
              <a:t>A desencarnação não lhes modifica                    hábitos nem costumes.                                          Não lhes outorga títulos, nem conquistas.                  Não lhes retira méritos, nem realizaçõ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50920" y="3860640"/>
            <a:ext cx="7273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Medium"/>
              </a:rPr>
              <a:t>Cada um se apresenta após a morte                                 como sempre viveu.                                            Não ocorre nenhum milagre de transformação para aqueles que atinge o grande porto.      Raros são aqueles que despertam com               a consciência livre, após a inevitável travessia.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4005360"/>
            <a:ext cx="7812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Medium"/>
              </a:rPr>
              <a:t>A grande maioria, vinculada de forma intensa               às sensações da matéria, demora-se, infeliz,        ignorando a nova realidade.                                   Muitos agem como turistas confusos em visita           a grande cidade, buscando incessantemente endereços que não conseguem localiz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4437000"/>
            <a:ext cx="716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Medium"/>
              </a:rPr>
              <a:t>Sentem a alma visitada por aflições e           remorsos, receios e ansiedades.                                Se refletissem um pouco perceberiam que            a vida prossegue sem grandes modificaçõ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189000"/>
            <a:ext cx="8317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Medium"/>
              </a:rPr>
              <a:t>Os escravos do prazer prosseguem inquietos.          Os servos do ódio demoram-se em aflição.               Os companheiros da ilusão permanecem enganados. Os aficionados da mentira dementam-se                   sob imagens desordenadas.                                         Os amigos da ignorância continuam perturb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3860640"/>
            <a:ext cx="7380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Medium"/>
              </a:rPr>
              <a:t>Além disso, a maior parte dos seres não                      é capaz de perceber o apoio dispensado                     pelos Espíritos Superiores.                                       Sim, porque mesmo os seres mais infelizes           e voltados ao mal não são esquecidos ou abandonados pelo auxílio Divi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3T11:54:54Z</dcterms:created>
  <dc:creator>Roberto</dc:creator>
  <dc:description/>
  <dc:language>en-US</dc:language>
  <cp:lastModifiedBy>Roberto</cp:lastModifiedBy>
  <dcterms:modified xsi:type="dcterms:W3CDTF">2011-03-23T16:38:43Z</dcterms:modified>
  <cp:revision>3</cp:revision>
  <dc:subject/>
  <dc:title>Slide 1</dc:title>
</cp:coreProperties>
</file>