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Jim%20Brickman%20-%20Angel%20Eyes.cut16.wav" ContentType="audio/x-wav"/>
  <Override PartName="/ppt/media/image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ED9-A7FE-4889-8805-CE980F42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17AA-F103-4531-AB1F-9E373EC9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0B2-85CD-4FC7-BA83-9B1F5390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CC8-543F-4EF4-9E00-899A9BDB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992-26BA-4381-9E5A-CD0F28F2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0D0-CBF4-4635-8AAC-1E879448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46E-F77D-4AC6-B17B-583689AD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BD30-EB24-4E7D-B5D0-8D79B261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5E83-B360-4995-910A-020DDE6D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593-EBFF-4188-8B5E-11C98CA0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F49-B3BC-4B0B-AB62-228D88F0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C25-C7D8-4497-BA29-F4E809E0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A4C2-B825-4E08-BF90-1C7A4EE3504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im%20Brickman%20-%20Angel%20Eyes.cut16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eticiathompson.com/minhas_mensagens_em_pps.htm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81080" y="685800"/>
            <a:ext cx="48769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00"/>
                  </a:outerShdw>
                </a:effectLst>
                <a:latin typeface="Book Antiqua"/>
              </a:rPr>
              <a:t>Renascer</a:t>
            </a:r>
            <a:endParaRPr b="1" i="1" lang="en-US" sz="96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898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62320" y="4876920"/>
            <a:ext cx="40384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00"/>
                  </a:outerShdw>
                </a:effectLst>
                <a:latin typeface="Book Antiqua"/>
              </a:rPr>
              <a:t>Letícia Thompson</a:t>
            </a:r>
            <a:endParaRPr b="1" i="1" lang="en-US" sz="40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898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Bar dir="vert"/>
    <p:sndAc>
      <p:stSnd>
        <p:snd r:embed="rId2" name="Jim%20Brickman%20-%20Angel%20Eyes.cut16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762120"/>
            <a:ext cx="7162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</a:rPr>
              <a:t>E se hoje eu fizesse um convite para nascer de novo? E se fosse hoje o dia de recomeçar uma nova vida? Não pense que você está velho demais, vivido demais, que é tarde demais. Velho não é quem tem muita idade, mas quem pensa velho, quem não quer mudar, quem se acomoda. Quem pensa que nasceu assim e vai morrer assim. podemos ser velhos com pouca idade, com a alma enrug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9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6000"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8200"/>
                            </p:stCondLst>
                            <p:childTnLst>
                              <p:par>
                                <p:cTn id="2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609480"/>
            <a:ext cx="7467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Às vezes é necessário se despir da velha carcaça e vestir roupa nova. Se dar novas oportunidades. Uma nova chance. Isso pode ser tremendamente dolorido. Porém é um alívio imenso quando conseguimos! Carregamos durante tantos anos nossos conceitos, idéias e preconceitos, que isso se molda ao nosso corpo. E quando precisamos nos liberar, é impossível que uma parte da gente não saia junto, é impossível não doer e não sangr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9000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7300"/>
                            </p:stCondLst>
                            <p:childTnLst>
                              <p:par>
                                <p:cTn id="3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30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762120"/>
            <a:ext cx="7086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Jesus disse que deveríamos nascer de novo. Mas Ele não acrescentou que seria fácil. Nascer de novo não quer dizer voltar a ser pequeno, mas voltar a ter a humildade e simplicidade de uma criança para se ter mais fé, mais confiança, mais coragem. É voltar a acreditar no que o mundo acabou nos roubando com tanto material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2500"/>
                            </p:stCondLst>
                            <p:childTnLst>
                              <p:par>
                                <p:cTn id="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762120"/>
            <a:ext cx="784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Nascer de novo quer dizer recomeçar, reaprender a andar, vacilante, talvez, no início, mas cada vez mais firme e seguro até que nossas pernas suportem nosso corpo e nos dêem equilíbrio. É cair e se levantar cada vez com paciência e perseverança. Nascer de novo quer dizer "se dar uma nova chance." Dar-se um presente a si mesmo. Tentar, pelo menos uma vez na vida, ser realmente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6000"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7300"/>
                            </p:stCondLst>
                            <p:childTnLst>
                              <p:par>
                                <p:cTn id="6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60360"/>
            <a:ext cx="7772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Tudo isso não é utopia, é uma realidade. Mas uma realidade para aqueles que acreditam. "Eu posso, porque a bíblia diz que eu posso." Jesus nunca mentiu. Se Ele disse: "necessário vos é nascer de novo" é porque não só é necessário, mas possível. É possível sermos pessoas melhores. Não sozinhos, mas nunca estamos sozinhos se temos Deus ao nosso lado. Então, hoje, quando o dia amanhecer, amanheça com ele. E quando o sol se pôr, se ponha com ele. Renasça cada dia um pouquinho m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4000">
    <p:randomBar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400"/>
                            </p:stCondLst>
                            <p:childTnLst>
                              <p:par>
                                <p:cTn id="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380880"/>
            <a:ext cx="754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Libere-se do que te faz mal e aproveite mais das coisas que te dão felicidade. Seja jovem no seu coração e vista uma roupa nova. Olhe-se no espelho. Se todo mundo decidisse mudar, o mundo mudaria também. Comece fazendo a sua parte. Quando as pessoas notarem coisas positivas acontecendo na sua vida, vão sentir vontade de mudar também. E quem sabe não será você o primeiro elo de uma grande corrente que vai tornar a humanidade mais feliz? Que seu dia seja lindo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900"/>
                            </p:stCondLst>
                            <p:childTnLst>
                              <p:par>
                                <p:cTn id="8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cc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80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Jim Brickman - Angel 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152388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895480"/>
            <a:ext cx="723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cc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cc00"/>
                </a:solidFill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3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13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800"/>
                            </p:stCondLst>
                            <p:childTnLst>
                              <p:par>
                                <p:cTn id="12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07:00:20Z</dcterms:created>
  <dc:creator>ssoliver@terra.com.br </dc:creator>
  <dc:description>Texto: Letícia Thompson</dc:description>
  <dc:language>en-US</dc:language>
  <cp:lastModifiedBy>Leticia Thompson</cp:lastModifiedBy>
  <dcterms:modified xsi:type="dcterms:W3CDTF">2004-10-28T17:40:28Z</dcterms:modified>
  <cp:revision>5</cp:revision>
  <dc:subject>PPS</dc:subject>
  <dc:title>Renascer</dc:title>
</cp:coreProperties>
</file>