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yanni%20-%20in%20the%20morning%20light%20178%201.3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85D-4C87-4D1B-B762-7845D8B4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564-509C-4D38-8C30-A4B67050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20A-1FE3-4048-B950-09CFADA9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FB8-3B17-4A3F-B0FE-15D03106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433-EBBA-47EF-8674-79648194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8A7-ADBE-4DB1-BB00-F4586C18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71E-7274-4789-9B13-BFF68D88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277-3D97-4B5D-B48E-7DFD5013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821-6808-416F-8F9E-DBA7E6A3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4A2-D3BB-43CF-BB77-E49C24CE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015-FD89-42BA-9B00-4F6017AC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A68-CF54-4491-88E4-BE99F08B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A9A2-6F45-4E55-9ECE-37EA9DC4750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yanni%20-%20in%20the%20morning%20light%20178%201.3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40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43280" y="76104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Corbel"/>
              </a:rPr>
              <a:t>SER ESPÍR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2" name="yanni%20-%20in%20the%20morning%20light%20178%201.3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47800" y="837360"/>
            <a:ext cx="505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Corbel"/>
              </a:rPr>
              <a:t>Com as bênçãos de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Corbel"/>
              </a:rPr>
              <a:t>nosso M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3338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9626" t="0" r="16990" b="0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rcRect l="0" t="0" r="-16" b="0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52920" y="3283200"/>
            <a:ext cx="598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rbel"/>
              </a:rPr>
              <a:t>Do Livro "Aprendendo a lidar com as crises"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rbel"/>
              </a:rPr>
              <a:t>Wanderley Perei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49160" y="934920"/>
            <a:ext cx="65206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Dedico esta apresentação a todos os meus ami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e companheiros de ide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A todos da CASA ESPÍRITA CAMINHO DA L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E especialmente a minha querida mãe, que já parti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para outro plano. Na certeza de que ela está s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a proteção do nosso mestre Jes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86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93432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80840" y="5562720"/>
            <a:ext cx="78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Formatação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3200" spc="-1" strike="noStrike">
                <a:solidFill>
                  <a:srgbClr val="000000"/>
                </a:solidFill>
                <a:latin typeface="Edwardian Script ITC"/>
              </a:rPr>
              <a:t>Viviane Andrade Alves Zen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53360" cy="6869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353360" cy="6869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532440"/>
            <a:ext cx="63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  <a:ea typeface="MS PGothic"/>
              </a:rPr>
              <a:t>Ser espírita não é ser nenhum religioso; é ser crist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6002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ão é ostentar uma crença; é vivenciar a fé sincer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2590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ão é ter uma religião especial;  é deter uma grave responsabilida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38862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ão é superar o próximo; é superar a si mesm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4280" y="5105520"/>
            <a:ext cx="54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ão é construir templos de pedra; é transform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 coração em templo e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64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610480" cy="686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9520" y="456120"/>
            <a:ext cx="681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espírita não é apenas aceitar a reencarn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é compreendê-la como manifestação da Justiça Div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e caminho natural para a perfeição.</a:t>
            </a:r>
            <a:r>
              <a:rPr b="0" i="1" lang="pt-BR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1160" y="5104440"/>
            <a:ext cx="68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Não é só comunicar-se com os Espíritos, porque to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indistintamente se comunicam, mesmo sem o saber; 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comunicar-se com os bons Espíritos para se melhorar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ajudar os outros a se melhorarem també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48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90800" y="716400"/>
            <a:ext cx="738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espírita não é apenas consumir as obras espíri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para obter conhecimento e cultura; é transformar os livr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uas mensagens, em lições vivas para a própria mudanç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53400" y="5561640"/>
            <a:ext cx="61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sem vivenciar é o mesmo que dizer sem fa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57240"/>
            <a:ext cx="7696080" cy="6811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46080"/>
            <a:ext cx="7696080" cy="6811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30840" y="548280"/>
            <a:ext cx="648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espírita não é internar-se no Centro Espíri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fugindo do mundo para não ser tentado; é convi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com todas as situações lá fora, sem alterar-se co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espírita, como crist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1120" y="4266000"/>
            <a:ext cx="752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O espírita consciente é espírita no templo, em cas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na rua, no trânsito, na fila, ao telefone, sozinho ou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meio da multidão, na alegria e na dor, na saúde e na doenç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9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90720" y="-19080"/>
            <a:ext cx="7162560" cy="6896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7162560" cy="6896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43560" y="792720"/>
            <a:ext cx="506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espírita não é ser diferente; é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exatamente igual a todos, porque to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ão iguais perante Deus.</a:t>
            </a:r>
            <a:r>
              <a:rPr b="0" i="1" lang="pt-BR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57560" y="4510440"/>
            <a:ext cx="62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Não é mostrar-se que é bom; é provar a si própr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que se esforça para ser bom, porque ser bom de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um estado normal do homem consc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Anormal é não ser b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86240" y="714240"/>
            <a:ext cx="693216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espírita não é curar ninguém; é contribuir  para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alguém trabalhe a sua própria c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Não é tornar o doente um dependente dos supos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poderes dos outros; é ensinar-lhe a confiar nos pode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de Deus e nos seus próprios poderes que estão 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ua vontade sincera e perseve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-33480"/>
            <a:ext cx="8076960" cy="689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-33480"/>
            <a:ext cx="8076960" cy="689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44000" y="912600"/>
            <a:ext cx="6922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espírita não é consolar-se em recebe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é confortar-se em dar, porque pelas le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naturais da vida, "é mais bem aventur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dar do que receber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Não é esperar que Deus desça até onde nós estam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é subir ao encontro de Deus, elevando-se moralmente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esforçando-se para melhorar semp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1040" y="0"/>
            <a:ext cx="56419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56419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84600" y="4388760"/>
            <a:ext cx="40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</a:rPr>
              <a:t>Isto é ser espíri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6T02:25:02Z</dcterms:created>
  <dc:creator>Daniel Sapia</dc:creator>
  <dc:description>Desarrollado por el equipo de Apologética Cristiana - "Conoceréis la Verdad". Visítanos...!
http://geocities.com/conocereislaverdad</dc:description>
  <dc:language>en-US</dc:language>
  <cp:lastModifiedBy>Arryson</cp:lastModifiedBy>
  <dcterms:modified xsi:type="dcterms:W3CDTF">2010-05-12T14:57:11Z</dcterms:modified>
  <cp:revision>51</cp:revision>
  <dc:subject>http://geocities.com/conocereislaverdad</dc:subject>
  <dc:title>Dios dice...</dc:title>
</cp:coreProperties>
</file>