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2200" y="-36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4640" y="753840"/>
            <a:ext cx="482940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008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2200" y="928008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CC76-BF29-4514-9917-9323E911D21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4481-A328-470C-A267-929CF7BCC2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27F3-E844-4C8E-8293-F71F531604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35BD-BDE6-4BF2-96D0-EA17CB737D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6C7-8C94-4514-B0EF-C9839611AB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8D4-17F9-44DB-8CFA-0A61FFC53A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A21A-B2D0-4500-A79A-F8C0EC5163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AA52-9730-4CC2-B773-583611454F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E40-AE3F-48F1-A6A3-C7309B369F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06A8-0189-4E34-ADD0-A857AFC8E0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A0F-23E7-4DB9-AB6B-9AF133F7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099-9560-48C0-A27E-CA1835D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B25-19F0-44B6-AADA-72BD97B7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4BE-E795-4B78-8797-0EADCCF8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9D6-D9FE-4C9A-BDC0-D5923B7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4EA-267E-4192-979B-24E00023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38E-5ED7-4056-AD21-3EEE940A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AF2-1055-404F-8124-093214D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8BD-ABB1-4878-9970-89B4B661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3A2-51A9-4FA6-92BF-2B686C17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2B6-182F-447B-ACF7-4F63880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79F-3371-4F40-B978-EB26532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43C3-A853-4467-8FC4-311EDE73BB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900000" y="1523880"/>
            <a:ext cx="1919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3" descr=""/>
          <p:cNvPicPr/>
          <p:nvPr/>
        </p:nvPicPr>
        <p:blipFill>
          <a:blip r:embed="rId1"/>
          <a:stretch/>
        </p:blipFill>
        <p:spPr>
          <a:xfrm>
            <a:off x="34920" y="88920"/>
            <a:ext cx="3174840" cy="6616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6"/>
          <p:cNvSpPr/>
          <p:nvPr/>
        </p:nvSpPr>
        <p:spPr>
          <a:xfrm>
            <a:off x="2743200" y="838080"/>
            <a:ext cx="57913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IMPORT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POR FAVOR PRESTE ATEN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971800" y="454176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sto é muito importante e pode salvar a vida de uma pesso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8" descr=""/>
          <p:cNvPicPr/>
          <p:nvPr/>
        </p:nvPicPr>
        <p:blipFill>
          <a:blip r:embed="rId2"/>
          <a:stretch/>
        </p:blipFill>
        <p:spPr>
          <a:xfrm>
            <a:off x="-609480" y="3124080"/>
            <a:ext cx="2919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4"/>
          <p:cNvSpPr/>
          <p:nvPr/>
        </p:nvSpPr>
        <p:spPr>
          <a:xfrm>
            <a:off x="2286000" y="304920"/>
            <a:ext cx="646272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va em casa e havia acabado de acordar as 05:30 hrs da manh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dia garantir que estava bem, pois tinha me  alimentado corretamente no dia anterior e dormido bas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evantai normalmente as 06:00hrs, fiz alongamentos, imediatamente um pouco atordoado para tomar banho, para trabalhar e tentando desfrutar daquele belo dia 29-06-2010 – terça fei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go, estranhamente estava tonto, não conseguia mais ter firmeza, equilíbrio físico e vocal, caí. Voltei a deitar e pedi que me furasse os dedos e me levassem com brevidade ao hospital. Havia sofrido um AVC (Acidente Vascular Cerebral) ironicamente ao acord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eu não soubesse reconhecer um AVC -  meu próprio AVC, que ironia - talvez hoje estivesse morto ou paraplé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4"/>
          <p:cNvSpPr/>
          <p:nvPr/>
        </p:nvSpPr>
        <p:spPr>
          <a:xfrm>
            <a:off x="2286000" y="304920"/>
            <a:ext cx="64627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a agulha pode salvar a vida de um paciente com principios de derrame..., garantido por um médico chinês e dito por uma professora chin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sso ser uma prova viv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uarde uma seringa ou uma agulha para fazer isto - é um método inconvencional para recuperar alguém de um derrame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um derrame estiver a ocorrer fique calmo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emente de onde a vitima estiver, não a mova do lugar. Quando o derrame acontece, as veias capilares no cérebro vão-se gradualmente rompendo. Se a pessoa for movida os capilares vão se rom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tiver na sua casa uma seringa, melhor. Se não tiver, pode usar uma agulha de costura ou um alfine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4"/>
          <p:cNvSpPr/>
          <p:nvPr/>
        </p:nvSpPr>
        <p:spPr>
          <a:xfrm>
            <a:off x="2286000" y="304920"/>
            <a:ext cx="646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Esterilize, no fogo ou com álcool ou anti-séptico a agulha ou alfinete e depois dê uma furada em todos os dedos das mãos do paciente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ão há pontos específicos nos dedos para a  acupuntura, mas pode picar 1 milímetro perto da unh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. Pique até o sangue começar sair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o sangue não começar a sair, então aperte com os dedo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. Quando todos os dedos começarem a sangrar, espere alguns minutos e depois puxe as orelhas do paciente até ficarem vermelha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. Pique cada um dos lóbulos das orelhas até começar a sair uma gota de sangue de cada lóbulo. Depois de alguns minutos a pessoa começará a recuperar os senti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4"/>
          <p:cNvSpPr/>
          <p:nvPr/>
        </p:nvSpPr>
        <p:spPr>
          <a:xfrm>
            <a:off x="2286000" y="304920"/>
            <a:ext cx="6462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pere até que recupere o estado normal e leve-o para o hospit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for levado às pressas para o hospital, a viagem turbulenta vai fazer com que os vasos capilares no cérebro se rompam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'Eu aprendi a tirar gotas de sangue para salvar vidas através de um médico de medicina tradicional chinesa. Ele chama-se Ha Bu Ting. Mais tarde tive experiência prática sobre o assunto e posso dizer que este método é 100% eficaz pois, aconteceu comigo.  Meu nome é Marcelo P Barbos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87280" y="609480"/>
            <a:ext cx="77281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Lembre-se também dos "3" Passos. Leia e apren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Actualmente os médicos estabeleceram uma regra para reconhecê-lo mediante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três simples pergunta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1. Peça que a pessoa SOR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2. Peça que a pessoa LEVANTE AMBOS OS BRAÇ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3. Peça que a pessoa PRONUNCIE UMA FRASE SIMPLES (Coeren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                  </a:t>
            </a: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(por exemplo . . . Hoje está um dia ensolarado)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Se ele ou ela apresentar dificuldades numa destas três questões, chame imediatamente o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SOCORRO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descreva os sintom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050920" y="1773360"/>
            <a:ext cx="6458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Arial"/>
              </a:rPr>
              <a:t>Reconhecer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neurologista afirma que se o chamarem dentro das  primeiras 3 horas, os efeitos de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vertidos totalmente. Afirma que é crucial diagnosticá-lo e prestar assistência ao paciente nas três horas subseq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209680" y="822240"/>
            <a:ext cx="64659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Depois de descobrir que um grupo de voluntários que não são médicos podem identificar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facial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motora dos braço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na fala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os investigadores apelam ao público em geral para que aprenda estas três perguntas. Uma maior divulgação deste teste pode facilitar um rápido diagnóstico e tratamento do AVC e evitar danos cerebr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aab5e"/>
                </a:solidFill>
                <a:latin typeface="Arial"/>
                <a:ea typeface="Arial"/>
              </a:rPr>
              <a:t>Um neurologista disse que se cada um de nós reenviar este e-mail a 10 pessoas, pelo menos uma vida, como a minha, pode ser sal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1"/>
          <p:cNvSpPr/>
          <p:nvPr/>
        </p:nvSpPr>
        <p:spPr>
          <a:xfrm>
            <a:off x="2209680" y="161460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SEJA AM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E COMPARTILHE ESTE ART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COM O MÁXIMO DE AMIGOS POSSÍV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poderá salvar vidas. Não é sp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8:34:24Z</dcterms:created>
  <dc:creator>RAC</dc:creator>
  <dc:description/>
  <dc:language>en-US</dc:language>
  <cp:lastModifiedBy>Marcelo</cp:lastModifiedBy>
  <cp:lastPrinted>2003-11-24T14:08:10Z</cp:lastPrinted>
  <dcterms:modified xsi:type="dcterms:W3CDTF">2010-07-12T20:56:55Z</dcterms:modified>
  <cp:revision>287</cp:revision>
  <dc:subject/>
  <dc:title>IMPORTANTE</dc:title>
</cp:coreProperties>
</file>