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2200" y="-360"/>
            <a:ext cx="2900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4640" y="753840"/>
            <a:ext cx="4829400" cy="362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0080"/>
            <a:ext cx="29797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2200" y="9280080"/>
            <a:ext cx="2900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A6BA-C5C4-4A7E-BCC2-4E4852BAC9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6218-92FF-4FC9-8F03-89D50DEDE6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3044-DB7A-449A-A725-0DC3D734D8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4741-DE5F-4336-9F75-202AE50F01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F42B-C486-4EB5-916C-F9AA5DBCD1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578E-152F-44D6-94D6-DB19E41B08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6B79-741B-4399-A252-3B17F36C00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D23A-F2A5-4A44-B8AF-94132ACC8D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6E36-5BF5-477C-96E0-DAE5B980D9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9523-41FB-4912-85AE-A06D0482C6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9D3-F2AD-48D4-848A-0A9C191A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29A-0653-4EEA-90FB-2A1A0990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687-0E94-4730-B3ED-675B230C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8BC-44B1-4224-A515-80BC2401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AB6-F357-4C16-8B09-093F8298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9C1-92EE-4BF2-842B-279AACF8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31A-F3B4-47EF-B4A5-1400101B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8A3-899F-45C2-AD9B-47D654F8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D36-DB8E-4AD0-8622-32C5BF80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B4E-789E-48F8-83AE-225BCBF6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CBF-FD3D-434D-89B4-6744201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747-66C9-476C-A10E-A195E695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EFCE-6044-46D9-96E8-1E7E6A4C9DD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0"/>
          <p:cNvSpPr/>
          <p:nvPr/>
        </p:nvSpPr>
        <p:spPr>
          <a:xfrm>
            <a:off x="900000" y="1523880"/>
            <a:ext cx="1919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3" descr=""/>
          <p:cNvPicPr/>
          <p:nvPr/>
        </p:nvPicPr>
        <p:blipFill>
          <a:blip r:embed="rId1"/>
          <a:stretch/>
        </p:blipFill>
        <p:spPr>
          <a:xfrm>
            <a:off x="34920" y="88920"/>
            <a:ext cx="3174840" cy="6616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6"/>
          <p:cNvSpPr/>
          <p:nvPr/>
        </p:nvSpPr>
        <p:spPr>
          <a:xfrm>
            <a:off x="2743200" y="838080"/>
            <a:ext cx="57913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80"/>
                </a:solidFill>
                <a:latin typeface="Arial"/>
                <a:ea typeface="Arial"/>
              </a:rPr>
              <a:t>IMPORT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80"/>
                </a:solidFill>
                <a:latin typeface="Arial"/>
                <a:ea typeface="Arial"/>
              </a:rPr>
              <a:t>POR FAVOR PRESTE ATEN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971800" y="454176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sto é muito importante e pode salvar a vida de uma pessoa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8" descr=""/>
          <p:cNvPicPr/>
          <p:nvPr/>
        </p:nvPicPr>
        <p:blipFill>
          <a:blip r:embed="rId2"/>
          <a:stretch/>
        </p:blipFill>
        <p:spPr>
          <a:xfrm>
            <a:off x="-609480" y="3124080"/>
            <a:ext cx="29196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4"/>
          <p:cNvSpPr/>
          <p:nvPr/>
        </p:nvSpPr>
        <p:spPr>
          <a:xfrm>
            <a:off x="2286000" y="304920"/>
            <a:ext cx="646272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ava em casa e havia acabado de acordar as 05:30 hrs da manhã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u podia garantir que estava bem, pois tinha me  alimentado corretamente no dia anterior e dormido bast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evantai normalmente as 06:00hrs, fiz alongamentos, imediatamente um pouco atordoado para tomar banho, para trabalhar e tentando desfrutar daquele belo dia 29-06-2010 – terça fei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ogo, estranhamente estava tonto, não conseguia mais ter firmeza, equilíbrio físico e vocal, caí. Voltei a deitar e pedi que me furasse os dedos e me levassem com brevidade ao hospital. Havia sofrido um AVC (Acidente Vascular Cerebral) ironicamente ao acord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eu não soubesse reconhecer um AVC -  meu próprio AVC, que ironia - talvez hoje estivesse morto ou paraplég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4"/>
          <p:cNvSpPr/>
          <p:nvPr/>
        </p:nvSpPr>
        <p:spPr>
          <a:xfrm>
            <a:off x="2286000" y="304920"/>
            <a:ext cx="64627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a agulha pode salvar a vida de um paciente com principios de derrame..., garantido por um médico chinês e dito por uma professora chin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u posso ser uma prova viva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Guarde uma seringa ou uma agulha para fazer isto - é um método inconvencional para recuperar alguém de um derrame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Quando um derrame estiver a ocorrer fique calmo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dependentemente de onde a vitima estiver, não a mova do lugar. Quando o derrame acontece, as veias capilares no cérebro vão-se gradualmente rompendo. Se a pessoa for movida os capilares vão se rom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tiver na sua casa uma seringa, melhor. Se não tiver, pode usar uma agulha de costura ou um alfine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4"/>
          <p:cNvSpPr/>
          <p:nvPr/>
        </p:nvSpPr>
        <p:spPr>
          <a:xfrm>
            <a:off x="2286000" y="304920"/>
            <a:ext cx="6462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. Esterilize, no fogo ou com álcool ou anti-séptico a agulha ou alfinete e depois dê uma furada em todos os dedos das mãos do paciente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ão há pontos específicos nos dedos para a  acupuntura, mas pode picar 1 milímetro perto da unha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. Pique até o sangue começar sair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o sangue não começar a sair, então aperte com os dedos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3. Quando todos os dedos começarem a sangrar, espere alguns minutos e depois puxe as orelhas do paciente até ficarem vermelhas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. Pique cada um dos lóbulos das orelhas até começar a sair uma gota de sangue de cada lóbulo. Depois de alguns minutos a pessoa começará a recuperar os senti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4"/>
          <p:cNvSpPr/>
          <p:nvPr/>
        </p:nvSpPr>
        <p:spPr>
          <a:xfrm>
            <a:off x="2286000" y="304920"/>
            <a:ext cx="6462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pere até que recupere o estado normal e leve-o para o hospita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for levado às pressas para o hospital, a viagem turbulenta vai fazer com que os vasos capilares no cérebro se rompam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'Eu aprendi a tirar gotas de sangue para salvar vidas através de um médico de medicina tradicional chinesa. Ele chama-se Ha Bu Ting. Mais tarde tive experiência prática sobre o assunto e posso dizer que este método é 100% eficaz pois, aconteceu comigo.  Meu nome é Marcelo P Barbos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187280" y="609480"/>
            <a:ext cx="772812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Lembre-se também dos "3" Passos. Leia e apren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Actualmente os médicos estabeleceram uma regra para reconhecê-lo mediante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três simples perguntas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1. Peça que a pessoa SOR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2. Peça que a pessoa LEVANTE AMBOS OS BRAÇ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3. Peça que a pessoa PRONUNCIE UMA FRASE SIMPLES (Coeren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                  </a:t>
            </a: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(por exemplo . . . Hoje está um dia ensolarado)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Se ele ou ela apresentar dificuldades numa destas três questões, chame imediatamente o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SOCORRO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 e descreva os sintom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2050920" y="1773360"/>
            <a:ext cx="64580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Arial"/>
              </a:rPr>
              <a:t>Reconhecer u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V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 neurologista afirma que se o chamarem dentro das  primeiras 3 horas, os efeitos de u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V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vertidos totalmente. Afirma que é crucial diagnosticá-lo e prestar assistência ao paciente nas três horas subseq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2209680" y="822240"/>
            <a:ext cx="64659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Depois de descobrir que um grupo de voluntários que não são médicos podem identificar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facial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,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motora dos braços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 e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na fala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, os investigadores apelam ao público em geral para que aprenda estas três perguntas. Uma maior divulgação deste teste pode facilitar um rápido diagnóstico e tratamento do AVC e evitar danos cerebr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aab5e"/>
                </a:solidFill>
                <a:latin typeface="Arial"/>
                <a:ea typeface="Arial"/>
              </a:rPr>
              <a:t>Um neurologista disse que se cada um de nós reenviar este e-mail a 10 pessoas, pelo menos uma vida, como a minha, pode ser sal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1"/>
          <p:cNvSpPr/>
          <p:nvPr/>
        </p:nvSpPr>
        <p:spPr>
          <a:xfrm>
            <a:off x="2209680" y="1614600"/>
            <a:ext cx="6400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SEJA AMI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E COMPARTILHE ESTE ARTI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COM O MÁXIMO DE AMIGOS POSSÍV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poderá salvar vidas. Não é sp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8:34:24Z</dcterms:created>
  <dc:creator>RAC</dc:creator>
  <dc:description/>
  <dc:language>en-US</dc:language>
  <cp:lastModifiedBy>Marcelo</cp:lastModifiedBy>
  <cp:lastPrinted>2003-11-24T14:08:10Z</cp:lastPrinted>
  <dcterms:modified xsi:type="dcterms:W3CDTF">2010-07-12T20:56:55Z</dcterms:modified>
  <cp:revision>287</cp:revision>
  <dc:subject/>
  <dc:title>IMPORTANTE</dc:title>
</cp:coreProperties>
</file>