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Ernesto%20Cortazar%20III%20-%20La%20Vie%20en%20Ros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6B7-5550-4D65-9672-B3990A74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44E-D983-43E6-8036-6951DB5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C25-11D1-47D0-8607-68BFC9A3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DD1-B927-4D7F-A23E-52C63828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A3E-AD4D-499E-971A-B2C4A56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054-0261-40C9-9631-B653D7FF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E49-67DC-431E-8990-CAFAD051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3ED-3018-4CFE-8726-53AAB4DE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CB7-587A-45D7-99B4-54C7C2E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5EA-D26C-4211-9BAC-378B508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085-904A-498E-989A-24E9DBB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5D2-51F9-4454-B9CE-8176FC9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8294-13DB-4022-9E58-E500573B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Ernesto%20Cortazar%20III%20-%20La%20Vie%20en%20Rose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solidFill>
            <a:srgbClr val="80808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49360"/>
            <a:ext cx="7704000" cy="5878440"/>
          </a:xfrm>
          <a:prstGeom prst="bevel">
            <a:avLst>
              <a:gd name="adj" fmla="val 2245"/>
            </a:avLst>
          </a:prstGeom>
          <a:blipFill rotWithShape="0">
            <a:blip r:embed="rId1">
              <a:alphaModFix amt="91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068640"/>
            <a:ext cx="50292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u um Autor Desconheci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5229360"/>
            <a:ext cx="25239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Letícia Thomps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1125360"/>
            <a:ext cx="5400720" cy="3550680"/>
          </a:xfrm>
          <a:prstGeom prst="rect">
            <a:avLst/>
          </a:prstGeom>
          <a:noFill/>
          <a:ln cap="rnd" w="3816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Autoria do 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Imagens: Gett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Formatação do PPS 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Música: La Vie en Rose/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Abril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160360" cy="70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19640" y="522936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5229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084640"/>
            <a:ext cx="54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Site da autora: </a:t>
            </a:r>
            <a:r>
              <a:rPr b="0" lang="pt-BR" sz="1400" spc="-1" strike="noStrike" u="sng">
                <a:solidFill>
                  <a:srgbClr val="cc0066"/>
                </a:solidFill>
                <a:uFillTx/>
                <a:latin typeface="Tahoma"/>
                <a:hlinkClick r:id="rId2"/>
              </a:rPr>
              <a:t>http://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653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u um autor desconhecido sim, quando nas manhãs onde todos dormem, estou aqui, colocando meus pensamentos em palavras, expondo minhas dores e minhas vivências muitas vezes como ferida ainda ab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934080" cy="3591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33332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Monotype Corsiva"/>
              </a:rPr>
              <a:t>Sou um autor desconhecido quando acordo no meio da noite com uma idéia e corro pra anotar para que amanhã isso não fique esque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67280" cy="28101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9608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Monotype Corsiva"/>
              </a:rPr>
              <a:t>Sou ainda um autor desconhecido quando passeio por blogs e sites e reconheço minhas palavras, meus sentimentos e posso dizer o que senti no exato momento em que aquele meu filho foi gerado e veio ao mundo, mas não me v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295800" cy="3133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solidFill>
            <a:srgbClr val="0000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40183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2400"/>
                </a:solidFill>
                <a:latin typeface="Monotype Corsiva"/>
              </a:rPr>
              <a:t>Sou um autor desconhecido quando choro sozinha, quando preciso brigar pra dizer que é meu o que não teria nascido se não fosse eu, porque as palavras não nascem do nada e cada texto, cada poema é coisa ú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3933720" cy="31338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258200" y="4653000"/>
            <a:ext cx="63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Sou autor desconhecido quando acham que o que escrevi é tão bonito que uma simples mortal não teria escrito e então atribuem a autoria a alguém que todos já conhe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3933720" cy="3352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803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041"/>
                </a:solidFill>
                <a:latin typeface="Monotype Corsiva"/>
              </a:rPr>
              <a:t>Sou autor desconhecido quando meus filhos se perdem de mim, quando são "adotados" por pessoas que gostariam de tê-los g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629160" cy="35910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5084640"/>
            <a:ext cx="576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409920" cy="3781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73" name=""/>
          <p:cNvSpPr/>
          <p:nvPr/>
        </p:nvSpPr>
        <p:spPr>
          <a:xfrm flipH="1">
            <a:off x="1331280" y="4941720"/>
            <a:ext cx="63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u ainda, autor desconhecido quando, cansada, baixo os braços e me pergunto se vale a pena lutar se de qualquer maneira amanhã tudo recom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409608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Mas... desconhecida ou reconhecida, não desisto. Meus pedaços de mim espalhados por aí são e sempre serão pedaços de mim, que eu reconheço, que quem me conhece, reconhece, que eu abrigo e que ninguém pode tirar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934080" cy="34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33:39Z</dcterms:created>
  <dc:creator>Mara Lúcia Sarmento Didonet</dc:creator>
  <dc:description>Texto de Letícia Thompson</dc:description>
  <dc:language>en-US</dc:language>
  <cp:lastModifiedBy>particular</cp:lastModifiedBy>
  <dcterms:modified xsi:type="dcterms:W3CDTF">2006-04-04T00:02:11Z</dcterms:modified>
  <cp:revision>24</cp:revision>
  <dc:subject/>
  <dc:title>Sou um Ator Desconhecido</dc:title>
</cp:coreProperties>
</file>