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Ernesto%20Cortazar%20III%20-%20La%20Vie%20en%20Ros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539-5248-4557-9DAB-40EBEEB7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49F-0546-4224-95BA-E75CB05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F25-0EE9-4EBD-8826-0008D546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D87-E0FF-4D41-9270-0FD5DEDD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0E6-13C6-4E2A-BB32-1F26B3FB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070-6D37-4EC7-81F1-B905AF5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03B-70ED-48FA-87CB-4CE56AB1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3EA-2A94-48FA-9D69-D0C658AB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F96-91F6-4BFC-968E-293ADC9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D91-C839-47D1-8B7B-32A57692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7DE-8505-422C-BFD8-0FEB6859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C69-27CE-477A-8F57-03B0180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E44-4092-45D6-9E0A-CA9F4ABD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Ernesto%20Cortazar%20III%20-%20La%20Vie%20en%20Rose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solidFill>
            <a:srgbClr val="80808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49360"/>
            <a:ext cx="7704000" cy="5878440"/>
          </a:xfrm>
          <a:prstGeom prst="bevel">
            <a:avLst>
              <a:gd name="adj" fmla="val 2245"/>
            </a:avLst>
          </a:prstGeom>
          <a:blipFill rotWithShape="0">
            <a:blip r:embed="rId1">
              <a:alphaModFix amt="91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3068640"/>
            <a:ext cx="50292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u um Autor Desconheci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8360" y="5229360"/>
            <a:ext cx="252396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Black"/>
              </a:rPr>
              <a:t>Letícia Thomps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1125360"/>
            <a:ext cx="5400720" cy="3550680"/>
          </a:xfrm>
          <a:prstGeom prst="rect">
            <a:avLst/>
          </a:prstGeom>
          <a:noFill/>
          <a:ln cap="rnd" w="38160">
            <a:solidFill>
              <a:srgbClr val="cc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Créd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Autoria do Texto: Letícia Thomp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Imagens: Gett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Formatação do PPS : Mara Lú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Música: La Vie en Rose/Ernesto Corta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Abril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160360" cy="70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19640" y="522936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5229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084640"/>
            <a:ext cx="540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66"/>
                </a:solidFill>
                <a:latin typeface="Tahoma"/>
              </a:rPr>
              <a:t>Site da autora: </a:t>
            </a:r>
            <a:r>
              <a:rPr b="0" lang="pt-BR" sz="1400" spc="-1" strike="noStrike" u="sng">
                <a:solidFill>
                  <a:srgbClr val="cc0066"/>
                </a:solidFill>
                <a:uFillTx/>
                <a:latin typeface="Tahoma"/>
                <a:hlinkClick r:id="rId2"/>
              </a:rPr>
              <a:t>http://www.leticiathompso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653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Sou um autor desconhecido sim, quando nas manhãs onde todos dormem, estou aqui, colocando meus pensamentos em palavras, expondo minhas dores e minhas vivências muitas vezes como ferida ainda ab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3934080" cy="3591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33332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Monotype Corsiva"/>
              </a:rPr>
              <a:t>Sou um autor desconhecido quando acordo no meio da noite com uma idéia e corro pra anotar para que amanhã isso não fique esque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67280" cy="281016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96080"/>
            <a:ext cx="68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Monotype Corsiva"/>
              </a:rPr>
              <a:t>Sou ainda um autor desconhecido quando passeio por blogs e sites e reconheço minhas palavras, meus sentimentos e posso dizer o que senti no exato momento em que aquele meu filho foi gerado e veio ao mundo, mas não me v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3295800" cy="3133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solidFill>
            <a:srgbClr val="000000">
              <a:alpha val="2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40183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2400"/>
                </a:solidFill>
                <a:latin typeface="Monotype Corsiva"/>
              </a:rPr>
              <a:t>Sou um autor desconhecido quando choro sozinha, quando preciso brigar pra dizer que é meu o que não teria nascido se não fosse eu, porque as palavras não nascem do nada e cada texto, cada poema é coisa ú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3933720" cy="31338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258200" y="4653000"/>
            <a:ext cx="63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Sou autor desconhecido quando acham que o que escrevi é tão bonito que uma simples mortal não teria escrito e então atribuem a autoria a alguém que todos já conhe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3933720" cy="3352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8034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0041"/>
                </a:solidFill>
                <a:latin typeface="Monotype Corsiva"/>
              </a:rPr>
              <a:t>Sou autor desconhecido quando meus filhos se perdem de mim, quando são "adotados" por pessoas que gostariam de tê-los g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629160" cy="359100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5084640"/>
            <a:ext cx="576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43280" y="836640"/>
            <a:ext cx="3409920" cy="3781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73" name=""/>
          <p:cNvSpPr/>
          <p:nvPr/>
        </p:nvSpPr>
        <p:spPr>
          <a:xfrm flipH="1">
            <a:off x="1331280" y="4941720"/>
            <a:ext cx="63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Sou ainda, autor desconhecido quando, cansada, baixo os braços e me pergunto se vale a pena lutar se de qualquer maneira amanhã tudo recom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24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5b5b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76280"/>
            <a:ext cx="7704000" cy="5878440"/>
          </a:xfrm>
          <a:prstGeom prst="bevel">
            <a:avLst>
              <a:gd name="adj" fmla="val 2245"/>
            </a:avLst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409608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Mas... desconhecida ou reconhecida, não desisto. Meus pedaços de mim espalhados por aí são e sempre serão pedaços de mim, que eu reconheço, que quem me conhece, reconhece, que eu abrigo e que ninguém pode tirar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934080" cy="345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33:39Z</dcterms:created>
  <dc:creator>Mara Lúcia Sarmento Didonet</dc:creator>
  <dc:description>Texto de Letícia Thompson</dc:description>
  <dc:language>en-US</dc:language>
  <cp:lastModifiedBy>particular</cp:lastModifiedBy>
  <dcterms:modified xsi:type="dcterms:W3CDTF">2006-04-04T00:02:11Z</dcterms:modified>
  <cp:revision>24</cp:revision>
  <dc:subject/>
  <dc:title>Sou um Ator Desconhecido</dc:title>
</cp:coreProperties>
</file>