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s_aparencias_enganam_elis_trecholoop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A87-2701-4626-9887-9F03DF74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B11-1D27-4DD9-929B-B7AE20F3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F26-5F6A-4E76-B664-BCA79B12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721-4EF0-44DE-92D2-28CCBD86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A43-E68B-4F3C-BF12-1A4C8072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A12-B316-4C7C-B3FD-0E507AEF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F67-492A-419F-B035-D59FE8F0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B62-4A5E-4B3F-813C-53CAFB17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3BB-0745-483C-85C7-1E182E5C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120-3189-48BA-86E7-7838802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A10-8878-4A47-9290-5CDB31B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049-3C9D-4DF0-AF8D-B105DB8C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0009-DCFA-401C-8674-07A9C7D62D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s_aparencias_enganam_elis_trecholoop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4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nde Morre O Amor...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287360"/>
            <a:ext cx="6019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á frutas maduras, bonitas por fora, vermelhas, douradas e cheias de aroma... Algumas, no entanto, têm bicho no centro; não vão aos mercados, nem chegam às mesas: Morreram por dentro! Seu brilho de fora apenas ilude as crianças e os tolos. O Amor é, na terra, uma fruta, uma fruta celeste; possui belas formas, aromas e cores.</a:t>
            </a:r>
            <a:r>
              <a:rPr b="1" i="1" lang="en-US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  <p:sndAc>
      <p:stSnd>
        <p:snd r:embed="rId2" name="as_aparencias_enganam_elis_trecholoop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8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2209680"/>
            <a:ext cx="5181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 Amor é uma fruta no arbusto da vida, doçura vermelha no peito da gente.  Mas... Dura verdade que dói e entristece! Também como as frutas douradas, vermelhas, é sempre no centro, bem fundo, lá dentro, que o Amor das pessoas começa a morr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2480" y="1676520"/>
            <a:ext cx="502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ão é na folhagem já murcha dos anos, nos parcos cabelos, nas cãs da velhice, nos olhos cansados, nos trôpegos passos... Ah, não, meus amigos, não é em nada disso que morre um afeto e sucumbe a ternura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121932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 Amor, quando morre, é de dentro para  fora, igual às goiabas! É sempre lá dentro, no fundo das almas, nas veias profundas, no centro da vida, no cerne da gente, onde a seiva borbulha! É aí que morreram já tantos amores, que, um dia, enfeitaram pomares humanos, quais frutas maduras, vermelhas, dourada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4419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a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3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cc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22860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lis Regina - As Aparências Engan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5238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74320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cc99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419720"/>
            <a:ext cx="6933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cc99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25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25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8:45:47Z</dcterms:created>
  <dc:creator>ssoliver@terra.com.br </dc:creator>
  <dc:description/>
  <dc:language>en-US</dc:language>
  <cp:lastModifiedBy>Leticia Thompson</cp:lastModifiedBy>
  <dcterms:modified xsi:type="dcterms:W3CDTF">2004-11-03T06:31:08Z</dcterms:modified>
  <cp:revision>5</cp:revision>
  <dc:subject/>
  <dc:title>onde morre o amor pps</dc:title>
</cp:coreProperties>
</file>