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s_aparencias_enganam_elis_trecholoop.wav" ContentType="audio/x-wav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B9F-2FA2-458C-AE15-C9598B14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969-AFD2-409C-B8FC-3F9759FB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ABA-2221-4DA3-B287-DFD5AE83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BC0D-4301-4B02-8289-C48011FF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AD0-9957-422E-8588-081E40CB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343E-9CD7-495A-A622-DB47454D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DE4-7CC3-4D54-A900-B3930FC5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610-76E6-44DE-999C-E911CFA1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110D-E543-4875-B0B1-D5F28BDF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496D-E252-4E08-A7D6-BE882768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784-639B-4285-A192-93EBDBE5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B992-7FF0-4E2A-988F-571D3E7D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D22D-752D-4C1F-9156-AAD4D81A760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s_aparencias_enganam_elis_trecholoop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http://www.leticiathompson.net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0920" y="457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nde Morre O Amor...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1287360"/>
            <a:ext cx="6019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Há frutas maduras, bonitas por fora, vermelhas, douradas e cheias de aroma... Algumas, no entanto, têm bicho no centro; não vão aos mercados, nem chegam às mesas: Morreram por dentro! Seu brilho de fora apenas ilude as crianças e os tolos. O Amor é, na terra, uma fruta, uma fruta celeste; possui belas formas, aromas e cores.</a:t>
            </a:r>
            <a:r>
              <a:rPr b="1" i="1" lang="en-US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1000">
    <p:randomBar dir="vert"/>
    <p:sndAc>
      <p:stSnd>
        <p:snd r:embed="rId2" name="as_aparencias_enganam_elis_trecholoop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8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5120" y="2209680"/>
            <a:ext cx="5181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 Amor é uma fruta no arbusto da vida, doçura vermelha no peito da gente.  Mas... Dura verdade que dói e entristece! Também como as frutas douradas, vermelhas, é sempre no centro, bem fundo, lá dentro, que o Amor das pessoas começa a morr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1000">
    <p:randomBar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52480" y="1676520"/>
            <a:ext cx="502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Não é na folhagem já murcha dos anos, nos parcos cabelos, nas cãs da velhice, nos olhos cansados, nos trôpegos passos... Ah, não, meus amigos, não é em nada disso que morre um afeto e sucumbe a ternura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1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19320" y="1219320"/>
            <a:ext cx="7010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 Amor, quando morre, é de dentro para  fora, igual às goiabas! É sempre lá dentro, no fundo das almas, nas veias profundas, no centro da vida, no cerne da gente, onde a seiva borbulha! É aí que morreram já tantos amores, que, um dia, enfeitaram pomares humanos, quais frutas maduras, vermelhas, douradas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44197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a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1000">
    <p:randomBa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13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cc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3880" y="22860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lis Regina - As Aparências Engan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52388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743200"/>
            <a:ext cx="70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cc99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419720"/>
            <a:ext cx="6933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cc99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1000">
    <p:randomBar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7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725"/>
                            </p:stCondLst>
                            <p:childTnLst>
                              <p:par>
                                <p:cTn id="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25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08:45:47Z</dcterms:created>
  <dc:creator>ssoliver@terra.com.br </dc:creator>
  <dc:description/>
  <dc:language>en-US</dc:language>
  <cp:lastModifiedBy>Leticia Thompson</cp:lastModifiedBy>
  <dcterms:modified xsi:type="dcterms:W3CDTF">2004-11-03T06:31:08Z</dcterms:modified>
  <cp:revision>5</cp:revision>
  <dc:subject/>
  <dc:title>onde morre o amor pps</dc:title>
</cp:coreProperties>
</file>