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j_quest-so_hoje%201.31%20cut.wav" ContentType="audio/x-wav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34E2-90B5-4297-8FDB-BE6604BC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B38F-645A-45EE-90D6-7804B458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44CB-94FD-405B-BE24-09152E34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C944-4564-4409-9977-E9841CF0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B7DD-7974-4021-B603-ECD7FE62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7094-EA85-4A03-8B95-3DF66C72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5EB-5546-4E82-9989-AE4B27A0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293E-9130-4886-B643-404D15C1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47DF-E615-4617-B1C2-469D9EA8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1855-C804-4913-B343-A172D2B2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93A8-F26C-4E02-B2F4-4DEDF9CF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35A-BB96-4E08-8465-58CE3A15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57E9-4FC4-45FC-812D-ABDEA75CE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j_quest-so_hoje%201.31%20cu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leticiathompson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olitaria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06668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De repente , deu vontade de um abraço... </a:t>
            </a:r>
            <a:br>
              <a:rPr sz="2400"/>
            </a:b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Uma vontade de entrelaço, de proximidade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De amizade, sei lá ! </a:t>
            </a:r>
            <a:br>
              <a:rPr sz="2400"/>
            </a:b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Talvez um aconchego amigo e meigo, que enfatize a vida e amenize as dores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que fale sobre os amores, seja afetuoso e ao mesmo tempo fort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randomBar dir="vert"/>
    <p:sndAc>
      <p:stSnd>
        <p:snd r:embed="rId2" name="j_quest-so_hoje%201.31%20cu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menina%20e%20cachorro%20olhando%20para%20lua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609480"/>
            <a:ext cx="7619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Deu vontade, de poder ter saudade de um abraço. </a:t>
            </a:r>
            <a:br>
              <a:rPr sz="2400"/>
            </a:b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Um abraço que eternize o tempo e preench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todo o espaç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Mas que faça lembrar do carinho, que surge devagarzinho, na magia da união dos corp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das auras, sei lá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Lembrar do calor das mãos, acariciando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costas, a dizerem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66ff66"/>
              </a:buClr>
              <a:buFont typeface="Copperplate Gothic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Estou aqui ! </a:t>
            </a:r>
            <a:br>
              <a:rPr sz="2400"/>
            </a:b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Lembrar do enlaçar dos braços, envolv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e seguros, afirman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66ff66"/>
              </a:buClr>
              <a:buFont typeface="Copperplate Gothic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Estou com você 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japonesa%20sentada%20olhando%20as%20estrelas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685800"/>
            <a:ext cx="769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Lembrar da transfusão de força, ou até da suavidade do momento, sei l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Então, pensei em como chamar esse abraço: abraço poesia, abraço força, abraço união, abraço suavidade, abraço consolo e compreensão, abraço segurança e justiça, abraço verdade, abraço cumplicidad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Mas o que importa é a magia desse abraço, a fusão de energias que harmoniza, integra o todo e se traduz no cosmos, no tempo e no espaço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onho%20mulher%20fotoshop%20com%20bolas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3000" y="838080"/>
            <a:ext cx="7026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Só sei que agora , deu vontade desse abraço : </a:t>
            </a:r>
            <a:br>
              <a:rPr sz="2400"/>
            </a:b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Um abraço que desate os nós, transformando-os em envolventes laços ...</a:t>
            </a:r>
            <a:br>
              <a:rPr sz="2400"/>
            </a:b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Que sirva de "colo", afastando toda e qualquer angústia...</a:t>
            </a:r>
            <a:br>
              <a:rPr sz="2400"/>
            </a:b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Que desperte a lágrima de alegria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acalme o coração...</a:t>
            </a:r>
            <a:br>
              <a:rPr sz="2400"/>
            </a:b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Um abraço que traduza a amizad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o amor e a emo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_am_sam001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137160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E para um abraço assim, só consegui pens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em você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Nessa sua energia, nessa sua sensibilidad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que sabe entender o porque dessa minh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vontade. Pois então: </a:t>
            </a:r>
            <a:br>
              <a:rPr sz="2400"/>
            </a:b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- Dá logo esse abraço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a480"/>
                </a:solidFill>
                <a:latin typeface="Bookman Old Style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571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</a:rPr>
              <a:t>(Desconheço a auto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braço..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95480" y="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Times New Roman"/>
              </a:rPr>
              <a:t>J Quest – Só ho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15238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89548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b2b2b2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800600"/>
            <a:ext cx="8458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2b2b2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leticiathompson.net</a:t>
            </a:r>
            <a:r>
              <a:rPr b="0" lang="pt-BR" sz="36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08:49:05Z</dcterms:created>
  <dc:creator>ssoliver@terra.com.br </dc:creator>
  <dc:description/>
  <dc:language>en-US</dc:language>
  <cp:lastModifiedBy>Sérgio S. Oliver</cp:lastModifiedBy>
  <dcterms:modified xsi:type="dcterms:W3CDTF">2004-11-17T01:11:12Z</dcterms:modified>
  <cp:revision>14</cp:revision>
  <dc:subject>PPS</dc:subject>
  <dc:title>Abraço</dc:title>
</cp:coreProperties>
</file>