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j_quest-so_hoje%201.31%20cut.wav" ContentType="audio/x-wav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95EB-3475-490F-934D-8F627EFD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8399-BFEF-48CA-B92E-E66C2BD7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073-BB8A-4ADE-B493-82D8F2F0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0E6-D571-4A45-94F0-6288D91C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5D2-BD1E-4E0F-B207-75FA2550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2E3B-A410-4960-AF96-F3CB65A1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6DF-6B55-4802-821E-7BDA7AEF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9A0-E98C-4050-A5ED-2B674F43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CFF5-8EA4-4CFD-A17F-8B96D326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114-DBB3-47D4-B047-837C73AF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36B-4CD6-4BF2-B143-F58DC7EE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9CA5-8907-4995-BBDC-5128826A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21F2-3CEF-41B5-A664-F7B95C487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j_quest-so_hoje%201.31%20cu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litaria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06668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De repente , deu vontade de um abraço... 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Uma vontade de entrelaço, de proximidade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De amizade, sei lá ! 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Talvez um aconchego amigo e meigo, que enfatize a vida e amenize as dores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que fale sobre os amores, seja afetuoso e ao mesmo tempo fort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randomBar dir="vert"/>
    <p:sndAc>
      <p:stSnd>
        <p:snd r:embed="rId2" name="j_quest-so_hoje%201.31%20cu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menina%20e%20cachorro%20olhando%20para%20lua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609480"/>
            <a:ext cx="7619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Deu vontade, de poder ter saudade de um abraço. 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Um abraço que eternize o tempo e preench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todo o espaç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Mas que faça lembrar do carinho, que surge devagarzinho, na magia da união dos corp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das auras, sei lá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Lembrar do calor das mãos, acariciando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costas, a dizerem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66ff66"/>
              </a:buClr>
              <a:buFont typeface="Copperplate Gothic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Estou aqui ! 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Lembrar do enlaçar dos braços, envolv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e seguros, afirma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66ff66"/>
              </a:buClr>
              <a:buFont typeface="Copperplate Gothic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Estou com você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japonesa%20sentada%20olhando%20as%20estrelas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68580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Lembrar da transfusão de força, ou até da suavidade do momento, sei l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Então, pensei em como chamar esse abraço: abraço poesia, abraço força, abraço união, abraço suavidade, abraço consolo e compreensão, abraço segurança e justiça, abraço verdade, abraço cumplicidad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Mas o que importa é a magia desse abraço, a fusão de energias que harmoniza, integra o todo e se traduz no cosmos, no tempo e no espaço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onho%20mulher%20fotoshop%20com%20bolas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838080"/>
            <a:ext cx="7026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Só sei que agora , deu vontade desse abraço : 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Um abraço que desate os nós, transformando-os em envolventes laços ...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Que sirva de "colo", afastando toda e qualquer angústia...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Que desperte a lágrima de alegria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acalme o coração...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Um abraço que traduza a amizad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o amor e a emo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_am_sam001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137160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E para um abraço assim, só consegui pens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em você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Nessa sua energia, nessa sua sensibilidad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que sabe entender o porque dessa minh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vontade. Pois então: 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- Dá logo esse abraço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a480"/>
                </a:solidFill>
                <a:latin typeface="Bookman Old Style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571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</a:rPr>
              <a:t>(Desconheço a aut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braço..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95480" y="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2b2b2"/>
                </a:solidFill>
                <a:latin typeface="Times New Roman"/>
              </a:rPr>
              <a:t>J Quest – Só ho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15238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8954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b2b2b2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800600"/>
            <a:ext cx="8458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2b2b2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leticiathompson.net</a:t>
            </a:r>
            <a:r>
              <a:rPr b="0" lang="pt-BR" sz="36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08:49:05Z</dcterms:created>
  <dc:creator>ssoliver@terra.com.br </dc:creator>
  <dc:description/>
  <dc:language>en-US</dc:language>
  <cp:lastModifiedBy>Sérgio S. Oliver</cp:lastModifiedBy>
  <dcterms:modified xsi:type="dcterms:W3CDTF">2004-11-17T01:11:12Z</dcterms:modified>
  <cp:revision>14</cp:revision>
  <dc:subject>PPS</dc:subject>
  <dc:title>Abraço</dc:title>
</cp:coreProperties>
</file>