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Andre%20Gagnon%20-%20As%20time%20goes%20by.wav" ContentType="audio/x-wav"/>
  <Override PartName="/ppt/media/image25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E78-5555-414D-80E4-38086670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CC8-1FF8-4ACB-91F8-A927F29F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C0E-DDC5-43E4-B616-30E3A3CE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39D-CC40-4FF9-BCD9-57990CEA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934-61AC-4B73-8AF0-2A3FC81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3B4-FA62-428F-8FA2-02AFFE6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FF1-F9CB-4414-BC0A-A0A5EF5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533-E8F4-4924-93BC-748E49E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8F4-01D2-4CDB-99CD-EF5EE75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DCD-D2FC-4CCF-8FD9-4131C595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041-806B-44E0-83D0-3E72C94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F73-1147-4ABC-936B-D42ACE41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1AE-DA65-45D5-9B72-74902D1D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Gagnon%20-%20As%20time%20goes%20b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Andre%20Gagnon%20-%20As%20time%20goes%20b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DF2001D1-1E76-4494-8467-C57D94E04531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CBC62C89-9C04-46A2-8F70-3C39DA239F7F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1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liente</cp:lastModifiedBy>
  <dcterms:modified xsi:type="dcterms:W3CDTF">2010-03-22T12:45:56Z</dcterms:modified>
  <cp:revision>26</cp:revision>
  <dc:subject/>
  <dc:title>Um homem insuperável</dc:title>
</cp:coreProperties>
</file>