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Andre%20Gagnon%20-%20As%20time%20goes%20by.wav" ContentType="audio/x-wav"/>
  <Override PartName="/ppt/media/image25.jpeg" ContentType="image/jpeg"/>
  <Override PartName="/ppt/media/image2.jpeg" ContentType="image/jpeg"/>
  <Override PartName="/ppt/media/image32.wmf" ContentType="image/x-wmf"/>
  <Override PartName="/ppt/media/image33.jpeg" ContentType="image/jpeg"/>
  <Override PartName="/ppt/media/image43.wmf" ContentType="image/x-wmf"/>
  <Override PartName="/ppt/media/image11.jpeg" ContentType="image/jpeg"/>
  <Override PartName="/ppt/media/image9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29.wmf" ContentType="image/x-wmf"/>
  <Override PartName="/ppt/media/image31.png" ContentType="image/png"/>
  <Override PartName="/ppt/media/image37.wmf" ContentType="image/x-wmf"/>
  <Override PartName="/ppt/media/image30.jpeg" ContentType="image/jpe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36.png" ContentType="image/png"/>
  <Override PartName="/ppt/media/image10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E2A-925C-46A8-87CD-9B1B8CBD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D89-29D6-4C4B-8004-E749CB6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445-1A79-4764-9D92-50CC3D7A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F65-DCFD-4010-A676-C22EFB45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F51-E833-47C4-BF97-430F9A3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BB0-EC0E-48A9-AB99-04687777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B6-B770-4352-84C9-60DDC4B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347-64D4-453B-981C-660488D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B2B-C825-4EDD-96BA-B78B1C5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A26-5F44-4820-8F73-5F0CC3F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7F4-5374-4213-9A13-EEAA3BD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3F8-4F42-4141-96C7-D6926E3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9C3E-4509-4104-BB41-0A8E7BEE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%20Gagnon%20-%20As%20time%20goes%20b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3276720"/>
            <a:ext cx="777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M HOMEM INSUPERÁVEL!!! 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Andre%20Gagnon%20-%20As%20time%20goes%20b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0" y="6324480"/>
            <a:ext cx="1523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09680"/>
            <a:ext cx="6096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 vice-presidente do Hospital China Research Center em Beij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de este chinês de 39 anos tem sido tratado d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1905120"/>
            <a:ext cx="3810240" cy="31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0948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le é incrível é a única pessoa no mu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 sobreviver com tanto corpo amputa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371600"/>
            <a:ext cx="5238720" cy="4181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58280" y="609480"/>
            <a:ext cx="65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 teve um enxerto de pele do seu rosto para o seu tro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579096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49880" y="762120"/>
            <a:ext cx="74332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Os Médicos de Reabilitação do China Research Center em Peq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começaram então a pensar na possibilidade de fazê-lo andar no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715000"/>
            <a:ext cx="1752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76520" y="1803240"/>
            <a:ext cx="5943600" cy="397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8680" y="5562720"/>
            <a:ext cx="19051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822960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 criaram um invólucro como se fosso um o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apoiar o seu corpo com 2 pernas biônicas para ajudá-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5124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76520" y="990720"/>
            <a:ext cx="5867280" cy="480060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676520" y="1371600"/>
            <a:ext cx="5867280" cy="4419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9144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99"/>
                </a:solidFill>
                <a:latin typeface="Times New Roman"/>
              </a:rPr>
              <a:t>O aparelho é semelhante a um co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886200" cy="5429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53960" y="1523880"/>
            <a:ext cx="3115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nca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stiu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1447920"/>
            <a:ext cx="5181480" cy="4572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gora, este lutador está em pé novamen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05720" cy="6296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514332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609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egoe UI"/>
              </a:rPr>
              <a:t>Com a ajuda dos médicos,Peng está reaprendendo a and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1320" y="1600200"/>
            <a:ext cx="638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 você tem a mania de reclamar de tu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lamar da vi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o seu cabelo que esta crespo demais,ou liso dema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 sua relação amorosa que não esta dando cer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ue tem preguiça de caminhar até o mercado ou ponto de ôni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c,etc,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abia que VOCÊ É FELIZ, mas não sabe dar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 coisas que Deus lhe deu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ois bem,veja que diante deste fato que vou contar ag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M EXEMPLO DE SUP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 como os seus problemas ficam são pequenininh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s pena que no dia a dia você se esqueça diss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m que sempre ser lemb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ce que nada pode levá-lo para baixo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f1fc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8176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15000" y="5486400"/>
            <a:ext cx="1752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2252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62600" y="609480"/>
            <a:ext cx="624312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ece que nada deixa-o para bai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 sorriso diz tud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60"/>
            <a:ext cx="9140760" cy="684216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8960" y="281160"/>
            <a:ext cx="8506080" cy="6295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62320" y="838080"/>
            <a:ext cx="4178160" cy="555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677600" y="228600"/>
            <a:ext cx="56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le agora esta muito b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2280" y="152280"/>
            <a:ext cx="74012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 abriu seu próprio negócio 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upermarket Half Man Half-Store Pr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caee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380988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615240" y="3049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ai!!!! Do que você vai reclamar ag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Porque para mim tenho por certo que as aflições de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tempo presente não são para compar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com a glória que em nós há de ser re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Narrow"/>
              </a:rPr>
              <a:t>Romanos 8:18</a:t>
            </a:r>
            <a:r>
              <a:rPr b="0" lang="en-US" sz="2400" spc="-1" strike="noStrike">
                <a:solidFill>
                  <a:srgbClr val="ff33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362320"/>
            <a:ext cx="4267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maze"/>
              </a:rPr>
              <a:t>Créd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rmataçã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Cidinha  Gandolp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age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tiradas de vários sit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úsic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do Impossível_Toque no a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myinterestingfiles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maze"/>
              </a:rPr>
              <a:t>cidynha_jesusteama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maze"/>
              </a:rPr>
              <a:t>By Cidy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o Claro/S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0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304920"/>
            <a:ext cx="56386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oje é </a:t>
            </a:r>
            <a:fld id="{9B184C1B-B8DB-4E50-A117-C02F733D74F0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gora mesmo são </a:t>
            </a:r>
            <a:fld id="{8557A8C0-DF64-4706-8848-F34B70FB3B70}" type="datetime"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7/29/26</a:t>
            </a:fld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891d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45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353040" cy="518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12952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Você conhe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  <a:ea typeface="Times New Roman"/>
              </a:rPr>
              <a:t>Peng Shuil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56200" y="312408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cc"/>
                </a:solidFill>
                <a:latin typeface="Palatino Linotype"/>
              </a:rPr>
              <a:t>Não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3504960" cy="533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80a25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475240" cy="37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30640" y="304920"/>
            <a:ext cx="799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 1995 ele perdeu metade do seu co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o ser cortado próximo à altura da cintura por um caminhã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s médicos que o socorrer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havam que ele não sobreviveria,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m milagre de Deus fez com que ele sobrevives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920"/>
            <a:ext cx="8534160" cy="624204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362320"/>
            <a:ext cx="5486400" cy="3886200"/>
          </a:xfrm>
          <a:prstGeom prst="rect">
            <a:avLst/>
          </a:prstGeom>
          <a:noFill/>
          <a:ln w="101520">
            <a:solidFill>
              <a:srgbClr val="cc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66880"/>
            <a:ext cx="914400" cy="8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55344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762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Ele é  conhecido na China como “Half Ma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0440" y="55627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Homem-Met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867280" cy="485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6560" y="152280"/>
            <a:ext cx="827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amado por mais de dez 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amiliares e amigos tinham pouca esperança de que ele f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ver qualquer coisa parecida com vida normal outra ve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final, precisou da ajuda de vinte médicos para conseguir manter-se v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1676520"/>
            <a:ext cx="5867280" cy="4876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019920"/>
            <a:ext cx="3276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9436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533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m as pern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ulin ficou com apenas 78 cm de altu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7772400" cy="45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55600 w 9144000"/>
              <a:gd name="textAreaRight" fmla="*/ 8888400 w 9144000"/>
              <a:gd name="textAreaTop" fmla="*/ 255600 h 6858000"/>
              <a:gd name="textAreaBottom" fmla="*/ 660240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close/>
                <a:moveTo>
                  <a:pt x="805" y="805"/>
                </a:moveTo>
                <a:lnTo>
                  <a:pt x="805" y="20795"/>
                </a:lnTo>
                <a:lnTo>
                  <a:pt x="27995" y="20795"/>
                </a:lnTo>
                <a:lnTo>
                  <a:pt x="27995" y="80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362320"/>
            <a:ext cx="5105520" cy="358128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5791320"/>
            <a:ext cx="1523880" cy="75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286000"/>
            <a:ext cx="5257800" cy="373392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858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Mas, recentemente, começou a exercitar seus braços, para poder executar tarefas diári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Arial Unicode MS"/>
              </a:rPr>
              <a:t>como lavar seu rosto e escovar seus d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Sua recuperação tem surpreendido os cirurgiõ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depois dele ser submetido a uma série de oper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28:32Z</dcterms:created>
  <dc:creator>Cidinha Gandolpho</dc:creator>
  <dc:description/>
  <dc:language>en-US</dc:language>
  <cp:lastModifiedBy>Cliente</cp:lastModifiedBy>
  <dcterms:modified xsi:type="dcterms:W3CDTF">2010-03-22T12:45:56Z</dcterms:modified>
  <cp:revision>26</cp:revision>
  <dc:subject/>
  <dc:title>Um homem insuperável</dc:title>
</cp:coreProperties>
</file>